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B14-A061-4A40-9D5F-1219F5E3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B53-22E0-45A3-B940-0E0904D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AC9-362D-4E07-AA58-B2A0EA3B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542-9D10-47E3-B8DC-D38EFBAD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79B-CB38-4139-90BB-12C159F6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FCA-F075-421D-8506-47332F6F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A09-EF26-4547-BCA8-CDE571E5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189-2F3C-43E9-8D6C-4CE39DB7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943-4D75-4811-B832-B29E46DC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A62-CDD3-4925-96D4-B6F2FBC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D69-DA47-41C3-855A-AFFC8B85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7EB-C0C8-40C8-9990-E20B148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9AD-51E8-41AA-8101-86FD67BAF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s://zoolife.online/" TargetMode="External"/><Relationship Id="rId3" Type="http://schemas.openxmlformats.org/officeDocument/2006/relationships/hyperlink" Target="https://www.geocam.ru/" TargetMode="External"/><Relationship Id="rId4" Type="http://schemas.openxmlformats.org/officeDocument/2006/relationships/hyperlink" Target="https://lifehacker.ru/20-veb-kamer-zoopark" TargetMode="External"/><Relationship Id="rId5" Type="http://schemas.openxmlformats.org/officeDocument/2006/relationships/hyperlink" Target="https://www.louvre.fr/en/visites-en-ligne" TargetMode="External"/><Relationship Id="rId6" Type="http://schemas.openxmlformats.org/officeDocument/2006/relationships/hyperlink" Target="https://www.louvre.fr/" TargetMode="External"/><Relationship Id="rId7" Type="http://schemas.openxmlformats.org/officeDocument/2006/relationships/hyperlink" Target="https://www.russianfood.com/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s://kaksozdatsvojblog.com/" TargetMode="External"/><Relationship Id="rId3" Type="http://schemas.openxmlformats.org/officeDocument/2006/relationships/hyperlink" Target="https://accessmars.withgoogle.com/" TargetMode="External"/><Relationship Id="rId4" Type="http://schemas.openxmlformats.org/officeDocument/2006/relationships/hyperlink" Target="https://accessmars.withgoogle.com/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50;&#1086;&#1088;&#1086;&#1085;&#1072;&#1074;&#1080;&#1088;&#1091;&#1089;&#1099;" TargetMode="External"/><Relationship Id="rId3" Type="http://schemas.openxmlformats.org/officeDocument/2006/relationships/hyperlink" Target="https://ru.wikipedia.org/wiki/SARS-CoV-2" TargetMode="External"/><Relationship Id="rId4" Type="http://schemas.openxmlformats.org/officeDocument/2006/relationships/hyperlink" Target="https://ru.wikipedia.org/wiki/&#1054;&#1089;&#1090;&#1088;&#1072;&#1103;_&#1088;&#1077;&#1089;&#1087;&#1080;&#1088;&#1072;&#1090;&#1086;&#1088;&#1085;&#1072;&#1103;_&#1074;&#1080;&#1088;&#1091;&#1089;&#1085;&#1072;&#1103;_&#1080;&#1085;&#1092;&#1077;&#1082;&#1094;&#1080;&#1103;" TargetMode="External"/><Relationship Id="rId5" Type="http://schemas.openxmlformats.org/officeDocument/2006/relationships/hyperlink" Target="https://ru.wikipedia.org/wiki/&#1042;&#1080;&#1088;&#1091;&#1089;&#1085;&#1072;&#1103;_&#1087;&#1085;&#1077;&#1074;&#1084;&#1086;&#1085;&#1080;&#1103;" TargetMode="External"/><Relationship Id="rId6" Type="http://schemas.openxmlformats.org/officeDocument/2006/relationships/hyperlink" Target="https://ru.wikipedia.org/wiki/&#1054;&#1089;&#1090;&#1088;&#1099;&#1081;_&#1088;&#1077;&#1089;&#1087;&#1080;&#1088;&#1072;&#1090;&#1086;&#1088;&#1085;&#1099;&#1081;_&#1076;&#1080;&#1089;&#1090;&#1088;&#1077;&#1089;&#1089;-&#1089;&#1080;&#1085;&#1076;&#1088;&#1086;&#1084;" TargetMode="External"/><Relationship Id="rId7" Type="http://schemas.openxmlformats.org/officeDocument/2006/relationships/hyperlink" Target="https://ru.wikipedia.org/wiki/&#1044;&#1099;&#1093;&#1072;&#1090;&#1077;&#1083;&#1100;&#1085;&#1072;&#1103;_&#1085;&#1077;&#1076;&#1086;&#1089;&#1090;&#1072;&#1090;&#1086;&#1095;&#1085;&#1086;&#1089;&#1090;&#1100;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092240" y="655560"/>
            <a:ext cx="7273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Методические рекомендации родителям во время карантин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Коронавиру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 </a:t>
            </a:r>
            <a:r>
              <a:rPr b="0" lang="en-US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Covid-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777960" y="573120"/>
            <a:ext cx="77245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льзоваться общими полотенц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касаться голыми руками к дверным ручкам, перилам, другим предметам и поверхностям в общественных пространст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проветривать помещ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5049720" y="573120"/>
            <a:ext cx="3452760" cy="21114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3"/>
          <a:stretch/>
        </p:blipFill>
        <p:spPr>
          <a:xfrm>
            <a:off x="1305000" y="3443400"/>
            <a:ext cx="1969920" cy="1751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4"/>
          <a:stretch/>
        </p:blipFill>
        <p:spPr>
          <a:xfrm>
            <a:off x="5595840" y="4383000"/>
            <a:ext cx="266076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804960" y="682560"/>
            <a:ext cx="717840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Times New Roman"/>
                <a:ea typeface="Times New Roman"/>
              </a:rPr>
              <a:t>Не ходите дома в уличной одеж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Times New Roman"/>
                <a:ea typeface="Times New Roman"/>
              </a:rPr>
              <a:t>Не зовите гостей и не ходите в г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Times New Roman"/>
                <a:ea typeface="Times New Roman"/>
              </a:rPr>
              <a:t>Следите за влажностью помещ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Times New Roman"/>
                <a:ea typeface="Times New Roman"/>
              </a:rPr>
              <a:t>Пейте больше жидкости — обезвоживание приводит к сухости слизистых и снижает их защитную функ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2"/>
          <a:stretch/>
        </p:blipFill>
        <p:spPr>
          <a:xfrm>
            <a:off x="1932120" y="1878120"/>
            <a:ext cx="1357200" cy="13557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"/>
          <p:cNvPicPr/>
          <p:nvPr/>
        </p:nvPicPr>
        <p:blipFill>
          <a:blip r:embed="rId3"/>
          <a:stretch/>
        </p:blipFill>
        <p:spPr>
          <a:xfrm>
            <a:off x="5765760" y="576360"/>
            <a:ext cx="1303200" cy="1301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"/>
          <p:cNvPicPr/>
          <p:nvPr/>
        </p:nvPicPr>
        <p:blipFill>
          <a:blip r:embed="rId4"/>
          <a:stretch/>
        </p:blipFill>
        <p:spPr>
          <a:xfrm>
            <a:off x="5380200" y="2560680"/>
            <a:ext cx="1688760" cy="1392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"/>
          <p:cNvPicPr/>
          <p:nvPr/>
        </p:nvPicPr>
        <p:blipFill>
          <a:blip r:embed="rId5"/>
          <a:stretch/>
        </p:blipFill>
        <p:spPr>
          <a:xfrm>
            <a:off x="1932120" y="4745160"/>
            <a:ext cx="5260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1528920" y="655560"/>
            <a:ext cx="63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объяснить происходящее детя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433520" y="1301760"/>
            <a:ext cx="656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5742000" y="3343320"/>
            <a:ext cx="2660760" cy="2917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690480" y="1301760"/>
            <a:ext cx="551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и дети кажутся обеспокоенными, уточните, что именно они услышали, чтобы помочь им отделить правду от мифов. Расскажите о происходящем в соответствии с возрастом ребенка, будьте честными. Можно сказать, что болезнь началась в Китае, и что сейчас многие страны усердно работают для того, чтобы остановить распространение. Пусть дети знают, что болезнь похожа на сильную простуду, и о том, что они лично могут сделать для того, чтобы оставаться здоров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846000" y="5621400"/>
            <a:ext cx="479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zdorovyemalisha.r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uhono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792000" y="1233360"/>
            <a:ext cx="76568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. ОРГАНИЗУЙТЕ ОХОТУ ЗА СОКРОВИЩ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хота за сокровищами довольно проста и, в зависимости от количества вещей, может продлиться очень долгое время. Спрячь где-нибудь от 10 до 20 вещей в доме или комнате, чтобы занять ребенка на несколько ч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2. НАБЛЮДАЙТЕ ЗА ЖИВОТНЫМИ ЗООПАРКОВ МИ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Многие зоопарки и аквариумы предлагают людям возможность увидеть животных в режиме реального времени.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https://zoolife.online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3"/>
              </a:rPr>
              <a:t>https://www.geocam.ru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; 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4"/>
              </a:rPr>
              <a:t>https://lifehacker.ru/20-veb-kamer-zoopark</a:t>
            </a:r>
            <a:r>
              <a:rPr b="0" lang="ru-RU" sz="1800" spc="-1" strike="noStrike">
                <a:solidFill>
                  <a:srgbClr val="70809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3.ПОСЕТИТЕ ЦИФРОВОЙ ЛУВ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тправитесь всей семьёй в Париж, в цифровой тур по одному из самых известных международных музеев,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5"/>
              </a:rPr>
              <a:t>Лувр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6"/>
              </a:rPr>
              <a:t>https://www.louvre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4. ВЫПЕКАЙТЕ В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еченье, пирожные, пирожки. Что-нибудь! Выпечка – это отличное развлечение, которое сочетает в себе приятное с полезным – веселье, обучение и вкусняшки.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7"/>
              </a:rPr>
              <a:t>https://www.russianfood.com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955800" y="709560"/>
            <a:ext cx="75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м занять ребенка дома во время каран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771480" y="627120"/>
            <a:ext cx="76010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5. ДОМАШНИЙ ТЕАТР ИЛИ МУЛЬТФИЛЬ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усть твой ребенок использует старую одежду или костюмы, чтобы разыграть пьесу или свою любимую сказку. Дети постарше могут снять это представление и использовать все свои технические навыки, чтобы превратить его в сказочный фильм на память и выложить его в интернет. Подробнее</a:t>
            </a:r>
            <a:r>
              <a:rPr b="0" lang="en-US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https://kaksozdatsvojblog.com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6. ИСПОЛЬЗУЙТЕ БЕСПЛАТНЫЕ ОБРАЗОВАТЕЛЬНЫЕ САЙ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Многие сайты предлагают бесплатные подписки во время закрытия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7. ПОСЕТИТЕ МАР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сследуйте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 Марса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с помощью цифровой камеры.</a:t>
            </a:r>
            <a:r>
              <a:rPr b="0" lang="en-US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3"/>
              </a:rPr>
              <a:t>https://accessmars.withgoogle.com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, посетите музей космонавтики 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4"/>
              </a:rPr>
              <a:t>https://accessmars.withgoogle.com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, планетарий </a:t>
            </a:r>
            <a:r>
              <a:rPr b="0" lang="en-US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www.planetarium-moscow.ru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8. НАСТОЛЬНЫЕ ИГ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Эрудит, монополия, морской бой, шашки, шахматы, пазлы, лото, домино и т.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804960" y="587520"/>
            <a:ext cx="761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9. СПОЙТЕ КАРАО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мотрите на youtube анимационные ролики со словами и мелодиями популярных детских песен и детских стиш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804960" y="1596960"/>
            <a:ext cx="7615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0. СОЗДАЙТЕ ГЕНЕАЛОГИЧЕСКОЕ ДРЕ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ети, изучающие историю своей семьи через генеалогическое древо, лучше понимают кто они и почему они выглядят и ведут себя так, как их пред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1. СОЗДАЙТЕ СВОИМИ РУ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- это не только весело, но и полезно, так как развивает координацию глаз, математические рассуждения, пространственные навыки, мелкую моторику и умственную концентрацию. Поделки из ниток, шерсти или бумаги разными техник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2. ПРОЙДИТЕ ОНЛАЙН-УРОКИ ТАН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Танцуйте, пока никто не смотри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3. ПРАКТИКУЙТЕ ДРУГО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лушайте аудиокниги или смотрите любимые мультфильмы на другом язы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941400" y="763560"/>
            <a:ext cx="747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819000" y="573120"/>
            <a:ext cx="76010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Open Sans"/>
              </a:rPr>
              <a:t>14. ПОСЕТИТЕ ОНЛАЙН ТЕАТРЫ, ЦИР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HTTPS://KIDS.TEATR-LIVE.RU/2020/03/DETSKIE-SPEKTAKLI-ONLAJN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HTTPS://WWW.OSD.RU/MUSEUM.ASP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Open Sans"/>
              </a:rPr>
              <a:t>15. ПОСЕТИТЕ МУЗЕИ РОСС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HTTPS://WWW.OSD.RU/MUSEUM.ASP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HTTPS://WWW.CULTURE.RU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Open Sans"/>
              </a:rPr>
              <a:t>16.ПРОВЕДИТЕ ВРЕМЯ В АСТРАХАНСКОМ БИОСФЕРНОМ ЗАПОВЕДНИКЕ, В МИРЕ ЖИВОТНЫХ,РЫБ И ПТ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ри просмотре этих роликов можно водить пальцем по экрану (телефона) или управлять жестиком (на компьютере),меняя угол обзора </a:t>
            </a:r>
            <a:r>
              <a:rPr b="0" lang="en-US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VR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3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WWW.YOUTUBE.COM/WATCH?V=FZTHNYZLXHK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 </a:t>
            </a: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HTTPS://YANDEX.RU/VIDEO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 </a:t>
            </a: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HTTPS://WWW.YOUTUBE.COM/WATCH?V=NYCCDLX2TG8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Open Sans"/>
              </a:rPr>
              <a:t>17. ЧИТАЙТЕ ДЕТЯМ СКАЗ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Open Sans"/>
              </a:rPr>
              <a:t> </a:t>
            </a:r>
            <a:r>
              <a:rPr b="1" lang="ru-RU" sz="1800" spc="-1" strike="noStrike">
                <a:solidFill>
                  <a:srgbClr val="111111"/>
                </a:solidFill>
                <a:latin typeface="Open Sans"/>
              </a:rPr>
              <a:t>РАССКАЗЫ, УЧИТЕ СТИХ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7" descr=""/>
          <p:cNvPicPr/>
          <p:nvPr/>
        </p:nvPicPr>
        <p:blipFill>
          <a:blip r:embed="rId2"/>
          <a:stretch/>
        </p:blipFill>
        <p:spPr>
          <a:xfrm>
            <a:off x="5673600" y="3951360"/>
            <a:ext cx="2610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771480" y="992160"/>
            <a:ext cx="76010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968400" y="695160"/>
            <a:ext cx="746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оронавирус! Как не заразиться!?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750960" y="1793880"/>
            <a:ext cx="777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Коронавирусная инфекция -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потенциально тяжёлая острая респираторная инфекция, вызываемая 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коронавирусом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3"/>
              </a:rPr>
              <a:t>SARS-CoV-2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. Представляет собой опасное заболевание, которое может протекать как в форме 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4"/>
              </a:rPr>
              <a:t>острой респираторной вирусной инфекции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лёгкого течения, так и в тяжёлой форме, специфические осложнения которой могут включать 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5"/>
              </a:rPr>
              <a:t>вирусную пневмонию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, влекущую за собой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6"/>
              </a:rPr>
              <a:t>острый респираторный дистресс-синдр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7"/>
              </a:rPr>
              <a:t>дыхательную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 риском смер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777960" y="600120"/>
            <a:ext cx="765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же распознать эту, совершенно незнакомую нам инфекцию??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777960" y="1509840"/>
            <a:ext cx="754704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запност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 главное отличие от ОРВИ, при котором заболевание развивается постепенно. Еще 5 минут назад человек нормально себя чувствовал, вдруг у него высокая температу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ыше 38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вышение температуры тела может быть в пределах 38–39,5 °С. Такие показатели говорят о вирусе гриппа в организме. При обычном ОРВИ температура, как правило, до 38°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й и навязчивый каш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фиксирован в 80% всех больных. Он может быть несильный, но утомительный. Человек никак не может откашляться. Во время ОРВИ кашель или влажный, или его нет вообще. Иногда он появляется на 2–3-й день боле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ышка, боль в груди, тахикард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ачальных этапах заболевания этих симптомов нет вообщ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ь, утомляемость, устал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ОРВИ эти симптомы тоже есть, но не такие сильные, как у больных гриппом с вирусом типа 2019 nCoV. Слабость настолько сильная, что человек не может поднять руку и сделать ша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2224080" y="76356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ож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955800" y="1569960"/>
            <a:ext cx="731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ит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и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ефалит, менинг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жнения беременности, развитие патологии пл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е хронических заболев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заболевания проводится под контролем врача, который только после осмотра пациента назначает схему лечения и дает другие рекомендации. Заболевший должен соблюдать постельный режим, полноценно питаться и пить больше жидк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7250400" cy="33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ело переносят инфекцию пожилые люди, для этой возрастной  группы очень опасны осложнения, которые могут развитваться во время заболевания. Для пожилых людей, также, как 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1938240" y="709560"/>
            <a:ext cx="54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кого наиболее опас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реча с вирус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5" descr=""/>
          <p:cNvPicPr/>
          <p:nvPr/>
        </p:nvPicPr>
        <p:blipFill>
          <a:blip r:embed="rId2"/>
          <a:stretch/>
        </p:blipFill>
        <p:spPr>
          <a:xfrm>
            <a:off x="5977080" y="2933640"/>
            <a:ext cx="2498760" cy="2903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668160" y="2805120"/>
            <a:ext cx="61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дей с хроническими заболеваниями, вирус опасен по причине ослабленной иммунной систем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двержены инфицированию вирусами, затрагивающими органы дыхания, как и взрослые,коронавирусная инфек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исключени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, что молодой организм лучше переносит воздействие коронавируса, избегая возможных последст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1596960" y="682560"/>
            <a:ext cx="58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защитить пожилых люд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873000" y="1305000"/>
            <a:ext cx="7507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Главная задача - </a:t>
            </a: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изолировать их от мест скопления людей</a:t>
            </a: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YS 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 </a:t>
            </a: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Если есть возможность — </a:t>
            </a: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отправьте своих близких на дачу</a:t>
            </a: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 </a:t>
            </a: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Запаситесь лекарствами</a:t>
            </a: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, которые ваши близкие принимают постоянно (от давления, диабета и так далее), чтобы предотвратить их походы в апте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 </a:t>
            </a: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Организуйте доставку еды и других необходимых вещей домой</a:t>
            </a: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YS 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 </a:t>
            </a: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При необходимости посещения общественных мест - </a:t>
            </a: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вызывайте такси </a:t>
            </a: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или </a:t>
            </a: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пользуйтесь личным транспортом</a:t>
            </a: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22426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 </a:t>
            </a:r>
            <a:r>
              <a:rPr b="0" lang="ru-RU" sz="1800" spc="-1" strike="noStrike">
                <a:solidFill>
                  <a:srgbClr val="222426"/>
                </a:solidFill>
                <a:latin typeface="Helvetica Neue"/>
              </a:rPr>
              <a:t>В случае появления симптомов недомогания - обязательно вызывайте скорую (103 с мобильного).</a:t>
            </a:r>
            <a:r>
              <a:rPr b="0" lang="ru-RU" sz="1800" spc="-1" strike="noStrike">
                <a:solidFill>
                  <a:srgbClr val="222426"/>
                </a:solidFill>
                <a:latin typeface="YS Text"/>
              </a:rPr>
              <a:t> У пожилых вирусные заболевания часто проходят без температуры и в более смазанной форме, поэтому даже на слабые симптомы ОРВИ старайтесь реагировать оператив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801800" y="614520"/>
            <a:ext cx="615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не заразиться? Защити себ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914400" y="1446120"/>
            <a:ext cx="75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ть руки после посещения любых общественных мест, транспорта, прикосновений к дверным ручкам, деньгам, оргтехнике общественного пользования на рабочем месте, перед едой и приготовлением пищи. Уделите особое внимание тщательному намыливанию (не менее 20 секунд), и последующему полному осушению р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звращения с улицы домой - вымыть руки и лицо с мылом, промыть нос изотоническим раствором со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саться к лицу, глазам- только недавно вымытыми руками. При отсутствии доступа к воде и мылу, для очистки рук использовать дезинфицирующие средства на спиртовой основе. Или воспользоваться одноразовой салфеткой, при необходимости прикосновения к глазам или нос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7" descr=""/>
          <p:cNvPicPr/>
          <p:nvPr/>
        </p:nvPicPr>
        <p:blipFill>
          <a:blip r:embed="rId2"/>
          <a:stretch/>
        </p:blipFill>
        <p:spPr>
          <a:xfrm>
            <a:off x="4073400" y="4578480"/>
            <a:ext cx="1611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2"/>
          <a:stretch/>
        </p:blipFill>
        <p:spPr>
          <a:xfrm>
            <a:off x="763560" y="547560"/>
            <a:ext cx="77389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955800" y="504720"/>
            <a:ext cx="727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ходить из дома весь период каранти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ть близких контактов и пребывания в одном помещении с людьми, людьми имеющими видимые признаки ОРВИ/ коронавируса (кашель, чихание, выделения из нос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ть одноразовую медицинскую маску в людных местах и транспорте. Менять маску на новую надо каждые 2-3 часа, повторно использовать маску нельз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риветственные рукопожатия, поцелуи и объ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7" descr=""/>
          <p:cNvPicPr/>
          <p:nvPr/>
        </p:nvPicPr>
        <p:blipFill>
          <a:blip r:embed="rId2"/>
          <a:stretch/>
        </p:blipFill>
        <p:spPr>
          <a:xfrm>
            <a:off x="6700680" y="1328760"/>
            <a:ext cx="1230480" cy="1227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"/>
          <p:cNvPicPr/>
          <p:nvPr/>
        </p:nvPicPr>
        <p:blipFill>
          <a:blip r:embed="rId3"/>
          <a:stretch/>
        </p:blipFill>
        <p:spPr>
          <a:xfrm>
            <a:off x="3594240" y="4981680"/>
            <a:ext cx="1304640" cy="1305000"/>
          </a:xfrm>
          <a:prstGeom prst="rect">
            <a:avLst/>
          </a:prstGeom>
          <a:ln w="0">
            <a:noFill/>
          </a:ln>
        </p:spPr>
      </p:pic>
      <p:sp>
        <p:nvSpPr>
          <p:cNvPr id="70" name="Рисунок 9"/>
          <p:cNvSpPr/>
          <p:nvPr/>
        </p:nvSpPr>
        <p:spPr>
          <a:xfrm>
            <a:off x="5168880" y="3271680"/>
            <a:ext cx="12463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Татьяна</dc:creator>
  <dc:description/>
  <dc:language>en-US</dc:language>
  <cp:lastModifiedBy>admin</cp:lastModifiedBy>
  <dcterms:modified xsi:type="dcterms:W3CDTF">2020-05-17T07:11:22Z</dcterms:modified>
  <cp:revision>139</cp:revision>
  <dc:subject/>
  <dc:title>Презентация PowerPoint</dc:title>
</cp:coreProperties>
</file>