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2C9-6E7A-4E70-8662-0569EE44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275B-CE6E-4D07-9938-E34015D3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F951-B0E5-4D8F-94CF-3F2835F7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1E1-3FEB-425C-96B0-C2E3FD88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A249-2E2E-4361-A00B-E7974D1C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940B-B7C4-453B-A882-B0DF6E3A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E836-19C1-48E3-8E2E-A422A292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1E6B-4D1C-46A4-BAC7-9CB4A3D4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76C3-F070-40C1-87DB-9FCDA234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96D4-0876-475F-94F7-DB01ECC7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5A5B-5C96-4F2D-AEEE-4672A965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957-E34D-4FDA-A197-75F2BA71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3FDB-60F3-4C96-8B6B-D22BA471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23E7-DECC-489A-B170-05B22FE7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001A-7BB8-4A1C-AFBD-5CF3AAB7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D248-9247-4FD6-952C-C246B40E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658E-4424-4EAB-B370-15C4D5F8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63C-01F8-438C-A5E4-9D4E212F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4A4-16CB-44A2-B077-82506D5A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4197-5311-41F2-BE36-85EE74AA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D97-64ED-4FB4-946B-3A7529FE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8FD5-7E45-4D85-A6E1-66B9C9B6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4AD-44FD-4329-925F-B980976D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A5F-40C8-4F14-ABC0-195E3EB3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0A93-1317-4E90-950A-DCE1F9038ED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63C2-9F56-47D7-B56C-026C46CEBC2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85480" y="28548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ствие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да.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1" descr="сканирование0037.jpg"/>
          <p:cNvPicPr/>
          <p:nvPr/>
        </p:nvPicPr>
        <p:blipFill>
          <a:blip r:embed="rId1"/>
          <a:stretch/>
        </p:blipFill>
        <p:spPr>
          <a:xfrm>
            <a:off x="0" y="0"/>
            <a:ext cx="9198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цы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Ι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апа римский объявил крестовый поход против прибалтийских народов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0 – крестоносцы заложили Ригу (Орден меченосцев) между Вислой и Неманом был основан Тевтонский Орден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19 – Ревель (Таллинн) основали датские феодалы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34 – Ярослав Всеволодович одержал победу над немцами под Юрьевым. Остатки Ордена Меченосцев и Тевтонского Ордена объединились в Ливонский Орден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0 – захват Изборска и Пскова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000920" y="142560"/>
            <a:ext cx="2000160" cy="642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апреля 1242 год.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4" name="Рисунок 2" descr="сканирование0036.jpg"/>
          <p:cNvPicPr/>
          <p:nvPr/>
        </p:nvPicPr>
        <p:blipFill>
          <a:blip r:embed="rId1"/>
          <a:stretch/>
        </p:blipFill>
        <p:spPr>
          <a:xfrm>
            <a:off x="0" y="0"/>
            <a:ext cx="692928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ыла сеча жестокая, и стоял треск от ломающихся копий и звон от ударов мечей, и казалось, что двинулось замёрзшее озеро, и не было видно льда, ибо покрылось оно кровью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И победил Александр врагов помощью божьей, и обратились они в бегство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ы русских войск предотвратили попытки навязать Руси католицизм. Тевтонский и Ливонский Ордена отказались от агрессивных замыслов по отношению к русским землям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67150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ЬБА РУСИ С АГРЕССИЕЙ ШВЕДСКИХ И НЕМЕЦКИХ РЫЦАРЕЙ В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ΙΙ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Е.</a:t>
            </a:r>
            <a:br>
              <a:rPr sz="3200"/>
            </a:br>
            <a:r>
              <a:rPr b="1" lang="ru-RU" sz="2400" spc="-1" strike="noStrike">
                <a:solidFill>
                  <a:srgbClr val="eff9f9"/>
                </a:solidFill>
                <a:latin typeface="Times New Roman"/>
                <a:ea typeface="Times New Roman"/>
              </a:rPr>
              <a:t>ЦЕЛИ ПОХОДОВ РЫЦАРЕЙ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785880" y="1643040"/>
            <a:ext cx="3286080" cy="1000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 язычников и православных в католиче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5214960" y="1643040"/>
            <a:ext cx="3071880" cy="1000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>
            <a:off x="4643280" y="1643040"/>
            <a:ext cx="0" cy="428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ая соединительная линия 8"/>
          <p:cNvSpPr/>
          <p:nvPr/>
        </p:nvSpPr>
        <p:spPr>
          <a:xfrm flipH="1">
            <a:off x="4071600" y="2071800"/>
            <a:ext cx="5713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11"/>
          <p:cNvSpPr/>
          <p:nvPr/>
        </p:nvSpPr>
        <p:spPr>
          <a:xfrm>
            <a:off x="4643280" y="2071800"/>
            <a:ext cx="57168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Скругленный прямоугольник 16"/>
          <p:cNvSpPr/>
          <p:nvPr/>
        </p:nvSpPr>
        <p:spPr>
          <a:xfrm>
            <a:off x="928800" y="3857760"/>
            <a:ext cx="2500200" cy="9144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агресс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Скругленный прямоугольник 17"/>
          <p:cNvSpPr/>
          <p:nvPr/>
        </p:nvSpPr>
        <p:spPr>
          <a:xfrm>
            <a:off x="285840" y="5429160"/>
            <a:ext cx="1785960" cy="9144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гор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Скругленный прямоугольник 18"/>
          <p:cNvSpPr/>
          <p:nvPr/>
        </p:nvSpPr>
        <p:spPr>
          <a:xfrm>
            <a:off x="2357280" y="5429160"/>
            <a:ext cx="1785960" cy="9144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Прямая со стрелкой 20"/>
          <p:cNvCxnSpPr>
            <a:endCxn id="122" idx="0"/>
          </p:cNvCxnSpPr>
          <p:nvPr/>
        </p:nvCxnSpPr>
        <p:spPr>
          <a:xfrm flipH="1">
            <a:off x="1177560" y="4786200"/>
            <a:ext cx="394560" cy="643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25" name="Прямая со стрелкой 23"/>
          <p:cNvCxnSpPr>
            <a:endCxn id="123" idx="0"/>
          </p:cNvCxnSpPr>
          <p:nvPr/>
        </p:nvCxnSpPr>
        <p:spPr>
          <a:xfrm>
            <a:off x="2786040" y="4786200"/>
            <a:ext cx="464400" cy="643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26" name="Прямоугольник 25"/>
          <p:cNvSpPr/>
          <p:nvPr/>
        </p:nvSpPr>
        <p:spPr>
          <a:xfrm>
            <a:off x="4643280" y="3357720"/>
            <a:ext cx="421488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а русских войск во главе с князем Александром  (Невским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26"/>
          <p:cNvSpPr/>
          <p:nvPr/>
        </p:nvSpPr>
        <p:spPr>
          <a:xfrm>
            <a:off x="4714920" y="4929120"/>
            <a:ext cx="1643040" cy="1414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240 г. на р. Неве над шведскими рыцар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27"/>
          <p:cNvSpPr/>
          <p:nvPr/>
        </p:nvSpPr>
        <p:spPr>
          <a:xfrm>
            <a:off x="7000920" y="4929120"/>
            <a:ext cx="1857240" cy="1428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242 г. на Чудском озере над немецкими рыцар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9" name="Прямая со стрелкой 29"/>
          <p:cNvCxnSpPr>
            <a:endCxn id="127" idx="0"/>
          </p:cNvCxnSpPr>
          <p:nvPr/>
        </p:nvCxnSpPr>
        <p:spPr>
          <a:xfrm flipH="1">
            <a:off x="5536440" y="4286160"/>
            <a:ext cx="321480" cy="643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0" name="Прямая со стрелкой 31"/>
          <p:cNvCxnSpPr>
            <a:endCxn id="128" idx="0"/>
          </p:cNvCxnSpPr>
          <p:nvPr/>
        </p:nvCxnSpPr>
        <p:spPr>
          <a:xfrm>
            <a:off x="7571160" y="4286160"/>
            <a:ext cx="358200" cy="643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9080" y="714240"/>
            <a:ext cx="4572000" cy="5429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лександр Невский».</a:t>
            </a:r>
            <a:br>
              <a:rPr sz="6000"/>
            </a:br>
            <a:br>
              <a:rPr sz="6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П. Корин.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2" name="Рисунок 2" descr="сканирование0034.jpg"/>
          <p:cNvPicPr/>
          <p:nvPr/>
        </p:nvPicPr>
        <p:blipFill>
          <a:blip r:embed="rId1"/>
          <a:stretch/>
        </p:blipFill>
        <p:spPr>
          <a:xfrm>
            <a:off x="1000080" y="0"/>
            <a:ext cx="330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еды: 1164 г. вторжение близ Ладоги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87 г. Новгородская рать напала на Сигтуну (Стокгольм)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27 г. шведские воины отброшены Ярославом Всеволодовичем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29200" y="642960"/>
            <a:ext cx="3214800" cy="5500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ргер: - Если можешь, сопротивляйся, но знай, что я здесь пленяю землю твою.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5" name="Рисунок 2" descr="сканирование0045.jpg"/>
          <p:cNvPicPr/>
          <p:nvPr/>
        </p:nvPicPr>
        <p:blipFill>
          <a:blip r:embed="rId1"/>
          <a:stretch/>
        </p:blipFill>
        <p:spPr>
          <a:xfrm>
            <a:off x="0" y="642960"/>
            <a:ext cx="58276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71760" y="274320"/>
            <a:ext cx="2614680" cy="6297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Невский: - Не в силе Бог, а в правде!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7" name="Рисунок 2" descr="x1-258.jpg"/>
          <p:cNvPicPr/>
          <p:nvPr/>
        </p:nvPicPr>
        <p:blipFill>
          <a:blip r:embed="rId1"/>
          <a:stretch/>
        </p:blipFill>
        <p:spPr>
          <a:xfrm>
            <a:off x="0" y="0"/>
            <a:ext cx="60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сканирование0035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86880" cy="6583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лгусий (Филипп) рассказывал видение: - Брат Глеб, вели грести, поможем нашему сроднику, князю Александру Ярославичу.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или себя здесь шесть славных мужей из полка Александров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вый – по имени Гаврило Олексич. Он напал на шнек и, увидев королевича, влекомого под руки, въехал до самого корабля по сходням, по которым бежали с королевичем;  преследуемые им схватили Гаврилу Олексича и сбросили его со сходен вместе с конем. Но по Божьей милости он вышел вон из воды невредим, и снова напал на них, и бился с самим воеводою посреди их войск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торой , по имени Сбыслав Янукович, новгородец. Этот много раз нападал на войско их и бился одним топором, не имея страха в своей душе; и пали многие от руки его, и дивились силе и храбрости ег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тий, Яков, родом полочанин, был ловчим у князя. Этот напал на полк с мечом, и похвалил его княз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твёртый – новгородец, по имени Меша.  Этот пеший с дружиною своей напал на корабли и потопил три корабл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ятый – из младшей дружины, по имени Сава. Этот ворвался в большой королевский шатер и подсек столб шатерный. Полки Александровы, видевшие падение шатра, возрадовалис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естой – из слуг Александровых, по имени Ратмир. Этот бился пешим, и обступили его враги многие. Он же от многих ран пал, и так скончался.   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8:12:38Z</dcterms:created>
  <dc:creator>777</dc:creator>
  <dc:description/>
  <dc:language>en-US</dc:language>
  <cp:lastModifiedBy>WIN7XP</cp:lastModifiedBy>
  <dcterms:modified xsi:type="dcterms:W3CDTF">2020-05-17T18:58:10Z</dcterms:modified>
  <cp:revision>19</cp:revision>
  <dc:subject/>
  <dc:title>Слайд 1</dc:title>
</cp:coreProperties>
</file>