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1.gif" ContentType="image/gif"/>
  <Override PartName="/ppt/media/image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C32-9B55-4897-A125-B9C85755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ED4-5F28-4362-AD1C-60E5E47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BD8-97D3-460E-B1A6-1562725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213-13F0-40E3-A849-4B861E30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194D-BE05-4857-89D2-FBD521C1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5EA4-50B3-4758-8281-17EB412C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239F-65E6-4E8A-AC4F-2EB81D6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E852-5A58-4936-A9DD-E4EA422B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090-1734-49D8-9C6C-124C876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4689-30E7-476C-B3E7-BC48F189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0F40-A4F0-4AE5-8821-BCF6E15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142-A091-45DD-A19C-F967813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715A-7501-47C9-B3C2-779EB21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FA4-B2D0-45B8-9E71-5CA57EB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856-D89F-464F-9C09-0599558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0503-ACF2-48D5-A268-09B78259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4B3-4D76-4E39-A40D-F1A681D1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E663-A0F7-4453-9B04-C80D12CB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BD20-4288-4D17-8C24-4C3D2C3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5813-1284-47D1-B085-9A3DBAC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1705-2657-4C0E-8945-8CADDDE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2582-E7FA-4975-8B35-D99B233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E89-77B6-48C1-BEEA-15C1FB2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3038-2AC4-4208-BB95-9EAAAC4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3112-532D-4013-AE8C-772C914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BD15-AB67-4155-8011-3BB6CBC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19D6-CC67-44BD-A81E-3D21F845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DC32-0A29-4387-87B5-A9BE5518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7BC7-8BA9-47D5-80EB-31160433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AF0E-04D9-49A6-B9BD-6CE11325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3BE-8B11-43DD-8DE7-1121C4A9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951-EC33-4CC6-AEF3-53AB515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2CD-3B1D-4884-8AD3-EB6DF2F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E02-CC83-4511-90B8-6C6EA52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7E7-C39D-4608-81DF-F1F2E81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029-617E-4204-8819-2AC2EBA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6C9-928C-48E6-8DFF-035BCE1EE6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CB36-7383-4B25-8608-54ACCDF018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579-0412-40A2-A0AD-E8E88CB444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92;&#1080;&#1083;&#1100;&#1077;&#1088;&#1072;.do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ru.wikipedia.org/wiki/&#1060;&#1072;&#1081;&#1083;:Asbestos2USGOV.jp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5809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олимеры. Пластмассы. Волокн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странственные конфигурации</a:t>
            </a:r>
            <a:br>
              <a:rPr sz="3800"/>
            </a:b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интетических каучуков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ahm321"/>
          <p:cNvPicPr/>
          <p:nvPr/>
        </p:nvPicPr>
        <p:blipFill>
          <a:blip r:embed="rId1"/>
          <a:stretch/>
        </p:blipFill>
        <p:spPr>
          <a:xfrm>
            <a:off x="1066680" y="3429000"/>
            <a:ext cx="3124440" cy="130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m321"/>
          <p:cNvPicPr/>
          <p:nvPr/>
        </p:nvPicPr>
        <p:blipFill>
          <a:blip r:embed="rId2"/>
          <a:stretch/>
        </p:blipFill>
        <p:spPr>
          <a:xfrm>
            <a:off x="914400" y="2133720"/>
            <a:ext cx="335268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m322"/>
          <p:cNvPicPr/>
          <p:nvPr/>
        </p:nvPicPr>
        <p:blipFill>
          <a:blip r:embed="rId3"/>
          <a:stretch/>
        </p:blipFill>
        <p:spPr>
          <a:xfrm>
            <a:off x="5181480" y="2209680"/>
            <a:ext cx="3429000" cy="116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ahm322"/>
          <p:cNvPicPr/>
          <p:nvPr/>
        </p:nvPicPr>
        <p:blipFill>
          <a:blip r:embed="rId4"/>
          <a:stretch/>
        </p:blipFill>
        <p:spPr>
          <a:xfrm>
            <a:off x="5029200" y="3505320"/>
            <a:ext cx="3429000" cy="1206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828800" y="1600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реорегуляр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752480" y="47242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тереорегуляр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hm325"/>
          <p:cNvPicPr/>
          <p:nvPr/>
        </p:nvPicPr>
        <p:blipFill>
          <a:blip r:embed="rId5"/>
          <a:stretch/>
        </p:blipFill>
        <p:spPr>
          <a:xfrm>
            <a:off x="2362320" y="5334120"/>
            <a:ext cx="4724280" cy="1277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войства пластмасс и способы формования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33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войства пластма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ы к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и в обрабо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особы формования пластма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у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у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мп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ливание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филь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анд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00"/>
                            </p:stCondLst>
                            <p:childTnLst>
                              <p:par>
                                <p:cTn id="3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рименение пластмасс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L24_p2_2"/>
          <p:cNvPicPr/>
          <p:nvPr/>
        </p:nvPicPr>
        <p:blipFill>
          <a:blip r:embed="rId1"/>
          <a:stretch/>
        </p:blipFill>
        <p:spPr>
          <a:xfrm>
            <a:off x="3733920" y="1638360"/>
            <a:ext cx="2133360" cy="160812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06" name="Picture 5" descr="L27_p4_2"/>
          <p:cNvPicPr/>
          <p:nvPr/>
        </p:nvPicPr>
        <p:blipFill>
          <a:blip r:embed="rId2"/>
          <a:stretch/>
        </p:blipFill>
        <p:spPr>
          <a:xfrm>
            <a:off x="7238880" y="3429000"/>
            <a:ext cx="1354320" cy="160020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07" name="Picture 7" descr="2"/>
          <p:cNvPicPr/>
          <p:nvPr/>
        </p:nvPicPr>
        <p:blipFill>
          <a:blip r:embed="rId3"/>
          <a:stretch/>
        </p:blipFill>
        <p:spPr>
          <a:xfrm>
            <a:off x="990720" y="1600200"/>
            <a:ext cx="2133360" cy="160020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08" name="Picture 8" descr="1999_porsche_911_carrera4-2"/>
          <p:cNvPicPr/>
          <p:nvPr/>
        </p:nvPicPr>
        <p:blipFill>
          <a:blip r:embed="rId4"/>
          <a:stretch/>
        </p:blipFill>
        <p:spPr>
          <a:xfrm>
            <a:off x="5486400" y="5334120"/>
            <a:ext cx="1316160" cy="137160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09" name="Picture 9" descr="2001_bmw_z8-8"/>
          <p:cNvPicPr/>
          <p:nvPr/>
        </p:nvPicPr>
        <p:blipFill>
          <a:blip r:embed="rId5"/>
          <a:stretch/>
        </p:blipFill>
        <p:spPr>
          <a:xfrm>
            <a:off x="6553080" y="1676520"/>
            <a:ext cx="1981440" cy="148572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10" name="Picture 11" descr="Рисунок1"/>
          <p:cNvPicPr/>
          <p:nvPr/>
        </p:nvPicPr>
        <p:blipFill>
          <a:blip r:embed="rId6"/>
          <a:stretch/>
        </p:blipFill>
        <p:spPr>
          <a:xfrm>
            <a:off x="3733920" y="3429000"/>
            <a:ext cx="1544400" cy="182880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11" name="Picture 12" descr="1300_1"/>
          <p:cNvPicPr/>
          <p:nvPr/>
        </p:nvPicPr>
        <p:blipFill>
          <a:blip r:embed="rId7"/>
          <a:stretch/>
        </p:blipFill>
        <p:spPr>
          <a:xfrm>
            <a:off x="914400" y="3581280"/>
            <a:ext cx="619200" cy="140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w401055922940"/>
          <p:cNvPicPr/>
          <p:nvPr/>
        </p:nvPicPr>
        <p:blipFill>
          <a:blip r:embed="rId8"/>
          <a:stretch/>
        </p:blipFill>
        <p:spPr>
          <a:xfrm>
            <a:off x="3886200" y="5486400"/>
            <a:ext cx="1066680" cy="106668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13" name="Picture 14" descr="w401071728886"/>
          <p:cNvPicPr/>
          <p:nvPr/>
        </p:nvPicPr>
        <p:blipFill>
          <a:blip r:embed="rId9"/>
          <a:stretch/>
        </p:blipFill>
        <p:spPr>
          <a:xfrm>
            <a:off x="182880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U20_10"/>
          <p:cNvPicPr/>
          <p:nvPr/>
        </p:nvPicPr>
        <p:blipFill>
          <a:blip r:embed="rId10"/>
          <a:stretch/>
        </p:blipFill>
        <p:spPr>
          <a:xfrm>
            <a:off x="5486400" y="3778200"/>
            <a:ext cx="1600200" cy="1136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U21_21"/>
          <p:cNvPicPr/>
          <p:nvPr/>
        </p:nvPicPr>
        <p:blipFill>
          <a:blip r:embed="rId11"/>
          <a:stretch/>
        </p:blipFill>
        <p:spPr>
          <a:xfrm>
            <a:off x="533520" y="5029200"/>
            <a:ext cx="1369800" cy="160488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16" name="Picture 18" descr="L27_p4_1"/>
          <p:cNvPicPr/>
          <p:nvPr/>
        </p:nvPicPr>
        <p:blipFill>
          <a:blip r:embed="rId12"/>
          <a:stretch/>
        </p:blipFill>
        <p:spPr>
          <a:xfrm>
            <a:off x="7086600" y="5257800"/>
            <a:ext cx="1752480" cy="138096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  <p:pic>
        <p:nvPicPr>
          <p:cNvPr id="217" name="Picture 19" descr="2"/>
          <p:cNvPicPr/>
          <p:nvPr/>
        </p:nvPicPr>
        <p:blipFill>
          <a:blip r:embed="rId13"/>
          <a:stretch/>
        </p:blipFill>
        <p:spPr>
          <a:xfrm>
            <a:off x="2286000" y="5105520"/>
            <a:ext cx="1270080" cy="1523880"/>
          </a:xfrm>
          <a:prstGeom prst="rect">
            <a:avLst/>
          </a:prstGeom>
          <a:ln w="38160">
            <a:solidFill>
              <a:srgbClr val="891411"/>
            </a:solidFill>
            <a:miter/>
          </a:ln>
        </p:spPr>
      </p:pic>
    </p:spTree>
  </p:cSld>
  <p:transition spd="med">
    <p:strips dir="l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9000"/>
                            </p:stCondLst>
                            <p:childTnLst>
                              <p:par>
                                <p:cTn id="4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Электроник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i?id=162532582-00"/>
          <p:cNvPicPr/>
          <p:nvPr/>
        </p:nvPicPr>
        <p:blipFill>
          <a:blip r:embed="rId1"/>
          <a:stretch/>
        </p:blipFill>
        <p:spPr>
          <a:xfrm>
            <a:off x="2843280" y="2997360"/>
            <a:ext cx="2768400" cy="1731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?id=50098363-04"/>
          <p:cNvPicPr/>
          <p:nvPr/>
        </p:nvPicPr>
        <p:blipFill>
          <a:blip r:embed="rId2"/>
          <a:stretch/>
        </p:blipFill>
        <p:spPr>
          <a:xfrm>
            <a:off x="5651640" y="1628640"/>
            <a:ext cx="2792160" cy="1671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i?id=102001102-00"/>
          <p:cNvPicPr/>
          <p:nvPr/>
        </p:nvPicPr>
        <p:blipFill>
          <a:blip r:embed="rId3"/>
          <a:stretch/>
        </p:blipFill>
        <p:spPr>
          <a:xfrm>
            <a:off x="179280" y="4808520"/>
            <a:ext cx="288000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ЛАССИФИКАЦИЯ ВОЛОКО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ок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полимеры линейного строения, которые пригодны для изготовления нитей, жгутов, пряжи и текстильн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Е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ОЛОКНА, подаренные ПРИРОДОЙ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Organization Chart 2"/>
          <p:cNvGrpSpPr/>
          <p:nvPr/>
        </p:nvGrpSpPr>
        <p:grpSpPr>
          <a:xfrm>
            <a:off x="914400" y="1600200"/>
            <a:ext cx="7328880" cy="4529160"/>
            <a:chOff x="914400" y="1600200"/>
            <a:chExt cx="7328880" cy="4529160"/>
          </a:xfrm>
        </p:grpSpPr>
        <p:cxnSp>
          <p:nvCxnSpPr>
            <p:cNvPr id="226" name="_s1028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407920" y="2581560"/>
              <a:ext cx="906480" cy="256572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29"/>
            <p:cNvCxnSpPr>
              <a:stCxn id="230" idx="0"/>
              <a:endCxn id="228" idx="2"/>
            </p:cNvCxnSpPr>
            <p:nvPr/>
          </p:nvCxnSpPr>
          <p:spPr>
            <a:xfrm flipV="1">
              <a:off x="4578840" y="3411360"/>
              <a:ext cx="360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1030"/>
            <p:cNvCxnSpPr>
              <a:stCxn id="232" idx="0"/>
              <a:endCxn id="228" idx="2"/>
            </p:cNvCxnSpPr>
            <p:nvPr/>
          </p:nvCxnSpPr>
          <p:spPr>
            <a:xfrm flipH="1" flipV="1" rot="5400000">
              <a:off x="2842560" y="2581560"/>
              <a:ext cx="906480" cy="256572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31"/>
            <p:cNvSpPr/>
            <p:nvPr/>
          </p:nvSpPr>
          <p:spPr>
            <a:xfrm>
              <a:off x="3479400" y="1600200"/>
              <a:ext cx="2198520" cy="1811520"/>
            </a:xfrm>
            <a:prstGeom prst="roundRect">
              <a:avLst>
                <a:gd name="adj" fmla="val 16667"/>
              </a:avLst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Животного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роисхожд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2"/>
            <p:cNvSpPr/>
            <p:nvPr/>
          </p:nvSpPr>
          <p:spPr>
            <a:xfrm>
              <a:off x="914400" y="4317840"/>
              <a:ext cx="2198520" cy="1811520"/>
            </a:xfrm>
            <a:prstGeom prst="roundRect">
              <a:avLst>
                <a:gd name="adj" fmla="val 16667"/>
              </a:avLst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Шер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Кашеми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Ангор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Альпак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Флан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3"/>
            <p:cNvSpPr/>
            <p:nvPr/>
          </p:nvSpPr>
          <p:spPr>
            <a:xfrm>
              <a:off x="3479400" y="4317840"/>
              <a:ext cx="2198520" cy="1811520"/>
            </a:xfrm>
            <a:prstGeom prst="roundRect">
              <a:avLst>
                <a:gd name="adj" fmla="val 16667"/>
              </a:avLst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Натуральный шёл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4"/>
            <p:cNvSpPr/>
            <p:nvPr/>
          </p:nvSpPr>
          <p:spPr>
            <a:xfrm>
              <a:off x="6044760" y="4317840"/>
              <a:ext cx="2198520" cy="1811520"/>
            </a:xfrm>
            <a:prstGeom prst="roundRect">
              <a:avLst>
                <a:gd name="adj" fmla="val 16667"/>
              </a:avLst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АУТИН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КЕТГУТ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СУХОЖИЛ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14"/>
          <p:cNvSpPr/>
          <p:nvPr/>
        </p:nvSpPr>
        <p:spPr>
          <a:xfrm>
            <a:off x="7174080" y="531972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ВОЛОКНА     </a:t>
            </a:r>
            <a:r>
              <a:rPr b="0" i="1" lang="ru-RU" sz="4200" spc="-1" strike="noStrike">
                <a:solidFill>
                  <a:srgbClr val="000000"/>
                </a:solidFill>
                <a:latin typeface="Times New Roman"/>
              </a:rPr>
              <a:t>ПРИРОДНЫ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Diagram 2"/>
          <p:cNvGrpSpPr/>
          <p:nvPr/>
        </p:nvGrpSpPr>
        <p:grpSpPr>
          <a:xfrm>
            <a:off x="2161800" y="1318320"/>
            <a:ext cx="4304160" cy="4784400"/>
            <a:chOff x="2161800" y="1318320"/>
            <a:chExt cx="4304160" cy="4784400"/>
          </a:xfrm>
        </p:grpSpPr>
        <p:sp>
          <p:nvSpPr>
            <p:cNvPr id="236" name="_s2052"/>
            <p:cNvSpPr/>
            <p:nvPr/>
          </p:nvSpPr>
          <p:spPr>
            <a:xfrm flipH="1" flipV="1">
              <a:off x="3275280" y="3112200"/>
              <a:ext cx="5212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053"/>
            <p:cNvSpPr/>
            <p:nvPr/>
          </p:nvSpPr>
          <p:spPr>
            <a:xfrm>
              <a:off x="2161800" y="2216880"/>
              <a:ext cx="119592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ХЛОПО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054"/>
            <p:cNvSpPr/>
            <p:nvPr/>
          </p:nvSpPr>
          <p:spPr>
            <a:xfrm flipH="1">
              <a:off x="3277080" y="4009320"/>
              <a:ext cx="5212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055"/>
            <p:cNvSpPr/>
            <p:nvPr/>
          </p:nvSpPr>
          <p:spPr>
            <a:xfrm>
              <a:off x="2163240" y="4010760"/>
              <a:ext cx="119592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ОНОПЛ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2056"/>
            <p:cNvSpPr/>
            <p:nvPr/>
          </p:nvSpPr>
          <p:spPr>
            <a:xfrm>
              <a:off x="4314600" y="4305600"/>
              <a:ext cx="0" cy="60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7"/>
            <p:cNvSpPr/>
            <p:nvPr/>
          </p:nvSpPr>
          <p:spPr>
            <a:xfrm>
              <a:off x="3717720" y="4906080"/>
              <a:ext cx="1195920" cy="11966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У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ЫК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58"/>
            <p:cNvSpPr/>
            <p:nvPr/>
          </p:nvSpPr>
          <p:spPr>
            <a:xfrm>
              <a:off x="4829040" y="4007160"/>
              <a:ext cx="521280" cy="29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2059"/>
            <p:cNvSpPr/>
            <p:nvPr/>
          </p:nvSpPr>
          <p:spPr>
            <a:xfrm>
              <a:off x="5269320" y="4009320"/>
              <a:ext cx="119664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ДЖУТ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ОЙ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60"/>
            <p:cNvSpPr/>
            <p:nvPr/>
          </p:nvSpPr>
          <p:spPr>
            <a:xfrm flipV="1">
              <a:off x="4829040" y="3110400"/>
              <a:ext cx="5194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61"/>
            <p:cNvSpPr/>
            <p:nvPr/>
          </p:nvSpPr>
          <p:spPr>
            <a:xfrm>
              <a:off x="5269320" y="2215440"/>
              <a:ext cx="119664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ПЕНЬ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062"/>
            <p:cNvSpPr/>
            <p:nvPr/>
          </p:nvSpPr>
          <p:spPr>
            <a:xfrm flipV="1">
              <a:off x="4312800" y="2512800"/>
              <a:ext cx="0" cy="6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63"/>
            <p:cNvSpPr/>
            <p:nvPr/>
          </p:nvSpPr>
          <p:spPr>
            <a:xfrm>
              <a:off x="3715560" y="1318320"/>
              <a:ext cx="119592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Ё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64"/>
            <p:cNvSpPr/>
            <p:nvPr/>
          </p:nvSpPr>
          <p:spPr>
            <a:xfrm>
              <a:off x="3715560" y="3114000"/>
              <a:ext cx="1195920" cy="11962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СТИ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МИНЕРАЛЬНОЕ ВОЛОКНО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Б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ИЗОЛИТОВОЕ ВОЛ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6" descr="hrizotil"/>
          <p:cNvPicPr/>
          <p:nvPr/>
        </p:nvPicPr>
        <p:blipFill>
          <a:blip r:embed="rId1"/>
          <a:stretch/>
        </p:blipFill>
        <p:spPr>
          <a:xfrm>
            <a:off x="4859280" y="1989000"/>
            <a:ext cx="3241800" cy="273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180px-Asbestos2USG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3645000"/>
            <a:ext cx="29527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ВОЛОКНА </a:t>
            </a:r>
            <a:r>
              <a:rPr b="0" i="1" lang="ru-RU" sz="4200" spc="-1" strike="noStrike">
                <a:solidFill>
                  <a:srgbClr val="000000"/>
                </a:solidFill>
                <a:latin typeface="Times New Roman"/>
              </a:rPr>
              <a:t>ХИМИЧЕСКИ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КУС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ко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эфир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в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амид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л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1411"/>
                </a:solidFill>
                <a:latin typeface="Times New Roman"/>
              </a:rPr>
              <a:t>Получение капро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(полиамидное волок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 – ОН      Н         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/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6- аминогексановая  кисл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капрол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91411"/>
                </a:solidFill>
                <a:latin typeface="Arial"/>
              </a:rPr>
              <a:t>(- 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 – (СН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5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– С  – )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n                                                                                                             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914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91411"/>
                </a:solidFill>
                <a:latin typeface="Arial"/>
              </a:rPr>
              <a:t>  |</a:t>
            </a:r>
            <a:r>
              <a:rPr b="0" lang="en-US" sz="2000" spc="-1" strike="noStrike">
                <a:solidFill>
                  <a:srgbClr val="8914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914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91411"/>
                </a:solidFill>
                <a:latin typeface="Arial"/>
              </a:rPr>
              <a:t>||</a:t>
            </a:r>
            <a:r>
              <a:rPr b="0" lang="ru-RU" sz="1800" spc="-1" strike="noStrike">
                <a:solidFill>
                  <a:srgbClr val="891411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бщ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11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891411"/>
                </a:solidFill>
                <a:latin typeface="Arial"/>
              </a:rPr>
              <a:t>H                            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кап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98764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3059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"/>
          <p:cNvSpPr/>
          <p:nvPr/>
        </p:nvSpPr>
        <p:spPr>
          <a:xfrm>
            <a:off x="68436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611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684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0"/>
          <p:cNvSpPr/>
          <p:nvPr/>
        </p:nvSpPr>
        <p:spPr>
          <a:xfrm>
            <a:off x="7164360" y="292428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1"/>
          <p:cNvSpPr/>
          <p:nvPr/>
        </p:nvSpPr>
        <p:spPr>
          <a:xfrm>
            <a:off x="723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2"/>
          <p:cNvSpPr/>
          <p:nvPr/>
        </p:nvSpPr>
        <p:spPr>
          <a:xfrm flipV="1">
            <a:off x="7236000" y="3500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им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лимеры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ысокомолекулярные соединения, состоящие из множест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аковых структурных звен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1411"/>
                </a:solidFill>
                <a:latin typeface="Times New Roman"/>
              </a:rPr>
              <a:t>Получение лавс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(полиэфирное волок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–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СООН + 2НО–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О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  <a:ea typeface="Times New Roman"/>
              </a:rPr>
              <a:t>Терефталевая кислота          этиленглик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ОС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СОО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ОН+2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лавсан (сложный эфир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(– С – С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 – С – О – СН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– СН</a:t>
            </a:r>
            <a:r>
              <a:rPr b="1" lang="ru-RU" sz="2800" spc="-1" strike="noStrike" baseline="-25000">
                <a:solidFill>
                  <a:srgbClr val="891411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– О – )</a:t>
            </a:r>
            <a:r>
              <a:rPr b="1" lang="en-US" sz="2800" spc="-1" strike="noStrike" baseline="-25000">
                <a:solidFill>
                  <a:srgbClr val="891411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||                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||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бщая формула лав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14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О                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ВОЙСТВА ИСКУССТВЕННЫХ    ВОЛОКО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итывают влагу хуже, чем хлоп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двержены воздействию бактерий и плесневых гри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СИНТЕТИЧЕСКИХ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ОЛОКО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пр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ойчивы к истир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хо впитывают вла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яться высокой темп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апливают статическое электр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f1005"/>
                </a:solidFill>
                <a:latin typeface="Times New Roman"/>
              </a:rPr>
              <a:t>Области применения и усовершенствование волокон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рсть служит хорошим сырьем для получения текстильных изделий. Нередко ее используют в смеси с каким-нибудь химическим волокном, чтобы улучшить прочность изделия и его моющие свойства, а также для снижения ц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4" descr="viskoza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5" descr="thread_005"/>
          <p:cNvPicPr/>
          <p:nvPr/>
        </p:nvPicPr>
        <p:blipFill>
          <a:blip r:embed="rId2"/>
          <a:stretch/>
        </p:blipFill>
        <p:spPr>
          <a:xfrm>
            <a:off x="755640" y="4149720"/>
            <a:ext cx="331164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46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56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57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07 2.77393E-007 L 5.55556E-006 2.77393E-007 E">
                                      <p:cBhvr>
                                        <p:cTn id="566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происхождению полимеры делятся на </a:t>
            </a: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природные и синтетическ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96472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ные полимеры – это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туральный каучук, крахмал, целлюлоз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, нуклеиновые кисл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nk3D"/>
          <p:cNvPicPr/>
          <p:nvPr/>
        </p:nvPicPr>
        <p:blipFill>
          <a:blip r:embed="rId1"/>
          <a:stretch/>
        </p:blipFill>
        <p:spPr>
          <a:xfrm>
            <a:off x="6400800" y="3200400"/>
            <a:ext cx="2124000" cy="2160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7380360" y="609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8P24JJCA8F3BQ1CAPM3DA1CAIVPF7FCAEEQ10CCAJQWFL1CAQ5MGYFCAW4D7BUCATV0XMWCALX1CK6CABYAALWCAZKU728CAU7EQVQCAY4O72JCA2S1JEFCAU6KKZQCAKLKGI2CAOAJ9KPCAHCFTVVCA5L1F17"/>
          <p:cNvPicPr/>
          <p:nvPr/>
        </p:nvPicPr>
        <p:blipFill>
          <a:blip r:embed="rId2"/>
          <a:stretch/>
        </p:blipFill>
        <p:spPr>
          <a:xfrm>
            <a:off x="1219320" y="4114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900000" y="6338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белок"/>
          <p:cNvPicPr/>
          <p:nvPr/>
        </p:nvPicPr>
        <p:blipFill>
          <a:blip r:embed="rId3"/>
          <a:stretch/>
        </p:blipFill>
        <p:spPr>
          <a:xfrm>
            <a:off x="4038480" y="4114800"/>
            <a:ext cx="1800360" cy="1512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3995640" y="6338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7760" y="190476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интетические полимеры – это многочисленные пластмассы, волокна, каучу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ic182"/>
          <p:cNvPicPr/>
          <p:nvPr/>
        </p:nvPicPr>
        <p:blipFill>
          <a:blip r:embed="rId1"/>
          <a:stretch/>
        </p:blipFill>
        <p:spPr>
          <a:xfrm>
            <a:off x="990720" y="3720960"/>
            <a:ext cx="2792160" cy="2886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ткани с люрексом"/>
          <p:cNvPicPr/>
          <p:nvPr/>
        </p:nvPicPr>
        <p:blipFill>
          <a:blip r:embed="rId2"/>
          <a:stretch/>
        </p:blipFill>
        <p:spPr>
          <a:xfrm>
            <a:off x="4800600" y="3505320"/>
            <a:ext cx="338616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стмасс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материалы, полученные на основе полимеров, способные приобретать заданную форму при изготовлении изделия и сохранять ее в процессе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09480" y="16765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Пластм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ержи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олимер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амый важный компонен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расител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идают материалу цве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полните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еспечивают жесткость пластмасс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ластификаторы</a:t>
            </a:r>
            <a:r>
              <a:rPr b="1" i="1" lang="ru-RU" sz="2800" spc="-1" strike="noStrike">
                <a:solidFill>
                  <a:srgbClr val="8914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елают материал более эластичным, гибким)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Классификация пластмасс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происхож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a0c6ba"/>
              </a:gs>
              <a:gs pos="50000">
                <a:srgbClr val="ffffff"/>
              </a:gs>
              <a:gs pos="100000">
                <a:srgbClr val="a0c6b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172200" y="3124080"/>
            <a:ext cx="2743200" cy="685800"/>
          </a:xfrm>
          <a:prstGeom prst="rect">
            <a:avLst/>
          </a:prstGeom>
          <a:gradFill rotWithShape="0">
            <a:gsLst>
              <a:gs pos="0">
                <a:srgbClr val="a0c6ba"/>
              </a:gs>
              <a:gs pos="50000">
                <a:srgbClr val="ffffff"/>
              </a:gs>
              <a:gs pos="100000">
                <a:srgbClr val="a0c6b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38862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тур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уч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324480" y="396252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Ф пол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ет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уч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a0c6ba"/>
              </a:gs>
              <a:gs pos="50000">
                <a:srgbClr val="ffffff"/>
              </a:gs>
              <a:gs pos="100000">
                <a:srgbClr val="a0c6b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искус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3733920" y="4419720"/>
            <a:ext cx="1904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луло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етат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6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6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6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96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96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96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46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46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46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96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Классификация пластмасс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1411"/>
                </a:solidFill>
                <a:latin typeface="Arial"/>
              </a:rPr>
              <a:t>форме макромоле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>
            <a:hlinkClick r:id="rId1" action="ppaction://hlinksldjump"/>
          </p:cNvPr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ffffff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91411"/>
                </a:solidFill>
                <a:latin typeface="Arial"/>
              </a:rPr>
              <a:t>лине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248520" y="312408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ffffff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91411"/>
                </a:solidFill>
                <a:latin typeface="Arial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2895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 (Н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проп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24480" y="39625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Ф пол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50532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ffffff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91411"/>
                </a:solidFill>
                <a:latin typeface="Arial"/>
              </a:rPr>
              <a:t>развет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429000" y="434340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 (В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ет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уч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6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6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6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96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6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96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96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960"/>
                            </p:stCondLst>
                            <p:childTnLst>
                              <p:par>
                                <p:cTn id="2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96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96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Форма макромолекул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hm211"/>
          <p:cNvPicPr/>
          <p:nvPr/>
        </p:nvPicPr>
        <p:blipFill>
          <a:blip r:embed="rId1"/>
          <a:stretch/>
        </p:blipFill>
        <p:spPr>
          <a:xfrm>
            <a:off x="1055520" y="1828800"/>
            <a:ext cx="351180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m213"/>
          <p:cNvPicPr/>
          <p:nvPr/>
        </p:nvPicPr>
        <p:blipFill>
          <a:blip r:embed="rId2"/>
          <a:stretch/>
        </p:blipFill>
        <p:spPr>
          <a:xfrm>
            <a:off x="1219320" y="1905120"/>
            <a:ext cx="3378240" cy="386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6" descr="hm261"/>
          <p:cNvPicPr/>
          <p:nvPr/>
        </p:nvPicPr>
        <p:blipFill>
          <a:blip r:embed="rId3"/>
          <a:stretch/>
        </p:blipFill>
        <p:spPr>
          <a:xfrm>
            <a:off x="5105520" y="1828800"/>
            <a:ext cx="3416040" cy="39625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2666880" y="60199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Линей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Форма макромолекул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5800" y="541008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Разветвлен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hm262"/>
          <p:cNvPicPr/>
          <p:nvPr/>
        </p:nvPicPr>
        <p:blipFill>
          <a:blip r:embed="rId1"/>
          <a:stretch/>
        </p:blipFill>
        <p:spPr>
          <a:xfrm>
            <a:off x="990720" y="2057400"/>
            <a:ext cx="30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m263"/>
          <p:cNvPicPr/>
          <p:nvPr/>
        </p:nvPicPr>
        <p:blipFill>
          <a:blip r:embed="rId2"/>
          <a:stretch/>
        </p:blipFill>
        <p:spPr>
          <a:xfrm>
            <a:off x="4419720" y="2057400"/>
            <a:ext cx="441936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9"/>
          <p:cNvSpPr/>
          <p:nvPr/>
        </p:nvSpPr>
        <p:spPr>
          <a:xfrm>
            <a:off x="4724280" y="5486400"/>
            <a:ext cx="381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Пространствен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20-05-17T15:51:1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