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6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BB8-3BDD-4E4B-96C3-00EC82E3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A42-F1B0-42FA-82DC-86644F5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3E6-D39E-4005-A51F-6F67DBC8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5A7-E4DA-4A2E-B551-08CEDE14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7DF-2014-4055-8980-4D0AEA4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850E-2E69-4FAD-A761-3AA4E607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E20-AD3B-4524-8C9F-F7B9EA8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16D4-37DA-48E3-A462-EEB5256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8355-847E-4FE1-8252-F5A4F8F2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B41-692B-4437-8ED0-BA0DE60C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1378-6899-4234-8D1B-04B0F12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E62-2C9E-4F1B-969A-4BC313B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1CEA-BD54-410B-BB06-A00B0D4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253-80E8-401F-BB24-B22AB16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509E-88CE-4A91-B208-31A2450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B60A-5513-4B8E-AC72-38FE8FA8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AB6-2CE4-4B4C-AFC6-4968ECDC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ECA1-D4B1-4D10-8FE9-C6E8A5FB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DA52-5969-47C4-9801-13DFBD4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826C-9A27-4768-BAEB-BC05890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0875-52FA-4885-B962-1B49E65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FC3C-38ED-484D-BC85-FF51D03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EC8-FEBE-41A9-95E4-FC0CB51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C7FF-D2FF-4159-AB04-AB6D10ED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DD34-45BB-459C-8F73-DA93180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CC9D-FBE8-4A39-AA38-55C5A31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B973-535A-4993-8A5C-7A6969E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11CA-405C-4903-88B0-AA9569DD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2AA1-7635-4803-961D-4421EAE5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1BAC-6EB3-4CF8-B2F1-6FD0DC9F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662-2550-4DAE-9B0C-DD35844A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DFE-EB24-468C-8CEB-639DBA8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B2C-C272-46E1-8A53-4DDDC2D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9FD-4CC3-4E22-AB0C-FC519A7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E50-C34C-47C4-8248-18FAABF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12D-F437-4F77-8235-8D89D8E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3C0D-3368-4FE9-8D9C-B2C02AFA45E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E553-2E05-4625-A130-D345ECEA48B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FB9-757B-42EB-8B5C-8DDD567EC2E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:\СВЕТЛАНА\Наглядные пособия\Процесс работы\декоративная работа\В квадрате\построение квадрата\12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:\СВЕТЛАНА\Рисунки\Рамки\bar10.gif"/>
          <p:cNvPicPr/>
          <p:nvPr/>
        </p:nvPicPr>
        <p:blipFill>
          <a:blip r:embed="rId3"/>
          <a:stretch/>
        </p:blipFill>
        <p:spPr>
          <a:xfrm>
            <a:off x="0" y="6435720"/>
            <a:ext cx="91440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371520" y="195120"/>
            <a:ext cx="8596440" cy="1262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СВЕТЛАНА\Наглядные пособия\Процесс работы\декоративная работа\В квадрате\построение квадрата\9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СВЕТЛАНА\Наглядные пособия\Процесс работы\декоративная работа\В квадрате\построение квадрата\10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СВЕТЛАНА\Наглядные пособия\Процесс работы\декоративная работа\В квадрате\построение квадрата\11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D:\СВЕТЛАНА\Наглядные пособия\Процесс работы\декоративная работа\В квадрате\построение квадрата\12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I:\Users\Сергей\Pictures\построение квадрата\1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Users\Сергей\Pictures\построение квадрата\2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71520" y="262080"/>
            <a:ext cx="8577360" cy="116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I:\Users\Сергей\Pictures\построение квадрата\3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559720" cy="126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I:\Users\Сергей\Pictures\построение квадрата\4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I:\Users\Сергей\Pictures\построение квадрата\5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I:\Users\Сергей\Pictures\построение квадрата\6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I:\Users\Сергей\Pictures\построение квадрата\7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D:\СВЕТЛАНА\Наглядные пособия\Процесс работы\декоративная работа\В квадрате\построение квадрата\8.jpg"/>
          <p:cNvPicPr/>
          <p:nvPr/>
        </p:nvPicPr>
        <p:blipFill>
          <a:blip r:embed="rId2"/>
          <a:stretch/>
        </p:blipFill>
        <p:spPr>
          <a:xfrm>
            <a:off x="1635120" y="1600200"/>
            <a:ext cx="587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User-2019</cp:lastModifiedBy>
  <dcterms:modified xsi:type="dcterms:W3CDTF">2020-05-17T11:24:53Z</dcterms:modified>
  <cp:revision>18</cp:revision>
  <dc:subject/>
  <dc:title>Рисование  геометрического орнамента в квадрате</dc:title>
</cp:coreProperties>
</file>