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855-4466-453E-AF3C-B3D4160D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D4F-B211-44F6-B653-CD33E558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C4EFE-4821-4C1F-A088-B3575E12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E90DB-71A9-4804-889C-20B8A155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FCD0C-970F-44DB-8358-0E72A792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A7FF2-2C7A-4C96-8FAD-A141060C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E0A84-924B-436C-94E9-3BD4698E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8AF2C-69DD-4DD8-9712-D5869797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3320A-4907-40AF-9B08-A2B01779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A95DA-A5E6-4FBF-AB43-7B998B52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9FD51-3376-4A67-B7A0-0ECAD04C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9C6EA-2F04-4E00-BBAD-0A59D66B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F00-79EC-4660-868F-476F42C3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45873-72A4-496A-BD80-476AC2E4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CB53C-3799-4858-A02F-90B852AC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DC905-FF80-4E33-A60E-97BC17D3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7CC72-908A-4AD7-95D5-D2A6C854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0B6D5-FAF1-4289-84C1-F96B034C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5C157-3507-4DA0-940C-36722919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334DB-4B71-4A76-84E8-BBACA35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F3D1B-3F7F-46D1-B939-37C8F430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71011-1674-4407-B8B0-E2061719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D0197-BBF2-4EC9-A77D-3B646262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5D0-DA36-41DB-8A34-6AA92331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98415-D09A-413B-A3E5-D6CDCCE0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EED34-9576-441B-9A97-50367476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FA77F-0BA4-4E43-9D5A-25EE5685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E8B2A-F7CB-47C9-9530-E2EEB201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CA32B-9289-4AC7-8C4E-0A946E55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AAEFF-6479-448D-A5AA-544691AA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A6A66-928B-4FBC-9611-33ADA2C8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62ABA-BB46-4D81-A8D2-2EA5FB05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6B26A-E174-48ED-ABDB-4F82F3B6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5483A-B58A-419B-AEAA-CCE79348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C742-9648-4B8D-9FDE-106C8281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333DD-3801-4C0A-A867-37CD87D6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21E9E-93DC-4E83-9F5E-2F81F10A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D9D72-E6FD-49EB-B5E0-B5AD1867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FD0A5-CDB6-42DD-A4E1-82A90D14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37E6E-985B-4B8F-8D99-0B287276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AE83D-1868-4F22-BDCD-B7A2BC98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6701F-CB82-4692-86BB-5728419D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940E2-92D4-4404-88AD-2C130DCA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047C4-E355-4A46-865F-714B998E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32B61-6279-43B7-BDC1-849FBFFA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D7FB-C8B7-404A-9EEC-89CD0BD6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515BF-2CF5-4879-BDD0-7206969F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3E478-4240-4119-BD4B-4D4CFF88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5FCA5-FAEC-4E71-A0D2-1EFDEF07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00BEA-A1EC-4F05-95E8-60AA2D76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DD5B5-0A8E-42D5-807D-F992DF93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6A6B3-18C4-452F-85A5-9A400677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42D8B-8212-4D16-A344-E4261BD9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F02D7-0EBE-4B57-8AD4-FEC2A7D3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A5E58-EDB9-4FB0-BDC0-7237B0A1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4E288-C08E-46B3-AE60-D9831D82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87D2-BD87-436F-9505-9BD5AF81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5D95D-EDEE-4010-8097-48FD40E6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2EC26-285C-4170-8DFB-03D2E930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268E5-56D9-4C38-BD83-90843B4D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DD240-7607-4BEF-8FF2-2BF59D8E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E3534-62B7-4457-B5CA-331A831C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F9ABD-88C2-45A1-87AB-B25AAF77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A68FA-99D8-4B0D-B938-5DFC8DBD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7851-2ACA-463E-8D8D-E2BDD99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3B8C-5B78-48EE-8AA8-E41CC4D8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AA73-4260-4060-9725-D1F9EFE6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5B0E-0DF0-4DD1-827C-C4E68E31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7EE-C515-497B-94D5-83005D0C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360E-AB3C-46A4-9E63-C49E86C0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CC92-D0E5-4163-9EF7-EB1AD236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2ABB-B675-429A-92EC-9B3214DE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7796-170C-46C3-B4C7-EB39E21F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0426-47CD-499E-8780-D95A177D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3E73-DE51-406B-9B7B-58CF2C26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4FC0-9FB8-4596-9E0A-406E8EC8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452E-9B72-40B3-AB3E-E4001E27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064B9-51AC-4322-BC89-481D8E5E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FAF4-8936-4EF9-B261-40CCAFB0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877-2EE1-4510-8B99-35DE39DA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037B2-7112-4C75-AD12-4EAB3D99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9CCD-AF4C-49FA-BC86-DFF86C8A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0509-5AB0-4ABB-BF6A-DC5B6F49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826F-E2F7-4E53-8354-301CE974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3C17-25E4-4AA5-A443-34EAAD63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D464-F36D-443B-8E00-CBE5DD87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6486-BCF1-4A92-9853-72A04224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D400E-F497-4E11-AC05-368C9779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5896A-4634-4B9F-A45B-17EEF5C1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02D2E-0195-479A-92A5-46C6CF10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3C5-5867-4CAA-8ACE-278E807B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6E2E0-96CB-4A71-852B-187CB446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90340-5D44-409D-802F-D6611E4A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9F8B-8F47-4F63-9CC3-6F25AF88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95C87-1CF2-4394-BA0E-A467D350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095B1-6DD7-43D3-8966-265F57BD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EB844-4449-488D-A790-EF4A0965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D9A6C-7C9F-4DCF-B8E7-06F81D64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A1DAA-DEDC-4555-A1B8-53FB2DA1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F6C3A-FAD0-43C9-8F93-26C66460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F28B4-75C7-4BC4-842D-4ED2F134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B66-53B8-431A-9934-64087609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9A4B9-AC95-4785-ACE2-9F69192A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311EB-00F6-479D-9DAA-5036B8D9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5AD55-5690-4705-A776-31E1E10F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74E59-7E83-43D9-8682-247A921C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BB774-5B1C-4019-9434-04E0DA73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3FDD9-0997-4859-9716-8466DA16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66963-E972-4F33-9F8B-2929B182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D4D9C-7964-4ACC-80CE-4EDE4A74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39F51-B73A-4BA5-99FE-3DD98B03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380DA-6B7C-4A7D-8C7B-2663A2E9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78E-32EE-49C7-A921-2BD3F15B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D7921-913D-4916-9000-DF73769E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C52D6-1A48-4C60-80F2-BB680247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ABCE-78AC-4DE2-B93C-666E17BC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718D2-3334-4115-99DF-E92D647A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DAE69-619B-44F7-A780-8EF67FAD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6EB72-2AA9-4C8A-A6E2-0A24723C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F6FFF-7DEE-4094-B0B7-1F49D6E4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20840-35D0-4633-9E3E-85A1B57D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ED075-64C8-4FC3-B133-1767157D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8255E-DC2A-4A48-B073-87725DDC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716-F72F-4EF6-AA3A-22DAAC4E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A584B-682F-48B7-90D7-C0DA553D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B9A6E-CBED-4FD2-97E8-CF929F0C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80C8-D9F1-4295-8461-16420A96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50F50-9D96-40D7-90E0-A927C6C1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D2FF8-1595-4121-9916-29DB8650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05751-081A-4B8C-8523-B1A2D732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2E43A-7361-48DF-A233-1E1197E0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10E88-B9AA-424A-AADE-FC3EB155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35651-B187-4A63-B68F-898E9892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FF9C0-B08D-4C80-BD54-4887A908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522-8CB0-4F8D-98B8-46C8D882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DCDA8-FFF9-4BA4-B9E9-39AC9BAB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94F08-DDD8-4C20-9911-E5C3EB45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18E56-F6F0-4BAC-B067-907F5628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C5D21-B706-4553-B088-3FEDE71D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DAB02-A095-46A6-9615-074EE9BD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B9121-BE9B-441D-BB6B-299332B1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56060-3B8A-42B6-936E-D6D96A85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1AEB9-726B-41E1-9B6B-9485A868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92FDD-4F46-4190-B393-988D6EF6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96092-EE11-4245-B745-981C72EB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49B-656E-4570-8E0C-B532BE9B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582560" y="302760"/>
            <a:ext cx="8266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E15F7-0EC6-4ADE-A5BE-36FD55A9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A03EE-6AE2-44A1-8413-06FE146B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C9321-C633-4698-A471-B186BB4E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F5BBB-CEE3-4810-A607-1F45F741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582560" y="4359960"/>
            <a:ext cx="8266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0BAA3-03DD-4E68-86D2-83B1E076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818320" y="159552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58256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818320" y="4359960"/>
            <a:ext cx="403380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FAD87-393D-4EA6-AA50-EA5E58EA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37760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72280" y="159552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58256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37760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7172280" y="4359960"/>
            <a:ext cx="266148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167D9-FABD-43C9-85D3-F6D5D52D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4AC98-F98B-4C7A-BE41-C736EEDD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1BF89-3B91-4E33-BD6D-CA66F6B0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56061-E7F1-4542-830D-2D68E3B3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510A1-FC28-4C65-A6C7-670EABF28FA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704880" indent="-26208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976320" indent="-25092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19044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4" marL="1430280" indent="-1998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5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6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3947760" y="6949800"/>
            <a:ext cx="235260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6300720" y="6949800"/>
            <a:ext cx="31924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9496440" y="6949800"/>
            <a:ext cx="5032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961BF3-53D7-4A2A-913A-DDAD702331BE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Прямоугольник 12"/>
          <p:cNvGrpSpPr/>
          <p:nvPr/>
        </p:nvGrpSpPr>
        <p:grpSpPr>
          <a:xfrm>
            <a:off x="731880" y="1085760"/>
            <a:ext cx="5267160" cy="5265720"/>
            <a:chOff x="731880" y="1085760"/>
            <a:chExt cx="5267160" cy="5265720"/>
          </a:xfrm>
        </p:grpSpPr>
        <p:pic>
          <p:nvPicPr>
            <p:cNvPr id="458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731880" y="1085760"/>
              <a:ext cx="5267160" cy="52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839880" y="1176480"/>
              <a:ext cx="5040360" cy="50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302400" bIns="50400" anchor="t">
              <a:noAutofit/>
            </a:bodyPr>
            <a:p>
              <a:pPr>
                <a:lnSpc>
                  <a:spcPts val="3311"/>
                </a:lnSpc>
                <a:spcBef>
                  <a:spcPts val="663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Блок-схема: процесс 13"/>
          <p:cNvSpPr/>
          <p:nvPr/>
        </p:nvSpPr>
        <p:spPr>
          <a:xfrm rot="19468200">
            <a:off x="437760" y="1052280"/>
            <a:ext cx="755640" cy="22536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Блок-схема: процесс 15"/>
          <p:cNvSpPr/>
          <p:nvPr/>
        </p:nvSpPr>
        <p:spPr>
          <a:xfrm flipH="1" rot="2103600">
            <a:off x="5515920" y="1031400"/>
            <a:ext cx="716040" cy="2260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704880" indent="-26208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976320" indent="-25092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19044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4" marL="1430280" indent="-1998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5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6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3947760" y="6949800"/>
            <a:ext cx="235260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6300720" y="6949800"/>
            <a:ext cx="31924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9496440" y="6949800"/>
            <a:ext cx="5032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5000AD-7535-479C-95C0-D3EDACA12CFA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ирог 6"/>
          <p:cNvSpPr/>
          <p:nvPr/>
        </p:nvSpPr>
        <p:spPr>
          <a:xfrm>
            <a:off x="-900000" y="-900000"/>
            <a:ext cx="1807920" cy="1806480"/>
          </a:xfrm>
          <a:custGeom>
            <a:avLst/>
            <a:gdLst/>
            <a:ahLst/>
            <a:rect l="l" t="t" r="r" b="b"/>
            <a:pathLst>
              <a:path w="1806759" h="1806569">
                <a:moveTo>
                  <a:pt x="1806759" y="903285"/>
                </a:moveTo>
                <a:cubicBezTo>
                  <a:pt x="1806759" y="1142964"/>
                  <a:pt x="1711492" y="1372817"/>
                  <a:pt x="1541935" y="1542234"/>
                </a:cubicBezTo>
                <a:cubicBezTo>
                  <a:pt x="1372401" y="1711628"/>
                  <a:pt x="1142494" y="1806717"/>
                  <a:pt x="902822" y="1806569"/>
                </a:cubicBezTo>
                <a:lnTo>
                  <a:pt x="903380" y="903285"/>
                </a:lnTo>
                <a:lnTo>
                  <a:pt x="1806759" y="903285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Овал 7"/>
          <p:cNvSpPr/>
          <p:nvPr/>
        </p:nvSpPr>
        <p:spPr>
          <a:xfrm>
            <a:off x="185760" y="23760"/>
            <a:ext cx="1876320" cy="18763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Кольцо 10"/>
          <p:cNvGrpSpPr/>
          <p:nvPr/>
        </p:nvGrpSpPr>
        <p:grpSpPr>
          <a:xfrm>
            <a:off x="189000" y="1152360"/>
            <a:ext cx="1274760" cy="1266840"/>
            <a:chOff x="189000" y="1152360"/>
            <a:chExt cx="1274760" cy="1266840"/>
          </a:xfrm>
        </p:grpSpPr>
        <p:pic>
          <p:nvPicPr>
            <p:cNvPr id="50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89000" y="1152360"/>
              <a:ext cx="12747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 rot="2315400">
              <a:off x="382320" y="1341000"/>
              <a:ext cx="8776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8" name="Прямоугольник 11"/>
          <p:cNvSpPr/>
          <p:nvPr/>
        </p:nvSpPr>
        <p:spPr>
          <a:xfrm>
            <a:off x="1116000" y="0"/>
            <a:ext cx="8964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14"/>
          <p:cNvSpPr/>
          <p:nvPr/>
        </p:nvSpPr>
        <p:spPr>
          <a:xfrm>
            <a:off x="1119240" y="0"/>
            <a:ext cx="810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704880" indent="-26208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976320" indent="-25092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19044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4" marL="1430280" indent="-1998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5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6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4"/>
          </p:nvPr>
        </p:nvSpPr>
        <p:spPr>
          <a:xfrm>
            <a:off x="3947760" y="6949800"/>
            <a:ext cx="235260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5"/>
          </p:nvPr>
        </p:nvSpPr>
        <p:spPr>
          <a:xfrm>
            <a:off x="6300720" y="6949800"/>
            <a:ext cx="31924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6"/>
          </p:nvPr>
        </p:nvSpPr>
        <p:spPr>
          <a:xfrm>
            <a:off x="9496440" y="6949800"/>
            <a:ext cx="5032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3DCA5C-E93A-4C3F-9CFD-4D297514407E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ирог 6"/>
          <p:cNvSpPr/>
          <p:nvPr/>
        </p:nvSpPr>
        <p:spPr>
          <a:xfrm>
            <a:off x="-900000" y="-900000"/>
            <a:ext cx="1807920" cy="1806480"/>
          </a:xfrm>
          <a:custGeom>
            <a:avLst/>
            <a:gdLst/>
            <a:ahLst/>
            <a:rect l="l" t="t" r="r" b="b"/>
            <a:pathLst>
              <a:path w="1806759" h="1806569">
                <a:moveTo>
                  <a:pt x="1806759" y="903285"/>
                </a:moveTo>
                <a:cubicBezTo>
                  <a:pt x="1806759" y="1142964"/>
                  <a:pt x="1711492" y="1372817"/>
                  <a:pt x="1541935" y="1542234"/>
                </a:cubicBezTo>
                <a:cubicBezTo>
                  <a:pt x="1372401" y="1711628"/>
                  <a:pt x="1142494" y="1806717"/>
                  <a:pt x="902822" y="1806569"/>
                </a:cubicBezTo>
                <a:lnTo>
                  <a:pt x="903380" y="903285"/>
                </a:lnTo>
                <a:lnTo>
                  <a:pt x="1806759" y="903285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Овал 7"/>
          <p:cNvSpPr/>
          <p:nvPr/>
        </p:nvSpPr>
        <p:spPr>
          <a:xfrm>
            <a:off x="185760" y="23760"/>
            <a:ext cx="1876320" cy="18763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Кольцо 10"/>
          <p:cNvGrpSpPr/>
          <p:nvPr/>
        </p:nvGrpSpPr>
        <p:grpSpPr>
          <a:xfrm>
            <a:off x="189000" y="1152360"/>
            <a:ext cx="1274760" cy="1266840"/>
            <a:chOff x="189000" y="1152360"/>
            <a:chExt cx="1274760" cy="1266840"/>
          </a:xfrm>
        </p:grpSpPr>
        <p:pic>
          <p:nvPicPr>
            <p:cNvPr id="55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89000" y="1152360"/>
              <a:ext cx="12747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2315400">
              <a:off x="382320" y="1341000"/>
              <a:ext cx="8776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Прямоугольник 11"/>
          <p:cNvSpPr/>
          <p:nvPr/>
        </p:nvSpPr>
        <p:spPr>
          <a:xfrm>
            <a:off x="1116000" y="0"/>
            <a:ext cx="8964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Прямоугольник 14"/>
          <p:cNvSpPr/>
          <p:nvPr/>
        </p:nvSpPr>
        <p:spPr>
          <a:xfrm>
            <a:off x="1119240" y="0"/>
            <a:ext cx="810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704880" indent="-26208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976320" indent="-25092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19044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4" marL="1430280" indent="-1998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5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6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3947760" y="6949800"/>
            <a:ext cx="235260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8"/>
          </p:nvPr>
        </p:nvSpPr>
        <p:spPr>
          <a:xfrm>
            <a:off x="6300720" y="6949800"/>
            <a:ext cx="31924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9"/>
          </p:nvPr>
        </p:nvSpPr>
        <p:spPr>
          <a:xfrm>
            <a:off x="9496440" y="6949800"/>
            <a:ext cx="5032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8A6D04-B1C9-4EC3-980C-3BE2C69DA1B4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Пирог 6"/>
          <p:cNvSpPr/>
          <p:nvPr/>
        </p:nvSpPr>
        <p:spPr>
          <a:xfrm>
            <a:off x="-900000" y="-900000"/>
            <a:ext cx="1807920" cy="1806480"/>
          </a:xfrm>
          <a:custGeom>
            <a:avLst/>
            <a:gdLst/>
            <a:ahLst/>
            <a:rect l="l" t="t" r="r" b="b"/>
            <a:pathLst>
              <a:path w="1806759" h="1806569">
                <a:moveTo>
                  <a:pt x="1806759" y="903285"/>
                </a:moveTo>
                <a:cubicBezTo>
                  <a:pt x="1806759" y="1142964"/>
                  <a:pt x="1711492" y="1372817"/>
                  <a:pt x="1541935" y="1542234"/>
                </a:cubicBezTo>
                <a:cubicBezTo>
                  <a:pt x="1372401" y="1711628"/>
                  <a:pt x="1142494" y="1806717"/>
                  <a:pt x="902822" y="1806569"/>
                </a:cubicBezTo>
                <a:lnTo>
                  <a:pt x="903380" y="903285"/>
                </a:lnTo>
                <a:lnTo>
                  <a:pt x="1806759" y="903285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Овал 7"/>
          <p:cNvSpPr/>
          <p:nvPr/>
        </p:nvSpPr>
        <p:spPr>
          <a:xfrm>
            <a:off x="185760" y="23760"/>
            <a:ext cx="1876320" cy="18763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Кольцо 10"/>
          <p:cNvGrpSpPr/>
          <p:nvPr/>
        </p:nvGrpSpPr>
        <p:grpSpPr>
          <a:xfrm>
            <a:off x="189000" y="1152360"/>
            <a:ext cx="1274760" cy="1266840"/>
            <a:chOff x="189000" y="1152360"/>
            <a:chExt cx="1274760" cy="1266840"/>
          </a:xfrm>
        </p:grpSpPr>
        <p:pic>
          <p:nvPicPr>
            <p:cNvPr id="60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89000" y="1152360"/>
              <a:ext cx="12747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 rot="2315400">
              <a:off x="382320" y="1341000"/>
              <a:ext cx="8776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" name="Прямоугольник 11"/>
          <p:cNvSpPr/>
          <p:nvPr/>
        </p:nvSpPr>
        <p:spPr>
          <a:xfrm>
            <a:off x="1116000" y="0"/>
            <a:ext cx="8964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Прямоугольник 14"/>
          <p:cNvSpPr/>
          <p:nvPr/>
        </p:nvSpPr>
        <p:spPr>
          <a:xfrm>
            <a:off x="1119240" y="0"/>
            <a:ext cx="810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704880" indent="-26208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976320" indent="-25092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19044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4" marL="1430280" indent="-1998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5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6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900000" y="-900000"/>
            <a:ext cx="1807920" cy="1806480"/>
          </a:xfrm>
          <a:custGeom>
            <a:avLst/>
            <a:gdLst/>
            <a:ahLst/>
            <a:rect l="l" t="t" r="r" b="b"/>
            <a:pathLst>
              <a:path w="1806759" h="1806569">
                <a:moveTo>
                  <a:pt x="1806759" y="903285"/>
                </a:moveTo>
                <a:cubicBezTo>
                  <a:pt x="1806759" y="1142964"/>
                  <a:pt x="1711492" y="1372817"/>
                  <a:pt x="1541935" y="1542234"/>
                </a:cubicBezTo>
                <a:cubicBezTo>
                  <a:pt x="1372401" y="1711628"/>
                  <a:pt x="1142494" y="1806717"/>
                  <a:pt x="902822" y="1806569"/>
                </a:cubicBezTo>
                <a:lnTo>
                  <a:pt x="903380" y="903285"/>
                </a:lnTo>
                <a:lnTo>
                  <a:pt x="1806759" y="903285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85760" y="23760"/>
            <a:ext cx="1876320" cy="18763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89000" y="1152360"/>
            <a:ext cx="1274760" cy="1266840"/>
            <a:chOff x="189000" y="1152360"/>
            <a:chExt cx="1274760" cy="126684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89000" y="1152360"/>
              <a:ext cx="12747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82320" y="1341000"/>
              <a:ext cx="8776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116000" y="0"/>
            <a:ext cx="8964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704880" indent="-26208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976320" indent="-25092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19044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4" marL="1430280" indent="-1998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5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6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47760" y="6949800"/>
            <a:ext cx="235260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00720" y="6949800"/>
            <a:ext cx="31924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496440" y="6949800"/>
            <a:ext cx="5032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A56F3A-ACF8-450B-8DED-773585B0C70A}" type="slidenum">
              <a:rPr b="0" lang="ru-RU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119240" y="0"/>
            <a:ext cx="810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900000" y="-900000"/>
            <a:ext cx="1807920" cy="1806480"/>
          </a:xfrm>
          <a:custGeom>
            <a:avLst/>
            <a:gdLst/>
            <a:ahLst/>
            <a:rect l="l" t="t" r="r" b="b"/>
            <a:pathLst>
              <a:path w="1806759" h="1806569">
                <a:moveTo>
                  <a:pt x="1806759" y="903285"/>
                </a:moveTo>
                <a:cubicBezTo>
                  <a:pt x="1806759" y="1142964"/>
                  <a:pt x="1711492" y="1372817"/>
                  <a:pt x="1541935" y="1542234"/>
                </a:cubicBezTo>
                <a:cubicBezTo>
                  <a:pt x="1372401" y="1711628"/>
                  <a:pt x="1142494" y="1806717"/>
                  <a:pt x="902822" y="1806569"/>
                </a:cubicBezTo>
                <a:lnTo>
                  <a:pt x="903380" y="903285"/>
                </a:lnTo>
                <a:lnTo>
                  <a:pt x="1806759" y="903285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85760" y="23760"/>
            <a:ext cx="1876320" cy="18763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89000" y="1152360"/>
            <a:ext cx="1274760" cy="1266840"/>
            <a:chOff x="189000" y="1152360"/>
            <a:chExt cx="1274760" cy="126684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89000" y="1152360"/>
              <a:ext cx="12747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82320" y="1341000"/>
              <a:ext cx="8776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116000" y="0"/>
            <a:ext cx="8964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119240" y="0"/>
            <a:ext cx="810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1017720" y="1560600"/>
            <a:ext cx="237960" cy="237960"/>
            <a:chOff x="1017720" y="1560600"/>
            <a:chExt cx="237960" cy="23796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1017720" y="1560600"/>
              <a:ext cx="2379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049400" y="1592280"/>
              <a:ext cx="16488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276200" y="1482840"/>
            <a:ext cx="69840" cy="698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-720" bIns="-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704880" indent="-26208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976320" indent="-25092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19044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4" marL="1430280" indent="-1998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5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6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947760" y="6949800"/>
            <a:ext cx="235260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6300720" y="6949800"/>
            <a:ext cx="31924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9496440" y="6949800"/>
            <a:ext cx="5032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D9989D-901E-434E-AB72-1F80D9B99FD3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ирог 6"/>
          <p:cNvSpPr/>
          <p:nvPr/>
        </p:nvSpPr>
        <p:spPr>
          <a:xfrm>
            <a:off x="-900000" y="-900000"/>
            <a:ext cx="1807920" cy="1806480"/>
          </a:xfrm>
          <a:custGeom>
            <a:avLst/>
            <a:gdLst/>
            <a:ahLst/>
            <a:rect l="l" t="t" r="r" b="b"/>
            <a:pathLst>
              <a:path w="1806759" h="1806569">
                <a:moveTo>
                  <a:pt x="1806759" y="903285"/>
                </a:moveTo>
                <a:cubicBezTo>
                  <a:pt x="1806759" y="1142964"/>
                  <a:pt x="1711492" y="1372817"/>
                  <a:pt x="1541935" y="1542234"/>
                </a:cubicBezTo>
                <a:cubicBezTo>
                  <a:pt x="1372401" y="1711628"/>
                  <a:pt x="1142494" y="1806717"/>
                  <a:pt x="902822" y="1806569"/>
                </a:cubicBezTo>
                <a:lnTo>
                  <a:pt x="903380" y="903285"/>
                </a:lnTo>
                <a:lnTo>
                  <a:pt x="1806759" y="903285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Овал 7"/>
          <p:cNvSpPr/>
          <p:nvPr/>
        </p:nvSpPr>
        <p:spPr>
          <a:xfrm>
            <a:off x="185760" y="23760"/>
            <a:ext cx="1876320" cy="18763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Кольцо 10"/>
          <p:cNvGrpSpPr/>
          <p:nvPr/>
        </p:nvGrpSpPr>
        <p:grpSpPr>
          <a:xfrm>
            <a:off x="189000" y="1152360"/>
            <a:ext cx="1274760" cy="1266840"/>
            <a:chOff x="189000" y="1152360"/>
            <a:chExt cx="1274760" cy="1266840"/>
          </a:xfrm>
        </p:grpSpPr>
        <p:pic>
          <p:nvPicPr>
            <p:cNvPr id="1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89000" y="1152360"/>
              <a:ext cx="12747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 rot="2315400">
              <a:off x="382320" y="1341000"/>
              <a:ext cx="8776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Прямоугольник 11"/>
          <p:cNvSpPr/>
          <p:nvPr/>
        </p:nvSpPr>
        <p:spPr>
          <a:xfrm>
            <a:off x="1116000" y="0"/>
            <a:ext cx="8964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1119240" y="0"/>
            <a:ext cx="810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704880" indent="-26208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976320" indent="-25092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19044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4" marL="1430280" indent="-1998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5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6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947760" y="6949800"/>
            <a:ext cx="235260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300720" y="6949800"/>
            <a:ext cx="31924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9496440" y="6949800"/>
            <a:ext cx="5032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93D460-75BF-418A-86B5-5FB8E6872DEA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2"/>
          <p:cNvSpPr/>
          <p:nvPr/>
        </p:nvSpPr>
        <p:spPr>
          <a:xfrm>
            <a:off x="2516040" y="0"/>
            <a:ext cx="756144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3"/>
          <p:cNvSpPr/>
          <p:nvPr/>
        </p:nvSpPr>
        <p:spPr>
          <a:xfrm>
            <a:off x="2519280" y="0"/>
            <a:ext cx="8424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Овал 15"/>
          <p:cNvGrpSpPr/>
          <p:nvPr/>
        </p:nvGrpSpPr>
        <p:grpSpPr>
          <a:xfrm>
            <a:off x="2395440" y="3103560"/>
            <a:ext cx="238320" cy="236520"/>
            <a:chOff x="2395440" y="3103560"/>
            <a:chExt cx="238320" cy="236520"/>
          </a:xfrm>
        </p:grpSpPr>
        <p:pic>
          <p:nvPicPr>
            <p:cNvPr id="192" name="Овал 15" descr=""/>
            <p:cNvPicPr/>
            <p:nvPr/>
          </p:nvPicPr>
          <p:blipFill>
            <a:blip r:embed="rId3"/>
            <a:stretch/>
          </p:blipFill>
          <p:spPr>
            <a:xfrm>
              <a:off x="2395440" y="3103560"/>
              <a:ext cx="238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428920" y="3137040"/>
              <a:ext cx="1634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Овал 16"/>
          <p:cNvSpPr/>
          <p:nvPr/>
        </p:nvSpPr>
        <p:spPr>
          <a:xfrm>
            <a:off x="2654280" y="3027240"/>
            <a:ext cx="71280" cy="698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-720" bIns="-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704880" indent="-26208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976320" indent="-25092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19044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4" marL="1430280" indent="-1998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5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6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947760" y="6949800"/>
            <a:ext cx="235260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300720" y="6949800"/>
            <a:ext cx="31924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9496440" y="6949800"/>
            <a:ext cx="5032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DBFD0B-83AA-4BC3-9502-64BE3EDC97E2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ирог 6"/>
          <p:cNvSpPr/>
          <p:nvPr/>
        </p:nvSpPr>
        <p:spPr>
          <a:xfrm>
            <a:off x="-900000" y="-900000"/>
            <a:ext cx="1807920" cy="1806480"/>
          </a:xfrm>
          <a:custGeom>
            <a:avLst/>
            <a:gdLst/>
            <a:ahLst/>
            <a:rect l="l" t="t" r="r" b="b"/>
            <a:pathLst>
              <a:path w="1806759" h="1806569">
                <a:moveTo>
                  <a:pt x="1806759" y="903285"/>
                </a:moveTo>
                <a:cubicBezTo>
                  <a:pt x="1806759" y="1142964"/>
                  <a:pt x="1711492" y="1372817"/>
                  <a:pt x="1541935" y="1542234"/>
                </a:cubicBezTo>
                <a:cubicBezTo>
                  <a:pt x="1372401" y="1711628"/>
                  <a:pt x="1142494" y="1806717"/>
                  <a:pt x="902822" y="1806569"/>
                </a:cubicBezTo>
                <a:lnTo>
                  <a:pt x="903380" y="903285"/>
                </a:lnTo>
                <a:lnTo>
                  <a:pt x="1806759" y="903285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Овал 7"/>
          <p:cNvSpPr/>
          <p:nvPr/>
        </p:nvSpPr>
        <p:spPr>
          <a:xfrm>
            <a:off x="185760" y="23760"/>
            <a:ext cx="1876320" cy="18763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Кольцо 10"/>
          <p:cNvGrpSpPr/>
          <p:nvPr/>
        </p:nvGrpSpPr>
        <p:grpSpPr>
          <a:xfrm>
            <a:off x="189000" y="1152360"/>
            <a:ext cx="1274760" cy="1266840"/>
            <a:chOff x="189000" y="1152360"/>
            <a:chExt cx="1274760" cy="1266840"/>
          </a:xfrm>
        </p:grpSpPr>
        <p:pic>
          <p:nvPicPr>
            <p:cNvPr id="23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89000" y="1152360"/>
              <a:ext cx="12747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rot="2315400">
              <a:off x="382320" y="1341000"/>
              <a:ext cx="8776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Прямоугольник 11"/>
          <p:cNvSpPr/>
          <p:nvPr/>
        </p:nvSpPr>
        <p:spPr>
          <a:xfrm>
            <a:off x="1116000" y="0"/>
            <a:ext cx="8964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14"/>
          <p:cNvSpPr/>
          <p:nvPr/>
        </p:nvSpPr>
        <p:spPr>
          <a:xfrm>
            <a:off x="1119240" y="0"/>
            <a:ext cx="810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704880" indent="-26208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976320" indent="-25092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19044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4" marL="1430280" indent="-1998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5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6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947760" y="6949800"/>
            <a:ext cx="235260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6300720" y="6949800"/>
            <a:ext cx="31924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9496440" y="6949800"/>
            <a:ext cx="5032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6DB543-71C3-469D-99DD-59653F467D1C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704880" indent="-26208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976320" indent="-25092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19044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4" marL="1430280" indent="-1998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5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6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947760" y="6949800"/>
            <a:ext cx="235260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6300720" y="6949800"/>
            <a:ext cx="31924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9496440" y="6949800"/>
            <a:ext cx="5032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EC8539-5689-4463-A00A-2B49900B54AB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ирог 6"/>
          <p:cNvSpPr/>
          <p:nvPr/>
        </p:nvSpPr>
        <p:spPr>
          <a:xfrm>
            <a:off x="-900000" y="-900000"/>
            <a:ext cx="1807920" cy="1806480"/>
          </a:xfrm>
          <a:custGeom>
            <a:avLst/>
            <a:gdLst/>
            <a:ahLst/>
            <a:rect l="l" t="t" r="r" b="b"/>
            <a:pathLst>
              <a:path w="1806759" h="1806569">
                <a:moveTo>
                  <a:pt x="1806759" y="903285"/>
                </a:moveTo>
                <a:cubicBezTo>
                  <a:pt x="1806759" y="1142964"/>
                  <a:pt x="1711492" y="1372817"/>
                  <a:pt x="1541935" y="1542234"/>
                </a:cubicBezTo>
                <a:cubicBezTo>
                  <a:pt x="1372401" y="1711628"/>
                  <a:pt x="1142494" y="1806717"/>
                  <a:pt x="902822" y="1806569"/>
                </a:cubicBezTo>
                <a:lnTo>
                  <a:pt x="903380" y="903285"/>
                </a:lnTo>
                <a:lnTo>
                  <a:pt x="1806759" y="903285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Овал 7"/>
          <p:cNvSpPr/>
          <p:nvPr/>
        </p:nvSpPr>
        <p:spPr>
          <a:xfrm>
            <a:off x="185760" y="23760"/>
            <a:ext cx="1876320" cy="18763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Кольцо 10"/>
          <p:cNvGrpSpPr/>
          <p:nvPr/>
        </p:nvGrpSpPr>
        <p:grpSpPr>
          <a:xfrm>
            <a:off x="189000" y="1152360"/>
            <a:ext cx="1274760" cy="1266840"/>
            <a:chOff x="189000" y="1152360"/>
            <a:chExt cx="1274760" cy="1266840"/>
          </a:xfrm>
        </p:grpSpPr>
        <p:pic>
          <p:nvPicPr>
            <p:cNvPr id="32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89000" y="1152360"/>
              <a:ext cx="12747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rot="2315400">
              <a:off x="382320" y="1341000"/>
              <a:ext cx="8776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Прямоугольник 11"/>
          <p:cNvSpPr/>
          <p:nvPr/>
        </p:nvSpPr>
        <p:spPr>
          <a:xfrm>
            <a:off x="1116000" y="0"/>
            <a:ext cx="8964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14"/>
          <p:cNvSpPr/>
          <p:nvPr/>
        </p:nvSpPr>
        <p:spPr>
          <a:xfrm>
            <a:off x="1119240" y="0"/>
            <a:ext cx="810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704880" indent="-26208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976320" indent="-25092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19044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4" marL="1430280" indent="-1998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5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6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3947760" y="6949800"/>
            <a:ext cx="235260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6300720" y="6949800"/>
            <a:ext cx="31924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9496440" y="6949800"/>
            <a:ext cx="5032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AAE7CE-45A7-474C-ADC5-42FE7F8220A0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2"/>
          <p:cNvSpPr/>
          <p:nvPr/>
        </p:nvSpPr>
        <p:spPr>
          <a:xfrm>
            <a:off x="1119240" y="0"/>
            <a:ext cx="8961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3"/>
          <p:cNvSpPr/>
          <p:nvPr/>
        </p:nvSpPr>
        <p:spPr>
          <a:xfrm>
            <a:off x="1119240" y="0"/>
            <a:ext cx="810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704880" indent="-26208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976320" indent="-25092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19044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4" marL="1430280" indent="-1998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5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6" marL="1430280" indent="-1998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947760" y="6949800"/>
            <a:ext cx="235260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6300720" y="6949800"/>
            <a:ext cx="31924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9496440" y="6949800"/>
            <a:ext cx="50328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0692B9-A703-4D9F-9E4C-F363121583C5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47280" y="250920"/>
            <a:ext cx="92170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6336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МК «Перспективная начальная школа»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5" name="TextBox 1"/>
          <p:cNvSpPr/>
          <p:nvPr/>
        </p:nvSpPr>
        <p:spPr>
          <a:xfrm>
            <a:off x="7128000" y="5003640"/>
            <a:ext cx="252072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Arial"/>
              </a:rPr>
              <a:t>Выполнили работу студентки 45 группы:</a:t>
            </a:r>
            <a:br>
              <a:rPr sz="1800"/>
            </a:br>
            <a:r>
              <a:rPr b="0" lang="ru-RU" sz="1800" spc="-1" strike="noStrike">
                <a:solidFill>
                  <a:srgbClr val="4f271c"/>
                </a:solidFill>
                <a:latin typeface="Arial"/>
              </a:rPr>
              <a:t>Голобородько Л., Курушина Е., Киселева Ю., Ларионова Н., Уржанакова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1079280" y="755640"/>
            <a:ext cx="8265960" cy="529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800280" indent="-571680" algn="ctr">
              <a:lnSpc>
                <a:spcPct val="90000"/>
              </a:lnSpc>
              <a:spcBef>
                <a:spcPts val="10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у перекрестных взаимных </a:t>
            </a:r>
            <a:r>
              <a:rPr b="1" lang="ru-RU" sz="36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ссылок между учебника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00280" indent="-571680" algn="ctr">
              <a:lnSpc>
                <a:spcPct val="90000"/>
              </a:lnSpc>
              <a:spcBef>
                <a:spcPts val="10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</a:t>
            </a:r>
            <a:r>
              <a:rPr b="1" lang="ru-RU" sz="36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единых сквозных герое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рата и сестры);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00280" indent="-571680" algn="ctr">
              <a:lnSpc>
                <a:spcPct val="90000"/>
              </a:lnSpc>
              <a:spcBef>
                <a:spcPts val="10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пошаговое введение терминологи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отивированное её использование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00280" indent="-57168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7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4" name="Picture 2" descr="https://fs00.infourok.ru/images/doc/297/296995/hello_html_m643f8877.jpg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736560" y="169200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41280"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Л. Каленчук,  Н. А. Чуракова, </a:t>
            </a: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В. Малаховская, Т.А. Байкова, </a:t>
            </a: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М. Лаврова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7" name="Picture 3" descr=""/>
          <p:cNvPicPr/>
          <p:nvPr/>
        </p:nvPicPr>
        <p:blipFill>
          <a:blip r:embed="rId1"/>
          <a:stretch/>
        </p:blipFill>
        <p:spPr>
          <a:xfrm>
            <a:off x="3672000" y="3492360"/>
            <a:ext cx="3025800" cy="37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итературное чтение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41280"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ракова Н.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0" name="Picture 3" descr=""/>
          <p:cNvPicPr/>
          <p:nvPr/>
        </p:nvPicPr>
        <p:blipFill>
          <a:blip r:embed="rId1"/>
          <a:stretch/>
        </p:blipFill>
        <p:spPr>
          <a:xfrm>
            <a:off x="2952720" y="2700360"/>
            <a:ext cx="430848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атематика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41280"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Л. Чекин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tretch/>
        </p:blipFill>
        <p:spPr>
          <a:xfrm>
            <a:off x="496800" y="2195640"/>
            <a:ext cx="339588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кружающий мир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41280"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Н. Федотова, Г.В. Трафимова, С.А. Трафимов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01760" indent="-341280"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401760" indent="-34128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6" name="Picture 3" descr=""/>
          <p:cNvPicPr/>
          <p:nvPr/>
        </p:nvPicPr>
        <p:blipFill>
          <a:blip r:embed="rId1"/>
          <a:stretch/>
        </p:blipFill>
        <p:spPr>
          <a:xfrm>
            <a:off x="3311640" y="2556000"/>
            <a:ext cx="36176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7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9" name="Picture 3" descr=""/>
          <p:cNvPicPr/>
          <p:nvPr/>
        </p:nvPicPr>
        <p:blipFill>
          <a:blip r:embed="rId1"/>
          <a:stretch/>
        </p:blipFill>
        <p:spPr>
          <a:xfrm>
            <a:off x="0" y="250920"/>
            <a:ext cx="10080720" cy="64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идеи программы: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576000" y="2050560"/>
            <a:ext cx="9359640" cy="525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rmAutofit/>
          </a:bodyPr>
          <a:p>
            <a:pPr algn="just">
              <a:lnSpc>
                <a:spcPct val="102000"/>
              </a:lnSpc>
              <a:spcBef>
                <a:spcPts val="663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ьное развитие каждого ребенка на основе педагогической поддержки его индивидуальности (возраста, способностей, интересов, склонностей, развития) в условиях специально организованной учебной деятельности, где ученик выступает то в роли обучаемого, то в роли обучающего, то в роли организатора учебной ситуации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УМК: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60000" y="1834920"/>
            <a:ext cx="9575640" cy="5545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rmAutofit/>
          </a:bodyPr>
          <a:p>
            <a:pPr marL="677880" indent="-571680" algn="just">
              <a:lnSpc>
                <a:spcPct val="102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епрерывного общего развития каждого ребенка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77880" indent="-571680" algn="just">
              <a:lnSpc>
                <a:spcPct val="102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целостности картины мира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77880" indent="-571680" algn="just">
              <a:lnSpc>
                <a:spcPct val="102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учета индивидуальных возможностей и способностей школьников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77880" indent="-571680" algn="just">
              <a:lnSpc>
                <a:spcPct val="102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чности и наглядности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77880" indent="-571680" algn="just">
              <a:lnSpc>
                <a:spcPct val="102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храны и укрепления психического и физического здоровья детей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503280" y="1979640"/>
            <a:ext cx="9361440" cy="54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71680" indent="-571680" algn="just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и воспитания личности младшего школьника в соответствии с требованиями ФГОС начального общего образования;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71680" indent="-571680" algn="just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планируемых результатов соответствии с ФГОС и на основе УМК «Перспективная начальная школа»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03280" y="1907640"/>
            <a:ext cx="9432720" cy="547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45000"/>
              <a:buFont typeface="Wingdings" charset="2"/>
              <a:buChar char="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личностных результатов учащихся, проявляющееся в готовности и способности обучающихся к саморазвитию; сформированности  мотивации к обучению и познанию; осмысление и принятие основных базовых ценностей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45000"/>
              <a:buFont typeface="Wingdings" charset="2"/>
              <a:buChar char="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метапредметных результатов обучающихся:  освоение универсальных учебных действий (регулятивных, познавательных, коммуникативных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45000"/>
              <a:buFont typeface="Wingdings" charset="2"/>
              <a:buChar char="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предметных результатов: освоение опыта предметной деятельности по получению нового знания, его преобразования и применения на основе элементов научного знания, современной научной картины мир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18760" y="150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УМК: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03280" y="1907640"/>
            <a:ext cx="9432720" cy="5651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rmAutofit/>
          </a:bodyPr>
          <a:p>
            <a:pPr marL="620640" indent="-514440" algn="just">
              <a:lnSpc>
                <a:spcPct val="102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по каждому учебному предмету, как правило, включает в себя учебник, хрестоматию, тетрадь для самостоятельной работы, методическое пособие для учителя (методиста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20640" indent="-514440" algn="just">
              <a:lnSpc>
                <a:spcPct val="102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редметные связи: 2 часть русского языка включает в себя ряд словарей для использования на всех предметах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20640" indent="-514440" algn="just">
              <a:lnSpc>
                <a:spcPct val="102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в форме заседания клуба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20640" indent="-514440" algn="just">
              <a:lnSpc>
                <a:spcPct val="102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правлены на самостоятельную деятельность ученика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32d09"/>
                </a:solidFill>
                <a:latin typeface="Cambria Math"/>
                <a:ea typeface="Cambria Math"/>
              </a:rPr>
              <a:t>Типические свойства методической системы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31140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210d"/>
                </a:solidFill>
                <a:latin typeface="Times New Roman"/>
                <a:ea typeface="Times New Roman"/>
              </a:rPr>
              <a:t>Комплектно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усматривает единство установки формирования общих учебных умений, как умение работать с учебником и с несколькими источниками информации, умение делового общения. Методический аппарат всех учебников отвечает системе единых требований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401760" indent="-31140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71680" indent="-5716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5210d"/>
                </a:solidFill>
                <a:latin typeface="Times New Roman"/>
                <a:ea typeface="Times New Roman"/>
              </a:rPr>
              <a:t>Инструментальность</a:t>
            </a:r>
            <a:r>
              <a:rPr b="0" lang="ru-RU" sz="3300" spc="-1" strike="noStrike">
                <a:solidFill>
                  <a:srgbClr val="15210d"/>
                </a:solidFill>
                <a:latin typeface="Times New Roman"/>
                <a:ea typeface="Times New Roman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создание условий для выражения детьми двух равноправных точек зрения, для работы с несколькими источниками информации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571680" indent="-5716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5210d"/>
                </a:solidFill>
                <a:latin typeface="Times New Roman"/>
                <a:ea typeface="Times New Roman"/>
              </a:rPr>
              <a:t>Интерактивность</a:t>
            </a:r>
            <a:r>
              <a:rPr b="0" lang="ru-RU" sz="3300" spc="-1" strike="noStrike">
                <a:solidFill>
                  <a:srgbClr val="15210d"/>
                </a:solidFill>
                <a:latin typeface="Times New Roman"/>
                <a:ea typeface="Times New Roman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прямое диалоговое взаимодействие школьника и учебника за рамками урока посредством обращения к компьютеру или посредством переписки. 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571680" indent="-57168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82560" y="30276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32d09"/>
                </a:solidFill>
                <a:latin typeface="Cambria Math"/>
                <a:ea typeface="Cambria Math"/>
              </a:rPr>
              <a:t>Отличительные особенности УМК «ПНШ»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582560" y="1595520"/>
            <a:ext cx="8266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85800" indent="-457200" algn="ctr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максимальное размещение методического аппарата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я организационные формы работы, в корпусе самого учебника;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-457200" algn="ctr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</a:t>
            </a:r>
            <a:r>
              <a:rPr b="1" lang="ru-RU" sz="35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единой системы условных обозначений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всем УМК.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-45720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0T17:41:39Z</dcterms:created>
  <dc:creator>Полина Немешаева</dc:creator>
  <dc:description/>
  <dc:language>en-US</dc:language>
  <cp:lastModifiedBy>admin</cp:lastModifiedBy>
  <dcterms:modified xsi:type="dcterms:W3CDTF">2020-03-06T07:56:59Z</dcterms:modified>
  <cp:revision>4</cp:revision>
  <dc:subject/>
  <dc:title>УМК «Перспективная начальная школа»</dc:title>
</cp:coreProperties>
</file>