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4B9-AE40-40AE-AEA6-FAEF007B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269-3F55-44D3-B8EE-063E3E37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E0C-B29C-4B40-9DD2-E1F47758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D9B-9A47-4485-A73A-B351614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318-63B7-44A6-9404-3EB6DC13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A780-57D5-4C65-BEEA-E38F1F0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6BCB-74CD-4D45-8722-A927CBD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958-71A3-4348-B2A9-F2C9A18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75E-D42F-4B9E-B29F-FAA5ADD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B368-04B9-4ABA-ADAA-90D1133C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120D-F7E1-4E70-8FD1-953E639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E35-059A-4B31-A36A-026B67D7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29BD-4A40-43DC-AD60-B603AB2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E9E-7497-4D57-BFF8-ED20CC77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525-ED06-42DD-8A1D-F3DFBEE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528-1413-4FF4-BC75-F0D7AC60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BAF-3997-43C2-AB53-FEB166BA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5EA-0ECD-46CE-8D4A-1B40BBA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F79-6541-4C71-9CF0-D3E31BC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738-C45A-4A79-919E-013BB5F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C99-48A5-4FC7-8A99-010D636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07E-3044-4FAE-AA09-918B4EF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D08-9C98-49F3-A31B-4C6C79D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AF1-3D27-4B70-9D67-118CAA9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9F0-1085-4D92-A4B8-F4C31D3F1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AFD-94B7-4122-80ED-44D931E41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1547640" y="1143000"/>
            <a:ext cx="95400" cy="55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b39257"/>
                </a:solidFill>
                <a:latin typeface="Arial"/>
              </a:rPr>
              <a:t> </a:t>
            </a:r>
            <a:endParaRPr b="1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b39257"/>
              </a:solidFill>
              <a:latin typeface="Arial"/>
              <a:ea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539640" y="4724280"/>
            <a:ext cx="7920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9800"/>
                </a:solidFill>
                <a:latin typeface="Times New Roman"/>
              </a:rPr>
              <a:t>Анималистический жанр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9c9800"/>
              </a:solidFill>
              <a:latin typeface="Times New Roman"/>
              <a:ea typeface="Times New Roman"/>
            </a:endParaRPr>
          </a:p>
        </p:txBody>
      </p:sp>
      <p:pic>
        <p:nvPicPr>
          <p:cNvPr id="213" name="Picture 8" descr="38230"/>
          <p:cNvPicPr/>
          <p:nvPr/>
        </p:nvPicPr>
        <p:blipFill>
          <a:blip r:embed="rId1"/>
          <a:stretch/>
        </p:blipFill>
        <p:spPr>
          <a:xfrm>
            <a:off x="2000160" y="857160"/>
            <a:ext cx="4502160" cy="3571920"/>
          </a:xfrm>
          <a:prstGeom prst="rect">
            <a:avLst/>
          </a:prstGeom>
          <a:ln w="76320">
            <a:solidFill>
              <a:srgbClr val="b392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Нарисовать любое живо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Анималистический жанр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«Анима»-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оживлять.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нималистика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Анималистический жанр), иногда также Анимализм (от лат. animal — животное) — жанр изобразительного искусства, основным объектом которого являются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нималистик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очень сложный жанр, требующий от художника высокого профессионализма и умения передавать реалист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нималистический жанр-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роизведение искусств, в котором раскр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браз животног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 привычной для него об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5666"/>
          <p:cNvPicPr/>
          <p:nvPr/>
        </p:nvPicPr>
        <p:blipFill>
          <a:blip r:embed="rId1"/>
          <a:srcRect l="0" t="0" r="0" b="6358"/>
          <a:stretch/>
        </p:blipFill>
        <p:spPr>
          <a:xfrm>
            <a:off x="714240" y="1785960"/>
            <a:ext cx="3772080" cy="273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_5cf7c_9bd35f69_L"/>
          <p:cNvPicPr/>
          <p:nvPr/>
        </p:nvPicPr>
        <p:blipFill>
          <a:blip r:embed="rId2"/>
          <a:stretch/>
        </p:blipFill>
        <p:spPr>
          <a:xfrm>
            <a:off x="5076720" y="1052640"/>
            <a:ext cx="3803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ЖУДОЖНИКИ - АНИМАЛИСТЫ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68360" y="1197000"/>
            <a:ext cx="540072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7100"/>
                </a:solidFill>
                <a:latin typeface="Arial Black"/>
              </a:rPr>
              <a:t>Гео́ргий Никола́евич Ка́рл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7100"/>
                </a:solidFill>
                <a:latin typeface="Arial"/>
              </a:rPr>
              <a:t>(10.10.1905 — 1991) — художник, заслуженный деятель искусств</a:t>
            </a:r>
            <a:r>
              <a:rPr b="1" i="1" lang="ru-RU" sz="3200" spc="-1" strike="noStrike">
                <a:solidFill>
                  <a:srgbClr val="7471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0_5cf6e_9fd0b70a_L"/>
          <p:cNvPicPr/>
          <p:nvPr/>
        </p:nvPicPr>
        <p:blipFill>
          <a:blip r:embed="rId1"/>
          <a:stretch/>
        </p:blipFill>
        <p:spPr>
          <a:xfrm>
            <a:off x="1143000" y="2643120"/>
            <a:ext cx="2638440" cy="33926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221" name="Picture 7" descr="0_5cf6d_68e5cf2b_XL"/>
          <p:cNvPicPr/>
          <p:nvPr/>
        </p:nvPicPr>
        <p:blipFill>
          <a:blip r:embed="rId2"/>
          <a:stretch/>
        </p:blipFill>
        <p:spPr>
          <a:xfrm>
            <a:off x="5143680" y="2643120"/>
            <a:ext cx="2543040" cy="33908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716760" y="398880"/>
            <a:ext cx="46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 Black"/>
              </a:rPr>
              <a:t>Капустина Татьяна Порфирьев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19360" cy="3384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24000" y="836640"/>
            <a:ext cx="56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тьяна Порфирьевна родилась в Ленинграде в 1935 году. Училась сначала в Художественной школе при институте им. И.Е. Репина (Академии Художеств), затем, в 1961 г., закончила собственно Академию Художеств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green-pages-detgiz-2005"/>
          <p:cNvPicPr/>
          <p:nvPr/>
        </p:nvPicPr>
        <p:blipFill>
          <a:blip r:embed="rId2"/>
          <a:stretch/>
        </p:blipFill>
        <p:spPr>
          <a:xfrm>
            <a:off x="324000" y="2781360"/>
            <a:ext cx="2514600" cy="3481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sova"/>
          <p:cNvPicPr/>
          <p:nvPr/>
        </p:nvPicPr>
        <p:blipFill>
          <a:blip r:embed="rId3"/>
          <a:stretch/>
        </p:blipFill>
        <p:spPr>
          <a:xfrm>
            <a:off x="3429000" y="2714760"/>
            <a:ext cx="2690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5113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Чарушин</a:t>
            </a:r>
            <a:br>
              <a:rPr sz="3200"/>
            </a:b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Евгений Иванович 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06760" cy="3051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1116000" y="16282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33"/>
                </a:solidFill>
                <a:latin typeface="Arial"/>
              </a:rPr>
              <a:t>Российский художник-графи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33"/>
                </a:solidFill>
                <a:latin typeface="Arial"/>
              </a:rPr>
              <a:t>(1901-196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80e7dfaf128e70eb98c1b4d514da3a2"/>
          <p:cNvPicPr/>
          <p:nvPr/>
        </p:nvPicPr>
        <p:blipFill>
          <a:blip r:embed="rId2"/>
          <a:stretch/>
        </p:blipFill>
        <p:spPr>
          <a:xfrm>
            <a:off x="5643720" y="3571920"/>
            <a:ext cx="3214440" cy="250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80ee13dc1d1449f8afc7445b563f34a"/>
          <p:cNvPicPr/>
          <p:nvPr/>
        </p:nvPicPr>
        <p:blipFill>
          <a:blip r:embed="rId3"/>
          <a:stretch/>
        </p:blipFill>
        <p:spPr>
          <a:xfrm>
            <a:off x="395280" y="3714840"/>
            <a:ext cx="2241720" cy="2450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medved"/>
          <p:cNvPicPr/>
          <p:nvPr/>
        </p:nvPicPr>
        <p:blipFill>
          <a:blip r:embed="rId4"/>
          <a:stretch/>
        </p:blipFill>
        <p:spPr>
          <a:xfrm>
            <a:off x="2928960" y="2643120"/>
            <a:ext cx="2685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3827520" cy="76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39257"/>
                </a:solidFill>
                <a:latin typeface="Arial"/>
              </a:rPr>
              <a:t>Ватагин В.А.</a:t>
            </a:r>
            <a:br>
              <a:rPr sz="3200"/>
            </a:b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4" name="Picture 4" descr="news1720"/>
          <p:cNvPicPr/>
          <p:nvPr/>
        </p:nvPicPr>
        <p:blipFill>
          <a:blip r:embed="rId1"/>
          <a:stretch/>
        </p:blipFill>
        <p:spPr>
          <a:xfrm>
            <a:off x="611280" y="981000"/>
            <a:ext cx="1885680" cy="2476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02c71f14d500"/>
          <p:cNvPicPr/>
          <p:nvPr/>
        </p:nvPicPr>
        <p:blipFill>
          <a:blip r:embed="rId2"/>
          <a:stretch/>
        </p:blipFill>
        <p:spPr>
          <a:xfrm>
            <a:off x="3203640" y="5013360"/>
            <a:ext cx="237636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1199875984978"/>
          <p:cNvPicPr/>
          <p:nvPr/>
        </p:nvPicPr>
        <p:blipFill>
          <a:blip r:embed="rId3"/>
          <a:stretch/>
        </p:blipFill>
        <p:spPr>
          <a:xfrm>
            <a:off x="3276720" y="2421000"/>
            <a:ext cx="2000160" cy="1571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3190413_illustrmaugli1922_1926"/>
          <p:cNvPicPr/>
          <p:nvPr/>
        </p:nvPicPr>
        <p:blipFill>
          <a:blip r:embed="rId4"/>
          <a:stretch/>
        </p:blipFill>
        <p:spPr>
          <a:xfrm>
            <a:off x="324000" y="4581360"/>
            <a:ext cx="2571480" cy="1971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15d6a12"/>
          <p:cNvPicPr/>
          <p:nvPr/>
        </p:nvPicPr>
        <p:blipFill>
          <a:blip r:embed="rId5"/>
          <a:stretch/>
        </p:blipFill>
        <p:spPr>
          <a:xfrm>
            <a:off x="6286680" y="3643200"/>
            <a:ext cx="2482560" cy="1657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2043_3079_08"/>
          <p:cNvPicPr/>
          <p:nvPr/>
        </p:nvPicPr>
        <p:blipFill>
          <a:blip r:embed="rId6"/>
          <a:stretch/>
        </p:blipFill>
        <p:spPr>
          <a:xfrm>
            <a:off x="4572000" y="333360"/>
            <a:ext cx="4176720" cy="16146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24000" y="3500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 Narrow"/>
              </a:rPr>
              <a:t>1883-1969г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419640" y="2060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059280" y="4221000"/>
            <a:ext cx="30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рия работ к «Книге джунглей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4ec970c925d9c0a718025a324d32724e"/>
          <p:cNvPicPr/>
          <p:nvPr/>
        </p:nvPicPr>
        <p:blipFill>
          <a:blip r:embed="rId1"/>
          <a:stretch/>
        </p:blipFill>
        <p:spPr>
          <a:xfrm>
            <a:off x="357120" y="2286000"/>
            <a:ext cx="2347920" cy="2355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105_071103"/>
          <p:cNvPicPr/>
          <p:nvPr/>
        </p:nvPicPr>
        <p:blipFill>
          <a:blip r:embed="rId2"/>
          <a:stretch/>
        </p:blipFill>
        <p:spPr>
          <a:xfrm>
            <a:off x="6500880" y="2143080"/>
            <a:ext cx="2244600" cy="2928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vatagin-3"/>
          <p:cNvPicPr/>
          <p:nvPr/>
        </p:nvPicPr>
        <p:blipFill>
          <a:blip r:embed="rId3"/>
          <a:stretch/>
        </p:blipFill>
        <p:spPr>
          <a:xfrm>
            <a:off x="3492360" y="3573360"/>
            <a:ext cx="2306880" cy="288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news1721"/>
          <p:cNvPicPr/>
          <p:nvPr/>
        </p:nvPicPr>
        <p:blipFill>
          <a:blip r:embed="rId4"/>
          <a:stretch/>
        </p:blipFill>
        <p:spPr>
          <a:xfrm>
            <a:off x="3132000" y="404640"/>
            <a:ext cx="2770200" cy="1870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2987640" y="234936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Живописные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Работы современных художников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11280" y="1268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Евгений Ре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79855854_0b0656f2ffa401d6007b7ffc656b578a"/>
          <p:cNvPicPr/>
          <p:nvPr/>
        </p:nvPicPr>
        <p:blipFill>
          <a:blip r:embed="rId1"/>
          <a:stretch/>
        </p:blipFill>
        <p:spPr>
          <a:xfrm>
            <a:off x="357120" y="2071800"/>
            <a:ext cx="4048200" cy="281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79855741_0b06ab23c403066fe2df3570956985c3"/>
          <p:cNvPicPr/>
          <p:nvPr/>
        </p:nvPicPr>
        <p:blipFill>
          <a:blip r:embed="rId2"/>
          <a:stretch/>
        </p:blipFill>
        <p:spPr>
          <a:xfrm>
            <a:off x="3995640" y="2857680"/>
            <a:ext cx="45417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28:03Z</dcterms:created>
  <dc:creator>Admin</dc:creator>
  <dc:description/>
  <dc:language>en-US</dc:language>
  <cp:lastModifiedBy>_</cp:lastModifiedBy>
  <dcterms:modified xsi:type="dcterms:W3CDTF">2020-05-18T17:43:37Z</dcterms:modified>
  <cp:revision>18</cp:revision>
  <dc:subject/>
  <dc:title>Слайд 1</dc:title>
</cp:coreProperties>
</file>