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365-F887-4486-9BC4-F1EEA7B0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C67-46A2-4841-95B7-5732736D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088-98FA-498E-96D8-C0C9CB1E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054-5FED-461F-8C2B-B317E767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3DC-6BEE-421E-AD35-BFC7D3F9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6FF-2780-4937-8178-7265C5D4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3D0-9B75-48A4-9D09-C0D17375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29D-2EA0-4721-887E-10969236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0C1-013F-4CF4-AE77-B06B36A3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915-7BE2-452B-8E93-6C641010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357-CCC9-46E7-8DE3-3D82F124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CBF-20B0-46C4-AA89-4CD2CB5D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1FEC74-6CD8-4FD9-9EF0-096DD962A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28680"/>
            <a:ext cx="77724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Сапгир «Про медведя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Гамазакова «Кто как кричит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Инна Гамазкова. Стихи1.avi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77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052640"/>
            <a:ext cx="8228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 –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исатель создающий     произведение в стихах, стихот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РА-ра-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…………иг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РЫ-ры-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……..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Да-да-д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……….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ДО-до-д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..........гнез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ТА-та-т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……..чисто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ТЫ-ты-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ЯТ-ят-я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………….сто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ЮТ-ют-ю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аблиц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125360"/>
          <a:ext cx="8291520" cy="4391280"/>
        </p:xfrm>
        <a:graphic>
          <a:graphicData uri="http://schemas.openxmlformats.org/drawingml/2006/table">
            <a:tbl>
              <a:tblPr/>
              <a:tblGrid>
                <a:gridCol w="2073240"/>
                <a:gridCol w="2071800"/>
                <a:gridCol w="2073240"/>
                <a:gridCol w="2073240"/>
              </a:tblGrid>
              <a:tr h="109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З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096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1096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09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ЛЬ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cxnSp>
        <p:nvCxnSpPr>
          <p:cNvPr id="46" name="Прямая со стрелкой 6"/>
          <p:cNvCxnSpPr/>
          <p:nvPr/>
        </p:nvCxnSpPr>
        <p:spPr>
          <a:xfrm>
            <a:off x="684000" y="1341000"/>
            <a:ext cx="1080" cy="3312360"/>
          </a:xfrm>
          <a:prstGeom prst="straightConnector1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47" name="Прямая со стрелкой 8"/>
          <p:cNvCxnSpPr/>
          <p:nvPr/>
        </p:nvCxnSpPr>
        <p:spPr>
          <a:xfrm>
            <a:off x="2700000" y="1494000"/>
            <a:ext cx="1080" cy="3312000"/>
          </a:xfrm>
          <a:prstGeom prst="straightConnector1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48" name="Прямая со стрелкой 9"/>
          <p:cNvCxnSpPr/>
          <p:nvPr/>
        </p:nvCxnSpPr>
        <p:spPr>
          <a:xfrm>
            <a:off x="4787640" y="1494000"/>
            <a:ext cx="1080" cy="3312000"/>
          </a:xfrm>
          <a:prstGeom prst="straightConnector1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49" name="Прямая со стрелкой 10"/>
          <p:cNvCxnSpPr/>
          <p:nvPr/>
        </p:nvCxnSpPr>
        <p:spPr>
          <a:xfrm>
            <a:off x="6875280" y="1494000"/>
            <a:ext cx="1080" cy="3312000"/>
          </a:xfrm>
          <a:prstGeom prst="straightConnector1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аблиц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125360"/>
          <a:ext cx="8291520" cy="4391280"/>
        </p:xfrm>
        <a:graphic>
          <a:graphicData uri="http://schemas.openxmlformats.org/drawingml/2006/table">
            <a:tbl>
              <a:tblPr/>
              <a:tblGrid>
                <a:gridCol w="2073240"/>
                <a:gridCol w="2071800"/>
                <a:gridCol w="2073240"/>
                <a:gridCol w="2073240"/>
              </a:tblGrid>
              <a:tr h="109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З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096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1096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09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ЛЬ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cxnSp>
        <p:nvCxnSpPr>
          <p:cNvPr id="52" name="Прямая со стрелкой 3"/>
          <p:cNvCxnSpPr/>
          <p:nvPr/>
        </p:nvCxnSpPr>
        <p:spPr>
          <a:xfrm>
            <a:off x="611280" y="1988640"/>
            <a:ext cx="669816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53" name="Прямая со стрелкой 11"/>
          <p:cNvCxnSpPr/>
          <p:nvPr/>
        </p:nvCxnSpPr>
        <p:spPr>
          <a:xfrm>
            <a:off x="611280" y="3068280"/>
            <a:ext cx="669816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54" name="Прямая со стрелкой 12"/>
          <p:cNvCxnSpPr/>
          <p:nvPr/>
        </p:nvCxnSpPr>
        <p:spPr>
          <a:xfrm>
            <a:off x="763200" y="4292280"/>
            <a:ext cx="669852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55" name="Прямая со стрелкой 13"/>
          <p:cNvCxnSpPr/>
          <p:nvPr/>
        </p:nvCxnSpPr>
        <p:spPr>
          <a:xfrm>
            <a:off x="826560" y="5300280"/>
            <a:ext cx="669852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125360"/>
          <a:ext cx="8291520" cy="4391280"/>
        </p:xfrm>
        <a:graphic>
          <a:graphicData uri="http://schemas.openxmlformats.org/drawingml/2006/table">
            <a:tbl>
              <a:tblPr/>
              <a:tblGrid>
                <a:gridCol w="2073240"/>
                <a:gridCol w="2071800"/>
                <a:gridCol w="2073240"/>
                <a:gridCol w="2073240"/>
              </a:tblGrid>
              <a:tr h="109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З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096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1096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09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ЛЬ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Путаница        </a:t>
            </a:r>
            <a:r>
              <a:rPr b="1" i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В.В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836280"/>
            <a:ext cx="822816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мы ви-дим ма-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у ма-мы мы-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-ма мо-ет ра-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-бы чис-то б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мы ви-дим му-ма,                                  А у мы-ма ло-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-ма ет-мо му-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-что то-чис ло-б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юля\Desktop\0452816.jpg"/>
          <p:cNvPicPr/>
          <p:nvPr/>
        </p:nvPicPr>
        <p:blipFill>
          <a:blip r:embed="rId1"/>
          <a:stretch/>
        </p:blipFill>
        <p:spPr>
          <a:xfrm>
            <a:off x="5508720" y="765000"/>
            <a:ext cx="2663640" cy="3025800"/>
          </a:xfrm>
          <a:prstGeom prst="rect">
            <a:avLst/>
          </a:prstGeom>
          <a:ln w="0">
            <a:noFill/>
          </a:ln>
        </p:spPr>
      </p:pic>
      <p:sp>
        <p:nvSpPr>
          <p:cNvPr id="61" name="Скругленный прямоугольник 4"/>
          <p:cNvSpPr/>
          <p:nvPr/>
        </p:nvSpPr>
        <p:spPr>
          <a:xfrm>
            <a:off x="4140360" y="3860640"/>
            <a:ext cx="4535280" cy="22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знай о ком идё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юля\Desktop\7582.jpg"/>
          <p:cNvPicPr/>
          <p:nvPr/>
        </p:nvPicPr>
        <p:blipFill>
          <a:blip r:embed="rId1"/>
          <a:stretch/>
        </p:blipFill>
        <p:spPr>
          <a:xfrm>
            <a:off x="517680" y="1197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юля\Desktop\river_ilovlya2a.jpg"/>
          <p:cNvPicPr/>
          <p:nvPr/>
        </p:nvPicPr>
        <p:blipFill>
          <a:blip r:embed="rId2"/>
          <a:stretch/>
        </p:blipFill>
        <p:spPr>
          <a:xfrm>
            <a:off x="468360" y="292428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юля\Desktop\f2.jpg"/>
          <p:cNvPicPr/>
          <p:nvPr/>
        </p:nvPicPr>
        <p:blipFill>
          <a:blip r:embed="rId3"/>
          <a:stretch/>
        </p:blipFill>
        <p:spPr>
          <a:xfrm>
            <a:off x="2712960" y="2917800"/>
            <a:ext cx="228132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юля\Desktop\3934871_Lesnaya_paseka_Mayskiy_med_.jpg"/>
          <p:cNvPicPr/>
          <p:nvPr/>
        </p:nvPicPr>
        <p:blipFill>
          <a:blip r:embed="rId4"/>
          <a:stretch/>
        </p:blipFill>
        <p:spPr>
          <a:xfrm>
            <a:off x="1704960" y="472428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юля\Desktop\nd0.jpg"/>
          <p:cNvPicPr/>
          <p:nvPr/>
        </p:nvPicPr>
        <p:blipFill>
          <a:blip r:embed="rId5"/>
          <a:stretch/>
        </p:blipFill>
        <p:spPr>
          <a:xfrm>
            <a:off x="3921120" y="4678200"/>
            <a:ext cx="2146320" cy="155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юля\Desktop\12.jpg"/>
          <p:cNvPicPr/>
          <p:nvPr/>
        </p:nvPicPr>
        <p:blipFill>
          <a:blip r:embed="rId6"/>
          <a:stretch/>
        </p:blipFill>
        <p:spPr>
          <a:xfrm>
            <a:off x="5435640" y="1557360"/>
            <a:ext cx="32576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рих Вениаминович Сапг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Объект 6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408200" cy="4319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53844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ПОЭ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ценар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67 — «Паровозик из Ромашкова» (мультфильм) — автор сценария совместно с Г. Цыферов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91 — «Маленькая колдунья» (мультфильм) — автор сцена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Автор пес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78 — «Дед Мороз и Серый Волк» (мультфиль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79 — «Золушка» (мультфиль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на Липовна Гамаз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тский поэ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</a:rPr>
              <a:t>Сказочная газета                 «Жили-бы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</a:rPr>
              <a:t>1980-1990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юля\Desktop\gamazkova-1.jpg"/>
          <p:cNvPicPr/>
          <p:nvPr/>
        </p:nvPicPr>
        <p:blipFill>
          <a:blip r:embed="rId1"/>
          <a:stretch/>
        </p:blipFill>
        <p:spPr>
          <a:xfrm>
            <a:off x="3390840" y="260280"/>
            <a:ext cx="2737080" cy="3675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юля\Desktop\8812384.jpg"/>
          <p:cNvPicPr/>
          <p:nvPr/>
        </p:nvPicPr>
        <p:blipFill>
          <a:blip r:embed="rId2"/>
          <a:stretch/>
        </p:blipFill>
        <p:spPr>
          <a:xfrm>
            <a:off x="6804000" y="3429000"/>
            <a:ext cx="1944720" cy="267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юля\Desktop\Gamazkova_I.L.__Pro_malchishek_pro_devchonok_Ozornye_chastushki_hud._Novikov_I._.jpg"/>
          <p:cNvPicPr/>
          <p:nvPr/>
        </p:nvPicPr>
        <p:blipFill>
          <a:blip r:embed="rId3"/>
          <a:stretch/>
        </p:blipFill>
        <p:spPr>
          <a:xfrm>
            <a:off x="6227640" y="260280"/>
            <a:ext cx="2232000" cy="302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юля\Desktop\s11725462.jpg"/>
          <p:cNvPicPr/>
          <p:nvPr/>
        </p:nvPicPr>
        <p:blipFill>
          <a:blip r:embed="rId4"/>
          <a:stretch/>
        </p:blipFill>
        <p:spPr>
          <a:xfrm>
            <a:off x="611280" y="2401920"/>
            <a:ext cx="22320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06:45Z</dcterms:created>
  <dc:creator>юля</dc:creator>
  <dc:description/>
  <dc:language>en-US</dc:language>
  <cp:lastModifiedBy>Мазурова Оксана</cp:lastModifiedBy>
  <dcterms:modified xsi:type="dcterms:W3CDTF">2020-05-18T00:50:03Z</dcterms:modified>
  <cp:revision>19</cp:revision>
  <dc:subject/>
  <dc:title>Слайд 1</dc:title>
</cp:coreProperties>
</file>