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6601-60ED-4F9D-816D-39ABFD961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B591-356D-4F57-88CB-207D10F6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56BA-CE4B-458B-B102-2DAE3D0A0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9E52-8EE5-4864-BBDC-1D6620442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BE73-0435-4A12-9B26-B5CC75CA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CD5D-7CA9-4C16-BC72-63A4F706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0066-C0F9-45F3-80EA-527ABC64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8066-B6BF-4024-B283-F80D568A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BC42-9129-4C5F-8B32-6D5FEC7B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E504-94DF-4C84-8504-67F4442E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9C1D-A12C-4B6C-925D-0D249CE1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A209-9151-458E-B74C-9105554B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3EC80-41DF-46D6-8EC0-025AE0CC44F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0720" y="4319640"/>
            <a:ext cx="9180360" cy="2879640"/>
          </a:xfrm>
          <a:prstGeom prst="rect">
            <a:avLst/>
          </a:prstGeom>
          <a:solidFill>
            <a:srgbClr val="c7a0c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900000" y="4680000"/>
            <a:ext cx="8844120" cy="2325600"/>
            <a:chOff x="900000" y="4680000"/>
            <a:chExt cx="8844120" cy="2325600"/>
          </a:xfrm>
        </p:grpSpPr>
        <p:sp>
          <p:nvSpPr>
            <p:cNvPr id="43" name=""/>
            <p:cNvSpPr/>
            <p:nvPr/>
          </p:nvSpPr>
          <p:spPr>
            <a:xfrm>
              <a:off x="900000" y="4680000"/>
              <a:ext cx="8844120" cy="1992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41560" y="4832280"/>
              <a:ext cx="8602560" cy="21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7400" bIns="45000" anchor="t">
              <a:noAutofit/>
            </a:bodyPr>
            <a:p>
              <a:pPr>
                <a:lnSpc>
                  <a:spcPct val="92000"/>
                </a:lnSpc>
                <a:spcBef>
                  <a:spcPts val="1199"/>
                </a:spcBef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0d1f63"/>
                  </a:solidFill>
                  <a:latin typeface="Times New Roman"/>
                </a:rPr>
                <a:t>Это значит, что не нельзя смеяться над старыми, ведь когда- то ты  сам будешь старым и тебе будет не приятно слышать смех в сою сторон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spcBef>
                  <a:spcPts val="1199"/>
                </a:spcBef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1079640" y="360360"/>
            <a:ext cx="864072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1720" bIns="45000" anchor="t">
            <a:noAutofit/>
          </a:bodyPr>
          <a:p>
            <a:pPr algn="just">
              <a:lnSpc>
                <a:spcPct val="92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читайте поговорку и попробуйте объяснить ее смысл, а после нажми на прямоугольник и проверь свое предположение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2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Не смейся над старым — сам будешь стар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20720" y="539640"/>
            <a:ext cx="91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5680" bIns="45000" anchor="t">
            <a:noAutofit/>
          </a:bodyPr>
          <a:p>
            <a:pPr algn="ctr">
              <a:lnSpc>
                <a:spcPct val="92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егодня мы поработаем с темой: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«Мудрость старост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79640" y="2160720"/>
            <a:ext cx="84596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5680" bIns="45000" anchor="t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Цель: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различные периоды человеческой жиз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060720" y="3432240"/>
            <a:ext cx="4859280" cy="39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00360" y="2519280"/>
            <a:ext cx="7019640" cy="900360"/>
          </a:xfrm>
          <a:prstGeom prst="rect">
            <a:avLst/>
          </a:prstGeom>
          <a:solidFill>
            <a:srgbClr val="bd7cb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96920" y="469800"/>
            <a:ext cx="918072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400" bIns="45000" anchor="t">
            <a:noAutofit/>
          </a:bodyPr>
          <a:p>
            <a:pPr>
              <a:lnSpc>
                <a:spcPct val="92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к, что же такое «Мудрость старости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вайте, попробуем разобраться и начнем с того, что вспомним какие стадии жизни проходит каждый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60720" y="2546280"/>
            <a:ext cx="611964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440" bIns="45000" anchor="t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ждый человек проходит три основные стадии жизн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19125" t="-5272" r="0" b="0"/>
          <a:stretch/>
        </p:blipFill>
        <p:spPr>
          <a:xfrm>
            <a:off x="2879640" y="3259080"/>
            <a:ext cx="4859280" cy="3579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19280" y="6840360"/>
            <a:ext cx="18003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440" bIns="450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бе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19640" y="6950160"/>
            <a:ext cx="2160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440" bIns="450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зрос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6883560"/>
            <a:ext cx="19796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440" bIns="450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жил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30240" y="900000"/>
            <a:ext cx="897084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440" bIns="45000" anchor="t">
            <a:noAutofit/>
          </a:bodyPr>
          <a:p>
            <a:pPr>
              <a:lnSpc>
                <a:spcPct val="92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на фраза, которая несет часть смысла пословицы, или поговорки которую вам нужно найти в тексте на стр.80-81. После того, как вы найдете пословицу в тексте, нужно подумать, что означает данная  пословица и как она относится в к нашей т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9280" y="179280"/>
            <a:ext cx="27003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9640" bIns="450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e181e"/>
                </a:solidFill>
                <a:latin typeface="Times New Roman"/>
              </a:rPr>
              <a:t>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60360" y="3208320"/>
            <a:ext cx="8640720" cy="27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440" bIns="45000" anchor="t">
            <a:noAutofit/>
          </a:bodyPr>
          <a:p>
            <a:pPr>
              <a:lnSpc>
                <a:spcPct val="92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e181e"/>
                </a:solidFill>
                <a:latin typeface="Times New Roman"/>
              </a:rPr>
              <a:t>Например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фраза «добрые дела делают не зря», читаю первый абзац. И нахожу пословицу «Если добрые дела были, значит день не зря прожит.». Она полностью подходит под описание данной мне ранее фразы, потом уже я даются подтверждения какое отношение она имеет к нашей теме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347840" y="876240"/>
            <a:ext cx="8192880" cy="41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1720" bIns="45000" anchor="t">
            <a:noAutofit/>
          </a:bodyPr>
          <a:p>
            <a:pPr>
              <a:lnSpc>
                <a:spcPct val="92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. Прожитая жизнь делами проверяе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 Младший возьмет знаний у старшег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. Ложь всегда не прав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. Хорошее слово, лучше плохог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5. Уши верят одному, глаза друго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6. Добрые люди нужны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079640" y="900000"/>
            <a:ext cx="8638920" cy="8488080"/>
            <a:chOff x="1079640" y="900000"/>
            <a:chExt cx="8638920" cy="8488080"/>
          </a:xfrm>
        </p:grpSpPr>
        <p:sp>
          <p:nvSpPr>
            <p:cNvPr id="61" name=""/>
            <p:cNvSpPr/>
            <p:nvPr/>
          </p:nvSpPr>
          <p:spPr>
            <a:xfrm>
              <a:off x="1079640" y="900000"/>
              <a:ext cx="8638920" cy="6492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25600" y="1074600"/>
              <a:ext cx="8292960" cy="83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7400" bIns="45000" anchor="t">
              <a:noAutofit/>
            </a:bodyPr>
            <a:p>
              <a:pPr>
                <a:lnSpc>
                  <a:spcPct val="92000"/>
                </a:lnSpc>
                <a:spcBef>
                  <a:spcPts val="1199"/>
                </a:spcBef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1.  Пословица: «Не годами старость красна, а делами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2000"/>
                </a:lnSpc>
                <a:spcBef>
                  <a:spcPts val="1199"/>
                </a:spcBef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2. Пословица «Кто молод годами, а умом вырос, никогда не откажется прикупить ума у старшего»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2000"/>
                </a:lnSpc>
                <a:spcBef>
                  <a:spcPts val="1199"/>
                </a:spcBef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3. Пословица: «У лжи стеклянные ножки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2000"/>
                </a:lnSpc>
                <a:spcBef>
                  <a:spcPts val="1199"/>
                </a:spcBef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4. Пословица: «Чини хорошим словом то, что сломал плохим.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2000"/>
                </a:lnSpc>
                <a:spcBef>
                  <a:spcPts val="1199"/>
                </a:spcBef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5. Пословица : «Уши верят чужой губе, очи верят самим себе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2000"/>
                </a:lnSpc>
                <a:spcBef>
                  <a:spcPts val="1199"/>
                </a:spcBef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6. Пословица: « Рожь да пшеница не всегда родится, а добрый человек всегда пригодится»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2000"/>
                </a:lnSpc>
                <a:spcBef>
                  <a:spcPts val="1199"/>
                </a:spcBef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2000"/>
                </a:lnSpc>
                <a:spcBef>
                  <a:spcPts val="1199"/>
                </a:spcBef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2000"/>
                </a:lnSpc>
                <a:spcBef>
                  <a:spcPts val="1199"/>
                </a:spcBef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240000" y="68400"/>
            <a:ext cx="360036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5680" bIns="45000" anchor="t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e181e"/>
                </a:solidFill>
                <a:latin typeface="Times New Roman"/>
              </a:rPr>
              <a:t>Проверь себ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979640" y="179280"/>
            <a:ext cx="7199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1720" bIns="450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ставь таблицу (на листочке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211400" y="949320"/>
          <a:ext cx="8294040" cy="2917440"/>
        </p:xfrm>
        <a:graphic>
          <a:graphicData uri="http://schemas.openxmlformats.org/drawingml/2006/table">
            <a:tbl>
              <a:tblPr/>
              <a:tblGrid>
                <a:gridCol w="2659320"/>
                <a:gridCol w="2706840"/>
                <a:gridCol w="2927880"/>
              </a:tblGrid>
              <a:tr h="972000">
                <a:tc>
                  <a:txBody>
                    <a:bodyPr lIns="90000" rIns="90000" tIns="83520" bIns="4680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Дет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83520" bIns="4680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зросл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83520" bIns="4680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жил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9720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734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pSp>
        <p:nvGrpSpPr>
          <p:cNvPr id="66" name=""/>
          <p:cNvGrpSpPr/>
          <p:nvPr/>
        </p:nvGrpSpPr>
        <p:grpSpPr>
          <a:xfrm>
            <a:off x="1079640" y="4140360"/>
            <a:ext cx="8818560" cy="2957400"/>
            <a:chOff x="1079640" y="4140360"/>
            <a:chExt cx="8818560" cy="2957400"/>
          </a:xfrm>
        </p:grpSpPr>
        <p:sp>
          <p:nvSpPr>
            <p:cNvPr id="67" name=""/>
            <p:cNvSpPr/>
            <p:nvPr/>
          </p:nvSpPr>
          <p:spPr>
            <a:xfrm>
              <a:off x="1079640" y="4140360"/>
              <a:ext cx="8818560" cy="2877840"/>
            </a:xfrm>
            <a:prstGeom prst="rect">
              <a:avLst/>
            </a:prstGeom>
            <a:solidFill>
              <a:srgbClr val="c7a0c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60360" y="4140360"/>
              <a:ext cx="8458200" cy="29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7400" bIns="45000" anchor="t">
              <a:noAutofit/>
            </a:bodyPr>
            <a:p>
              <a:pPr algn="just"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У каждого из нас, есть ценности. Подумай и запиши, что для тебе очень важно и что ты ценишь больше всего, потом подумай, что является главным для твоих родителей и в третий столбик запиши, что для пожилых очень ценно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133640" y="1843200"/>
          <a:ext cx="8295840" cy="2918880"/>
        </p:xfrm>
        <a:graphic>
          <a:graphicData uri="http://schemas.openxmlformats.org/drawingml/2006/table">
            <a:tbl>
              <a:tblPr/>
              <a:tblGrid>
                <a:gridCol w="2659320"/>
                <a:gridCol w="2707200"/>
                <a:gridCol w="2929320"/>
              </a:tblGrid>
              <a:tr h="971640">
                <a:tc>
                  <a:txBody>
                    <a:bodyPr lIns="90000" rIns="90000" tIns="83520" bIns="4680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Дет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83520" bIns="4680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Взросл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83520" bIns="4680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Пожил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972000"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Долгожданный подар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Достаток в се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Крепкое здоров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75240"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Любовь род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Счастливые и здоровы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Долгие годы жиз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3060720" y="5041800"/>
            <a:ext cx="52196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400" bIns="45000" anchor="t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другое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00360" y="360360"/>
            <a:ext cx="4859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1720" bIns="450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e181e"/>
                </a:solidFill>
                <a:latin typeface="Times New Roman"/>
              </a:rPr>
              <a:t>Проверь себ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472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5400" spc="-1" strike="noStrike">
                <a:solidFill>
                  <a:srgbClr val="ce181e"/>
                </a:solidFill>
                <a:latin typeface="Times New Roman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8:32:32Z</dcterms:created>
  <dc:creator/>
  <dc:description/>
  <dc:language>en-US</dc:language>
  <cp:lastModifiedBy/>
  <dcterms:modified xsi:type="dcterms:W3CDTF">2020-04-08T14:54:49Z</dcterms:modified>
  <cp:revision>3</cp:revision>
  <dc:subject/>
  <dc:title/>
</cp:coreProperties>
</file>