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869-BF5F-4F8B-9B49-782E23C8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618-6DB4-424A-9C65-08FF6698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6CC-11D8-4B7B-849D-59D696C9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6C34-E5B5-44D4-9773-6D2794CE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915-3F84-45EA-B7D7-7064A680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A1F-C232-40C9-BA70-95BC3B58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322-BB55-4C77-99DD-0EB72101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C1D-DB8E-4D22-98F0-27FD38E5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BD9-9028-4DF8-8771-A72A6710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7B4-0605-4E70-A3C2-BD48D8D2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E14-A099-45F3-9994-8BFF684F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BBE-E47A-4B54-8429-85893E3F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5182-680E-415A-8AEE-27F6F3E1B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198108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Новогодний пентаго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казочный ге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22860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В мультфильмах он почталь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казочный ге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22860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Друг Деда Мо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казочный ге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228600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Нос у него морковка, руки веточки, на голове ве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6094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казочный ге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762120"/>
            <a:ext cx="31892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родное я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2860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Бывает розовым, красным и даже чёр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родное я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286000"/>
            <a:ext cx="6477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Японский ученый Накая Укитиро называл это явление "письмом с небес, написанным тайными иероглифами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родное я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228600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Много – много людей никогда не видели это явление, разве только на фот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родное я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1752480"/>
            <a:ext cx="6476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уществует семь видов: звездчатые кристаллы, иглы, столбцы (или колонны), пластинки, пространственные дендриты, столбцы с наконечниками и неправильной формы, но нет ни одной похож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родное я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175248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У нас они падают зимой и бел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76720" y="1066680"/>
            <a:ext cx="5562360" cy="3708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38080" y="609480"/>
            <a:ext cx="40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родное я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казочный ге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Этому сказочному герою разные народы дают разные и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имвол нового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7524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У символа есть ла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имвол нового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75248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н защищает от ведьм и злых ду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имвол нового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175248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нашей стране символ появился благодаря Петру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 300 лет 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имвол нового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175248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Раньше она была только настоящая, а сейчас встречается и искус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имвол нового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75248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Это дерево украшают на Нов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609480"/>
            <a:ext cx="426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имвол нового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29120" y="380880"/>
            <a:ext cx="33274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ра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75248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Раньше это была длинная цепочка, состоящая из однородных предметов: цветов, веточек, лист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ра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1752480"/>
            <a:ext cx="647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Главными цветами являются: зеленый, золотой, красный. Зеленый – это живая листва, золотой – привлекает богатство, красный – символизирет кровь Хр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ра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175248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Раньше вместо них использовали горящие св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ра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175248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ервым украсил ими свою ёлочку Томас Эдисон, который придумал электрическую лампо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казочный ге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У этого героя очень дорогая и красивая одеж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ра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175248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ейчас существуют разноцветные, разные, электр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581280" y="663480"/>
            <a:ext cx="4800600" cy="3441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38080" y="6094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ра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казочный ге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Когда он выбивает свою подушку, то на землю падает 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казочный ге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У него есть вну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казочный ге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Он всем раздает подарки на Нов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казочный ге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609480"/>
            <a:ext cx="3048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казочный ге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286000"/>
            <a:ext cx="7010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В Скандинавии этот герой был ловушкой для злых духов, иногда их называли «белыми тролля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80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казочный ге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2286000"/>
            <a:ext cx="701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В 2008 году в Америке сделали самую большую фигуру из 6 тысяч тонн белого вещества, высотой 37 мет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3T14:04:07Z</dcterms:created>
  <dc:creator>PLG</dc:creator>
  <dc:description/>
  <dc:language>en-US</dc:language>
  <cp:lastModifiedBy>Microsoft Office</cp:lastModifiedBy>
  <dcterms:modified xsi:type="dcterms:W3CDTF">2019-12-23T15:12:2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