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C527-7F4D-4984-9966-485DF220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BE9A-4C58-4D57-968A-861D6C9F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FEDE0-797C-4BB1-9E9A-87A1B4A1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1D7BC-B276-474E-AF18-5D8798C4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E5F38-0B98-46CE-A2E6-465E9B27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D4D43-0B38-45A3-A75C-1E335123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EA584-1877-4F5E-8043-FD742F7F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9CA5C-0783-4654-8D2F-4BAD2A68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9B8E1-D691-4D56-BB87-8554E03E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C5B0D-A786-45A2-98EA-8FF53454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453F9-2A87-41FA-9BB4-A40FBA39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11D55-3378-432C-96C8-FD4C9275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38DC-0C37-43A5-836A-90E6E3E1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1B890-3426-4455-9808-16CAC07A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BECA0-B9F4-405F-9BAA-41C23677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CCAF3-673F-4FBF-B705-9F5D3AFA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DAB41-EDA1-4A7B-B7B5-563773FE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4003F-6045-40D8-A1EC-679EA5E6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F4ACF-687A-4B6E-AE3D-A85D85B9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3FC50-B4C9-4919-A837-3B9036ED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C10B8-7BB3-485E-9CEE-95B551C0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C0263-E352-4077-9F43-78FD8E97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59A62-7876-4EB9-8B29-7A15BA08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CBD-074A-47D5-A416-E454D5DD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93970-58D1-4B05-AD49-36B72C84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FC701-A2CA-4733-AD3D-13F98A02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F874F-DCF9-4CF4-AC5E-F3ECB37F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04B57-F947-41FD-869B-CB308F1E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CAAE1-8ADE-43F0-9781-D4016372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833C2-5487-43BC-B767-70147245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7E9F7-CE10-4F06-8C8C-04140C1B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6B385-9E4C-4327-91F4-4CBCA051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86013-6DEF-4078-89FD-6F6BAEA6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536F4-9801-4598-AF9D-DBC0057A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7811-A9AC-4538-9C59-D6589F07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E1700-5F64-43B2-88B2-2F91FB96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80A50-329B-415C-82FA-29CEA295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159CB-D2CF-4244-924A-72DF2A19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C28A7-D49A-43B2-A672-55AC6628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57460-6535-48B7-88CA-3BDD125F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51DE6-EA42-4B49-92B4-8DFEEDC9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781B7-C5A9-4442-B935-5F8CA280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CF674-8664-46A4-BCBB-A92DB032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45A75-13C1-4BC3-87CE-24F189BF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CFDEE-170D-4120-A9F8-106C2193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D890-AA2A-4ADD-BC04-F9688905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9F294-9F5E-45BD-AACB-5F65F51A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AE8CD-46BB-41D6-932E-D6D0518E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E7C80-D172-40DF-94A4-F0982A06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75890-A6A2-4432-BB8F-87A7022E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392B2-1594-4BA9-9E15-4AC6A355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F367-68BA-4B07-8C11-5CABFAA0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F4DD-AE65-4047-9F0A-DB998CB3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AA91-4F21-49A3-A7F8-A22AC43B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72CA-3215-4105-A9A8-58E0F7F8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E27B-2022-4F52-AA25-3CD07529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CC04-12FF-4919-A136-FF88D6AC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BDF7-FD21-48AA-8096-70010077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3F66-7D3E-4323-9CDF-A21E1A37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5732-EB10-4997-B9C8-D7A1E391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B310-A51C-43DF-A3E5-C6F6FC71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D456-927F-40A3-B4CF-6C8C9AFB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7E9CC-C0B4-4FD1-A8CF-517EF450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CB103-210D-44B7-89AD-33C44D8E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832A5-69C5-4775-9ECD-FB423076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2E4B1-4271-4D40-BFFB-2F4E4858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ADA0A-6965-4FF9-9F9C-05BDCAC7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39E2-CC7D-4ECA-AE28-60A45D7B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1E39F-F2C4-4E7F-BE2E-64F0F894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9729D-B972-46D4-95D1-96214296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841F3-430E-4F98-A69F-9D08CED1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1C736-8C5F-401F-83DD-1F44D213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28E6E-E7E4-44A0-928B-F7EBFE16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74EBE-8FE4-4E52-84FA-AB9661E9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706C9-398C-4DAF-B816-50654DBFB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5F9CA-B065-4AE3-9AAC-939A39A2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018F1-8392-4F16-A4C6-165E0B04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20E50-EE12-45AB-9675-9761FF58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6079-CB40-4706-BA9F-CA783CBA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D2400-8A9A-497A-98C8-D08EA4F8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9FF46-7EE1-4335-B844-027D4C4F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BFD24-4126-41A4-BAEB-219A8FCF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7538C-A33B-4F5B-9177-0D3CEC46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47F4D-CCC4-4BBE-B335-D1C4B246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AC1F5-8EE0-4E04-A768-12399F4F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5DAF4-D9B4-4522-9A79-6F0BDDA6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7B566-62D6-455A-8D69-3244AA41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BB4F5-1393-42C8-AFE8-EB296E93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E5A56-995B-4355-8E32-BFBA7480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2DD1-8231-456D-8377-DE3CF14E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1454B-34A3-44FD-ACDD-7E17BF24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4D39A-6FF9-4597-8D97-95778064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378A9-0354-4FAE-BFB3-1B2574FD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9B7A5-58E7-4A81-BFB9-1BB1EA73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432E9-B64D-485D-AB05-F3A21512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72DAD-5635-4F2D-A5C3-6F79FBC0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6C0DE-D03B-4FAB-AE76-0B264A61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7A342-2C26-462D-8CF7-18686570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C7082-E885-42A3-B1C1-45D68F19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01AA0-D1BB-4972-B57E-72581E95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190-9B01-406F-A850-21876355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86C02-5D83-4E6A-9E31-74B4C73D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3BA82-B7B1-46C2-8BFD-5A7B799B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5EA20-5D85-4F43-AA7F-3300792C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CF261-C154-4E9B-A9E1-9440B94C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90011-6A3D-4DC7-8064-2C8311CD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A77D4-5EA4-40DE-8D43-43792113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54539-FF4B-4475-8458-4E69C9F5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AFE2D-2ECC-4AD1-8A8F-173BCD53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FDA47-ED99-4955-8C68-D3D544BD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B1D25-D237-477E-8BEA-37E714CC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20B-436A-4B23-89A0-CBDFEB53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91D9C-5E12-433A-9273-A32BEFC0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3C7EE-EE1C-40F5-A217-C43E72A0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CD1D7-7965-4EF8-BE0F-99FA6ED2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2480F-7537-4526-8C83-5D229076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56FDE-8D89-4230-AB14-739F4F4B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E0F78-4BEA-494E-A140-A45B0BEF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4AD5C-B3FF-4E67-AB1C-AEB23D00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9C179-926B-40A3-99AE-0B70EF80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8879D-0716-449A-9155-61BC5FED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246A9-74A9-4BA7-BBDC-41981BE4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0E11-FA37-47F0-88FE-168D04EC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48134-D4E5-4D5F-AFB9-4482247B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31BE7-2E59-4AE4-974B-B65E2464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40393-74C8-40E6-933B-A439E4E2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C5A71-E30B-4B2B-ACA2-AD0BA423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BBA0D-35C8-4B08-B43E-D87FD709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5F89E-2ED3-489E-974E-8B39AC92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AFB36-9D7F-433C-83C1-23AB0464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3D453-1509-4A97-A868-8DAD61F5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0D9F2-635D-472F-BAE9-0A7B8A7C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C37C8-5D01-41DC-9475-CBFD4C57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04FA-41B3-44ED-AF6F-4AC177CD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D4CFE-0037-40D1-817E-E45CCDE3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C8AAB-8453-4818-8991-6FE4FD73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1760A-EC3F-4168-AB15-9BD14823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392E0-BF85-4867-A18A-6B4F93A9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4CC67-1D58-489E-9C9D-67DF77A3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5665B-C385-453C-A1A5-DC0511FF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8D108-C528-46F9-BE7B-9DC3A084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E1350-97BC-4617-9913-2CE83243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27BED-F86C-4782-A346-09D4DC05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83F6B-4F49-4AC3-8315-A8934B10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6.10.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2F17-B3AD-4619-BF25-B66EBCED784E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2057-A2E8-409D-88A9-8A0BEE0F70A3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1181-9103-4C43-AD3C-9E4AD7255ED9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81A1-591B-4FAA-94DA-4221AF9BA853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917D-0247-4E25-B184-C9EFCDC7332A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B472-0358-4DB1-83CB-BE8BA5B943B7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9919-7B4E-4739-87C1-02F97EDE2424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6E1A-3FDC-4896-AFD6-DD6AB7679579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6BB3-CEE7-4B97-A79C-E3E06036BF21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89CF-3F51-433B-9636-A313CAB684B7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EDE6-EA65-48EA-B26B-1E839C3D6258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457200" y="-3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усский язык                                                          Повторение и закрепление изученных орфограмм. </a:t>
            </a:r>
            <a:endParaRPr b="1" lang="en-US" sz="40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Calibri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Взаимопроверка</a:t>
            </a: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42960" y="856800"/>
            <a:ext cx="785808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66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Изл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гать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66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Пол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жить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66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Изл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жение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66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Прил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гательное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66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Распол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жение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66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Отр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сль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66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Р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стение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66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Р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сток 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66"/>
              </a:buClr>
              <a:buFont typeface="Calibri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14" name="Прямоугольник 3"/>
          <p:cNvSpPr/>
          <p:nvPr/>
        </p:nvSpPr>
        <p:spPr>
          <a:xfrm>
            <a:off x="5500800" y="1357200"/>
            <a:ext cx="285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alibri"/>
              </a:rPr>
              <a:t>Критер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alibri"/>
              </a:rPr>
              <a:t>«5» – нет ошиб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alibri"/>
              </a:rPr>
              <a:t>«4» – 1-2 ошиб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alibri"/>
              </a:rPr>
              <a:t>«3» – 3-4 ошиб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Рисунок 5" descr="45428.jpeg"/>
          <p:cNvPicPr/>
          <p:nvPr/>
        </p:nvPicPr>
        <p:blipFill>
          <a:blip r:embed="rId1"/>
          <a:stretch/>
        </p:blipFill>
        <p:spPr>
          <a:xfrm>
            <a:off x="5715000" y="2714760"/>
            <a:ext cx="3071880" cy="4143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Рисунок 3" descr="001 (2).jpg"/>
          <p:cNvPicPr/>
          <p:nvPr/>
        </p:nvPicPr>
        <p:blipFill>
          <a:blip r:embed="rId1"/>
          <a:stretch/>
        </p:blipFill>
        <p:spPr>
          <a:xfrm>
            <a:off x="7089840" y="1214280"/>
            <a:ext cx="2054160" cy="56437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Буквы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 и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 в корнях с чередованием</a:t>
            </a:r>
            <a:endParaRPr b="1" lang="en-US" sz="40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Расст-лать - расст-лить                                                             соб- рать –   соб- ру                                                       зам -реть -  зам –рать                                                   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?????                                               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 Зал-зал раны – зал-зал на крышу 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Пол- скал собаку – пол- скал белье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Отв-рил картошку –отв-рил дверь                      прим-рял братьев – прим-рял костюм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апишите свои примеры</a:t>
            </a:r>
            <a:br>
              <a:rPr sz="3200"/>
            </a:b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108000" y="1643040"/>
          <a:ext cx="8712000" cy="4449960"/>
        </p:xfrm>
        <a:graphic>
          <a:graphicData uri="http://schemas.openxmlformats.org/drawingml/2006/table">
            <a:tbl>
              <a:tblPr/>
              <a:tblGrid>
                <a:gridCol w="1946160"/>
                <a:gridCol w="1870200"/>
                <a:gridCol w="2770200"/>
                <a:gridCol w="2125440"/>
              </a:tblGrid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иды  орфограмм  в корн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0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Проверяемые произношение гласные и соглас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Непроверяемые произношением гласные и соглас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Чередующиеся глас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ласные после шипящих (чу-щу, ча-ща, жи-ш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111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p:transition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55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бъяснялки                                                            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в газете «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авда» , пели в парк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е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, гордился врач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м, в красив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м дворе, дрему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ч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,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доумевал,  береч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ь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, учиш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ь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я,  улыбат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ь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я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22" name="Рисунок 8" descr="xqe2fsqkxf4-zima_v_prostokvashino_multfilm_smotret.jpg"/>
          <p:cNvPicPr/>
          <p:nvPr/>
        </p:nvPicPr>
        <p:blipFill>
          <a:blip r:embed="rId1"/>
          <a:stretch/>
        </p:blipFill>
        <p:spPr>
          <a:xfrm>
            <a:off x="6067440" y="0"/>
            <a:ext cx="30765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пряжение глагола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" descr="C:\Users\1\Desktop\spryazhenie-glagolov.jpg"/>
          <p:cNvPicPr/>
          <p:nvPr/>
        </p:nvPicPr>
        <p:blipFill>
          <a:blip r:embed="rId2"/>
          <a:stretch/>
        </p:blipFill>
        <p:spPr>
          <a:xfrm>
            <a:off x="357120" y="1071720"/>
            <a:ext cx="85010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предели спряжение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Пыла- т, гон-шься, стел-тся , улыба-тся,  бре-т, держ-т,  ед-т, дыш-шь, уч-шься, загон-т, завис-ть, завис-т, смотр-ть, увид-л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28" name="Содержимое 2"/>
          <p:cNvSpPr/>
          <p:nvPr/>
        </p:nvSpPr>
        <p:spPr>
          <a:xfrm>
            <a:off x="457200" y="2643120"/>
            <a:ext cx="822960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Содержимое 2"/>
          <p:cNvSpPr/>
          <p:nvPr/>
        </p:nvSpPr>
        <p:spPr>
          <a:xfrm>
            <a:off x="914400" y="1500120"/>
            <a:ext cx="822960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Содержимое 3" descr="51a607d4e2fedec40ba80c260a5.jpg"/>
          <p:cNvPicPr/>
          <p:nvPr/>
        </p:nvPicPr>
        <p:blipFill>
          <a:blip r:embed="rId1"/>
          <a:stretch/>
        </p:blipFill>
        <p:spPr>
          <a:xfrm>
            <a:off x="2357280" y="3500280"/>
            <a:ext cx="47149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Рисунок 3" descr="1226578463_prostokvashyno149312265x211-300x238.jpeg"/>
          <p:cNvPicPr/>
          <p:nvPr/>
        </p:nvPicPr>
        <p:blipFill>
          <a:blip r:embed="rId1"/>
          <a:stretch/>
        </p:blipFill>
        <p:spPr>
          <a:xfrm>
            <a:off x="642960" y="1428840"/>
            <a:ext cx="7643880" cy="50004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Молодцы!</a:t>
            </a:r>
            <a:endParaRPr b="1" lang="en-US" sz="5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643040" y="1499760"/>
            <a:ext cx="550080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	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</p:spTree>
  </p:cSld>
  <p:transition>
    <p:diamond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Рисунок 2" descr="345fb5f4c333.jpg"/>
          <p:cNvPicPr/>
          <p:nvPr/>
        </p:nvPicPr>
        <p:blipFill>
          <a:blip r:embed="rId1"/>
          <a:stretch/>
        </p:blipFill>
        <p:spPr>
          <a:xfrm>
            <a:off x="6303960" y="3357720"/>
            <a:ext cx="2840040" cy="350028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 txBox="1"/>
          <p:nvPr/>
        </p:nvSpPr>
        <p:spPr>
          <a:xfrm>
            <a:off x="1285920" y="476280"/>
            <a:ext cx="74008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Для чего мы изучаем русский  язык?</a:t>
            </a: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1" lang="en-US" sz="4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справьте все ошибки                                     в письме дяди Федора.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56760" y="-360"/>
            <a:ext cx="85726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«Дорогой Дядя Фёдор! Приезжай скорей в Простоквашино! У нас проблемы! Шарик с Матроскиным опять поругались и не хотят в огороде работать. А в огороде вырасли помидоры. Надо собирать. Дорожки позаростали бурьяном. Я предлогал помощь, а они отказываются. В бочке с водой одна тина да водорасли. Яблоки вырасли и червям достались. Матроскин лишь на печи лежит, да песни предлогает слогать. И Шарик не хочет лапы свои к делу прилажить. Услажняют они мне работу…Пропадает вырощенный урожай! 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от такие дела. Приезжай скорее, Дядя Фёдор!»</a:t>
            </a:r>
            <a:endParaRPr b="1" lang="en-US" sz="3000" spc="-1" strike="noStrike">
              <a:solidFill>
                <a:srgbClr val="000066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56760" y="-360"/>
            <a:ext cx="85726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«Дорогой Дядя Фёдор! Приезжай скорей в Простоквашино! У нас проблемы! Шарик с Матроскиным опять поругались и не хотят в огороде работать. А в огороде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выросли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омидоры. Надо собирать. Дорожки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позарастали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бурьяном. Я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предлагал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помощь, а они отказываются. В бочке с водой одна тина да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водоросли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. Яблоки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выросли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и червям достались. Матроскин лишь на печи лежит, да песни нам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предлагает слагать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. И Шарик не хочет лапы свои к делу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приложить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Усложняют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они мне работу…Пропадает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выращенный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урожай! 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от такие дела. Приезжай скорее, Дядя Фёдор!»</a:t>
            </a:r>
            <a:endParaRPr b="1" lang="en-US" sz="3000" spc="-1" strike="noStrike">
              <a:solidFill>
                <a:srgbClr val="000066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9" name=""/>
          <p:cNvGraphicFramePr/>
          <p:nvPr/>
        </p:nvGraphicFramePr>
        <p:xfrm>
          <a:off x="571680" y="357120"/>
          <a:ext cx="8229600" cy="4368960"/>
        </p:xfrm>
        <a:graphic>
          <a:graphicData uri="http://schemas.openxmlformats.org/drawingml/2006/table">
            <a:tbl>
              <a:tblPr/>
              <a:tblGrid>
                <a:gridCol w="1696680"/>
                <a:gridCol w="1946520"/>
                <a:gridCol w="2643120"/>
                <a:gridCol w="1943280"/>
              </a:tblGrid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иды  орфограмм   в корн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Проверяемые произношение гласные и соглас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Непроверяемые произношением гласные и соглас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Чередующиеся глас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ласные после шипящих (чу-щу, ча-ща, жи-ш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18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пинка, находился, луг, овраг, лесная, сторож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рогу, осокой, овраг, поляна, здесь, чувствуйте, себя, поч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росла, зарастающий, расположилась, устраиваться, загореть, загар, коснулся, касал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ирокий,  чудесная, почувствовал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pic>
        <p:nvPicPr>
          <p:cNvPr id="500" name="Рисунок 5" descr="908595snapshot20110109080923.jpg.jpg"/>
          <p:cNvPicPr/>
          <p:nvPr/>
        </p:nvPicPr>
        <p:blipFill>
          <a:blip r:embed="rId1"/>
          <a:stretch/>
        </p:blipFill>
        <p:spPr>
          <a:xfrm>
            <a:off x="5500800" y="4357800"/>
            <a:ext cx="3214440" cy="25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57120" y="785880"/>
            <a:ext cx="878688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-л-сок, пр-грамма,  нело-кий,  п-здний,  вкус-ный,                                    площ-дь,об-яснить,  сем-я, (над) школой, (над)писать, доч-, много задач-, мощ-ный, воз-му,   п-д-звал, -делать, -доровье,  ра-писание, ра-будить,  ж-лтый, крыж-вник, ц-фры, ц-ган.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502" name="Рисунок 5" descr="1321171644_1252405428_4.jpg"/>
          <p:cNvPicPr/>
          <p:nvPr/>
        </p:nvPicPr>
        <p:blipFill>
          <a:blip r:embed="rId1"/>
          <a:stretch/>
        </p:blipFill>
        <p:spPr>
          <a:xfrm>
            <a:off x="2071800" y="3857760"/>
            <a:ext cx="5929200" cy="257148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рфограммы в приставках и                                   в корнях слов</a:t>
            </a:r>
            <a:endParaRPr b="1" lang="en-US" sz="4000" spc="-1" strike="noStrike">
              <a:solidFill>
                <a:srgbClr val="00206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помни!</a:t>
            </a:r>
            <a:endParaRPr b="1" lang="en-US" sz="4000" spc="-1" strike="noStrike">
              <a:solidFill>
                <a:srgbClr val="002060"/>
              </a:solidFill>
              <a:latin typeface="Calibri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428760" y="776160"/>
          <a:ext cx="8229600" cy="1581120"/>
        </p:xfrm>
        <a:graphic>
          <a:graphicData uri="http://schemas.openxmlformats.org/drawingml/2006/table">
            <a:tbl>
              <a:tblPr/>
              <a:tblGrid>
                <a:gridCol w="2714400"/>
                <a:gridCol w="2772000"/>
                <a:gridCol w="2743200"/>
              </a:tblGrid>
              <a:tr h="45720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  –  А  в корнях  - лож-   -лаг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ишу   перед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Ж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ЛОЖ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ложить, сложи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85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пишу перед 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ЛАГ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агаемое, полаг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склю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ло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428760" y="2500200"/>
          <a:ext cx="8215200" cy="2279880"/>
        </p:xfrm>
        <a:graphic>
          <a:graphicData uri="http://schemas.openxmlformats.org/drawingml/2006/table">
            <a:tbl>
              <a:tblPr/>
              <a:tblGrid>
                <a:gridCol w="2762280"/>
                <a:gridCol w="2761920"/>
                <a:gridCol w="2691000"/>
              </a:tblGrid>
              <a:tr h="45756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 -  А в корнях- рос-   -  раст  -     - ращ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ишу , если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е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и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РОС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ли, выросл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шу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ере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Т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РАСТ - РАЩ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и, раститель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склю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остов, росток, ростовщик, Ростислав, отрас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78920" y="285480"/>
            <a:ext cx="87138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2d313c"/>
                </a:solidFill>
                <a:latin typeface="Calibri"/>
              </a:rPr>
              <a:t>Распол…жился у костра,     пол…гаться на друга, предл…жить помощь,     жители Р…стова -на Дону, пишешь изл…жение,     изучаешь прил…гательное, трудное пол…жение,      Петров Р…стислав,      богатая р…стительность,   деревья быстро выр…ли, маленький р…сток,          подр…стающее поколение.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Подведём итоги. Буквенный диктант</a:t>
            </a: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571320"/>
            <a:ext cx="8229600" cy="60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1) изл…гать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2) пол…жить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3) изл…жение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4) прл…гательное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5) распол…жение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6) предпол…жение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7) отр…сль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8) р…стение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9) зар…сли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10) сл…гаемое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апишите только букву, которую нужно вставить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511" name="Рисунок 5" descr="001.jpg"/>
          <p:cNvPicPr/>
          <p:nvPr/>
        </p:nvPicPr>
        <p:blipFill>
          <a:blip r:embed="rId1"/>
          <a:stretch/>
        </p:blipFill>
        <p:spPr>
          <a:xfrm>
            <a:off x="4357800" y="857160"/>
            <a:ext cx="4081320" cy="4807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5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37:14Z</dcterms:created>
  <dc:creator>МИХАЛЬЧИК Л.Д.;Михальчик</dc:creator>
  <dc:description/>
  <cp:keywords>Мила</cp:keywords>
  <dc:language>en-US</dc:language>
  <cp:lastModifiedBy>Татьяна</cp:lastModifiedBy>
  <dcterms:modified xsi:type="dcterms:W3CDTF">2020-05-18T07:57:50Z</dcterms:modified>
  <cp:revision>165</cp:revision>
  <dc:subject/>
  <dc:title>Шаблон оформл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291049</vt:lpwstr>
  </property>
</Properties>
</file>