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dt" idx="1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1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418BE-B8E8-4468-B3CC-02481E65C6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AB0D5-F455-42D8-880E-F936AB8AF9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3244B-0D91-4CA1-9A1A-72CEE7A77F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006A0-BEFC-4ECC-A53F-CF7378CDBA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1DA37-F3C5-4E42-8028-F9437B99E7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EC53E-26A4-43F6-8C96-D1773B16CE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4CF45-FD67-4E04-B0EF-F9FFD3FFF8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E32D0-A564-41C2-A72D-06AB7CB29D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81D7C-A1BA-4EBE-ABD1-9672DE76FA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356A5-AA8D-4B94-8049-C31E9F9A4D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901A4-BA29-4F85-BEF9-6D6F202852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128C7-2A90-48BB-86F7-A6EFD8A272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D439E-8350-46D3-B2F4-1857B4C24D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8D67-0017-4EE0-A521-6783603E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66A9-704D-42C1-8277-FF0E46F9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F144-6BE8-421A-A033-4F18F5B9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B6CF-4124-4588-9AB4-C72C8733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9404-B30C-4F04-A47B-664A2471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849B-9974-4856-9D76-702D7457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5378-3ECC-46B0-A5BD-C9D96C64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EF3D-C8B2-49DF-98D4-7E98179C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8366-E6D9-4845-9A60-1F002868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EB53-4382-4636-9AB4-A2934A0A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A97A-6692-46F2-84FB-06984BD9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827F-7D7D-422F-BDAE-804D15BB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D27E-D6AF-44A3-8ED4-E15FFEC7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3B6E-63CF-420D-93E8-1B1C5FDA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9CF0-B1EF-42EE-AE70-4DC76DDE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8975-8E3E-4D69-B422-0D7E24720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C17E-EF72-4704-82E3-39F586AD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C311F-1C58-43C1-8B1F-E33B824E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C46AE-42C5-485B-899B-50FC527B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90BBF-8758-4E6E-926D-A8DA4E3C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D9D6C-1660-4552-B5AF-49583CB3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0446D-5CCC-41FF-BBE3-6BF296FB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A423-3285-487A-B67B-DD7EF791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CD5A7-479F-459A-A811-2E33101C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E79EB-B838-4051-A642-E25E7613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6BC14-2A82-41B0-B536-70827811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683F8-F0D2-40D8-8797-0BB5BB0C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589E3-51F8-458C-B19B-FDDDAFEF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DE3B1-69DE-4292-B0BD-2612E2A3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0B8CB-9F37-46F3-9EE3-AA5773BA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3F3AB5-873D-4D4C-84E5-B7E932F3FA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791E20-A668-4470-BA8D-8C0D8821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D40385-181A-4CFD-9487-B4268B95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AD00-2FE5-4E35-8207-2E6C5DC5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F1A8DB-0302-4B22-8DA3-D863290B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BC932D-02A2-42FB-B03C-0442FCB4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398ADF-E2DB-4408-BF48-652D9FDD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BA9372-5B00-4A16-A5C7-D0C48898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A01502-2525-48EA-9F5F-8264004B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27CD1C-0228-4909-B9DD-EB57A681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48ACDE-EF5B-43C5-9B66-C33F201C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DEC244-B3F1-42F1-A6F0-C640531B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17DFF3-9B3F-44CC-8A4B-12F574FBFD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7BC00A-FDEB-478C-9663-F5E77E94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A772-0013-46CD-B100-738219EC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E8E8C0-5D00-4E15-9E0A-82E70D46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E199C2-00F9-4C7A-A48B-483FB65D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8C09C4-8A98-449D-96C9-5BDBD0FB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51901A-9318-40EA-ADEF-2AEDA0C3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4CD37E-0EE8-49A3-94D1-FA1375D6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35E367-E477-42C0-88D1-E88FFAEF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E049C7-F824-47BB-9083-BF329F35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8FE5D6-B205-4D11-A8AF-70DCF6CC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85401F-17E2-4AD7-9458-4744497C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4E53C7-42A2-4A1B-AC2E-5EFEF3CD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2882-500E-4F6A-917B-2FE310F3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D6A461-F37C-4202-9F85-F4C83232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B146-3C37-42C6-86AB-EAEC27F3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C7A5-41B3-493D-9972-10624FB7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5D54-A908-469F-BAA1-2DB4D058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D50EB3-D36B-4C1D-8BAE-1D0940F947D8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FE18E6-91AA-4DA2-9BB9-4131BD5074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8E415B-498C-4A14-ACB8-4A57E9F05451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03DC7F-2785-4A3D-85B3-1A26C6AA945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0BAFA4-BD5B-4387-9319-E55623541238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6CFBF4-5473-4402-851C-5FE568CA77E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3E37B9-C609-42C6-9C98-9360C7A36E20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1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B192D6-AFE7-4728-9FB2-96014834E1D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3A5A63-9B9D-400D-9755-39FB1A7A6F3F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C626FC0-B1DF-4A98-BCD6-B8F52188781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8000" y="1196640"/>
            <a:ext cx="91440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4000"/>
            </a:br>
            <a:br>
              <a:rPr sz="4000"/>
            </a:br>
            <a:r>
              <a:rPr b="1" lang="ru-RU" sz="6000" spc="-1" strike="noStrike">
                <a:solidFill>
                  <a:srgbClr val="01181f"/>
                </a:solidFill>
                <a:latin typeface="Calibri Light"/>
              </a:rPr>
              <a:t>«Предметно-развивающая среда кабинета начальных классов»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8600" y="620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Санитарно-гигиеническая зона должна содержать: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1258920" y="2075040"/>
            <a:ext cx="74628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18432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1843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овину для мытья рук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1843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гигиенические средства(жидкое мыло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1843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алетную бумаг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1843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мажные полотенц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овая зона: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468360" y="177336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ы для влажной уборки кабинета(ведра, половые тряпки, веники, мусорные ведра и т.д.)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2916360" y="3057480"/>
            <a:ext cx="352728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Требования к кабинету начальных классо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395280" y="1557360"/>
            <a:ext cx="8353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бинет должен отвечать всем санитарно-гигиеническим условиям, эстетическим и техническим требовани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кабинете должно быть хорошее освещение и положительное состояние мебе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змеры проходов, расстояние между предметами, между рядами двухместных столов не менее 60 см, от столов до стены от 50 см до 70 см, от первой парты до доски не менее 2</a:t>
            </a:r>
            <a:r>
              <a:rPr b="0" lang="ru-RU" sz="2800" spc="-1" strike="noStrike">
                <a:solidFill>
                  <a:srgbClr val="000000"/>
                </a:solidFill>
                <a:latin typeface="Stenci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4 -2</a:t>
            </a:r>
            <a:r>
              <a:rPr b="0" lang="ru-RU" sz="2800" spc="-1" strike="noStrike">
                <a:solidFill>
                  <a:srgbClr val="000000"/>
                </a:solidFill>
                <a:latin typeface="Stenci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7 м, наибольшая удаленность ученика от доски 860 см, высота доски от пола 80-90 с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582480" y="352440"/>
            <a:ext cx="8785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a0c"/>
                </a:solidFill>
                <a:latin typeface="Times New Roman"/>
                <a:ea typeface="Times New Roman"/>
              </a:rPr>
              <a:t>В кабинете должны быть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5240" y="404640"/>
            <a:ext cx="8281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a0c"/>
                </a:solidFill>
                <a:latin typeface="Times New Roman"/>
                <a:ea typeface="Times New Roman"/>
              </a:rPr>
              <a:t>Оформление кабинета начальных классов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82120" y="2330280"/>
            <a:ext cx="76201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ративные элементы и методические материалы, но они не должны отвлекать ученика от урок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ы пастельные тона, не перегружающие зрение де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ы условия для комфортного обучения детей, где ребенок может обучаться, отдыха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Предметно - развивающая сред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982800" y="1700280"/>
            <a:ext cx="7200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из следующих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о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SzPct val="95000"/>
              <a:buFont typeface="Times New Roman"/>
              <a:buAutoNum type="arabicParenR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SzPct val="95000"/>
              <a:buFont typeface="Times New Roman"/>
              <a:buAutoNum type="arabicParenR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SzPct val="95000"/>
              <a:buFont typeface="Times New Roman"/>
              <a:buAutoNum type="arabicParenR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SzPct val="95000"/>
              <a:buFont typeface="Times New Roman"/>
              <a:buAutoNum type="arabicParenR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а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SzPct val="95000"/>
              <a:buFont typeface="Times New Roman"/>
              <a:buAutoNum type="arabicParenR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гигиеническ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SzPct val="95000"/>
              <a:buFont typeface="Times New Roman"/>
              <a:buAutoNum type="arabicParenR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ов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Учебная зон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46836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учебной зоне должны быть расположены: парты, учительский стол, учебная доска, интерактивная доска, компьютер, ТВ, проект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остранство должно сочетать строгость и комфорт, где предметы должны быть друг от друга на определенном требованиями расстоянии. 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1" descr=""/>
          <p:cNvPicPr/>
          <p:nvPr/>
        </p:nvPicPr>
        <p:blipFill>
          <a:blip r:embed="rId1"/>
          <a:stretch/>
        </p:blipFill>
        <p:spPr>
          <a:xfrm>
            <a:off x="5219640" y="3919680"/>
            <a:ext cx="3611520" cy="293832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2" descr=""/>
          <p:cNvPicPr/>
          <p:nvPr/>
        </p:nvPicPr>
        <p:blipFill>
          <a:blip r:embed="rId2"/>
          <a:stretch/>
        </p:blipFill>
        <p:spPr>
          <a:xfrm>
            <a:off x="484200" y="4170240"/>
            <a:ext cx="359100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Игровая зон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395280" y="1197000"/>
            <a:ext cx="822960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игровой зоне должны быть расположены: мягкая мебель, журнальный столик, детские игрушки и иг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анная зона специально предназначена для отдыха детей и ощущения ими домашнего комфор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формление игровой зоны должно соответствовать общему оформлению кабин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2771640" y="3357720"/>
            <a:ext cx="3490920" cy="32860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1" descr=""/>
          <p:cNvPicPr/>
          <p:nvPr/>
        </p:nvPicPr>
        <p:blipFill>
          <a:blip r:embed="rId2"/>
          <a:stretch/>
        </p:blipFill>
        <p:spPr>
          <a:xfrm>
            <a:off x="1225440" y="189000"/>
            <a:ext cx="6296040" cy="30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4000" y="-819000"/>
            <a:ext cx="7848360" cy="104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Информационная зона должна содержать следующую информацию: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2960" y="2225520"/>
            <a:ext cx="76197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ля родител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здоровом образе жиз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правилах дорожного движе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 основе безопасности жизнедеятель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анном классе (список класса, актив класса, дни рождения детей и т.д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имволика страны, области, района и т.д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181f"/>
                </a:solidFill>
                <a:latin typeface="Calibri"/>
              </a:rPr>
              <a:t>Зеленая зон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243000" y="1052640"/>
            <a:ext cx="8569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ая зона должна быть оснащена информационной картой о цветах (название, семейство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же зеленая зона может содержать аквариум, но при этом условии и должна быть информационная карта о рыбах(название, семейство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1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3" descr=""/>
          <p:cNvPicPr/>
          <p:nvPr/>
        </p:nvPicPr>
        <p:blipFill>
          <a:blip r:embed="rId2"/>
          <a:stretch/>
        </p:blipFill>
        <p:spPr>
          <a:xfrm>
            <a:off x="3492360" y="2708280"/>
            <a:ext cx="4894560" cy="3666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5T04:06:40Z</dcterms:created>
  <dc:creator>Юлиана</dc:creator>
  <dc:description/>
  <cp:keywords/>
  <dc:language>en-US</dc:language>
  <cp:lastModifiedBy>User</cp:lastModifiedBy>
  <dcterms:modified xsi:type="dcterms:W3CDTF">2020-05-17T21:24:26Z</dcterms:modified>
  <cp:revision>47</cp:revision>
  <dc:subject/>
  <dc:title>Проект  «Предметно-развивающая среда кабинета начальных классо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5</vt:r8>
  </property>
</Properties>
</file>