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chimes.wav" ContentType="audio/x-wav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AutoShape 3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4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5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AutoShape 6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AutoShape 7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AutoShape 8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AutoShape 9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AutoShape 10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AutoShape 1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AutoShape 12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AutoShape 13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AutoShape 14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AutoShape 15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AutoShape 16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AutoShape 17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06640" y="812520"/>
            <a:ext cx="5316480" cy="39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19920" cy="47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20"/>
          <p:cNvSpPr/>
          <p:nvPr/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Text Box 21"/>
          <p:cNvSpPr/>
          <p:nvPr/>
        </p:nvSpPr>
        <p:spPr>
          <a:xfrm>
            <a:off x="4278240" y="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Text Box 22"/>
          <p:cNvSpPr/>
          <p:nvPr/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sldNum" idx="2"/>
          </p:nvPr>
        </p:nvSpPr>
        <p:spPr>
          <a:xfrm>
            <a:off x="4278240" y="10154880"/>
            <a:ext cx="3252960" cy="50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87A867-AB4C-42ED-B4C6-B0124EBD2CE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23"/>
          <p:cNvSpPr/>
          <p:nvPr/>
        </p:nvSpPr>
        <p:spPr>
          <a:xfrm>
            <a:off x="4278240" y="10155240"/>
            <a:ext cx="325296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1B8E99-7EA4-4ADB-940F-432BD4A9467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Text Box 1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0FAE76-9CDC-404B-8F60-BC0C7BC7978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2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21360" cy="47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23"/>
          <p:cNvSpPr/>
          <p:nvPr/>
        </p:nvSpPr>
        <p:spPr>
          <a:xfrm>
            <a:off x="4278240" y="10155240"/>
            <a:ext cx="325296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C330AD-603B-4ADC-A3E4-57994D0354C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Text Box 1"/>
          <p:cNvSpPr/>
          <p:nvPr/>
        </p:nvSpPr>
        <p:spPr>
          <a:xfrm>
            <a:off x="1106640" y="812880"/>
            <a:ext cx="5329080" cy="3992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21360" cy="47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23"/>
          <p:cNvSpPr/>
          <p:nvPr/>
        </p:nvSpPr>
        <p:spPr>
          <a:xfrm>
            <a:off x="4278240" y="10155240"/>
            <a:ext cx="325296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258E8B-655B-455A-B564-F3BAF41B964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Text Box 1"/>
          <p:cNvSpPr/>
          <p:nvPr/>
        </p:nvSpPr>
        <p:spPr>
          <a:xfrm>
            <a:off x="1106640" y="812880"/>
            <a:ext cx="5329080" cy="3992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21360" cy="47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23"/>
          <p:cNvSpPr/>
          <p:nvPr/>
        </p:nvSpPr>
        <p:spPr>
          <a:xfrm>
            <a:off x="4278240" y="10155240"/>
            <a:ext cx="325296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36E615-41B9-4388-A46A-81996A3CE78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Text Box 1"/>
          <p:cNvSpPr/>
          <p:nvPr/>
        </p:nvSpPr>
        <p:spPr>
          <a:xfrm>
            <a:off x="1106640" y="812880"/>
            <a:ext cx="534348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21360" cy="47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23"/>
          <p:cNvSpPr/>
          <p:nvPr/>
        </p:nvSpPr>
        <p:spPr>
          <a:xfrm>
            <a:off x="4278240" y="10155240"/>
            <a:ext cx="325296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250E51-9FD6-4AD4-9363-0F5BCED2C04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 Box 1"/>
          <p:cNvSpPr/>
          <p:nvPr/>
        </p:nvSpPr>
        <p:spPr>
          <a:xfrm>
            <a:off x="1106640" y="812880"/>
            <a:ext cx="53467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21360" cy="47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23"/>
          <p:cNvSpPr/>
          <p:nvPr/>
        </p:nvSpPr>
        <p:spPr>
          <a:xfrm>
            <a:off x="4278240" y="10155240"/>
            <a:ext cx="325296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235A62-E182-488E-AB02-CDF65B5D235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Text Box 1"/>
          <p:cNvSpPr/>
          <p:nvPr/>
        </p:nvSpPr>
        <p:spPr>
          <a:xfrm>
            <a:off x="1106640" y="812880"/>
            <a:ext cx="534348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21360" cy="47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23"/>
          <p:cNvSpPr/>
          <p:nvPr/>
        </p:nvSpPr>
        <p:spPr>
          <a:xfrm>
            <a:off x="4278240" y="10155240"/>
            <a:ext cx="325296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27C553-0238-4C09-8C84-1CD50ABAE83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Text Box 1"/>
          <p:cNvSpPr/>
          <p:nvPr/>
        </p:nvSpPr>
        <p:spPr>
          <a:xfrm>
            <a:off x="1106640" y="812880"/>
            <a:ext cx="534348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21360" cy="47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23"/>
          <p:cNvSpPr/>
          <p:nvPr/>
        </p:nvSpPr>
        <p:spPr>
          <a:xfrm>
            <a:off x="4278240" y="10155240"/>
            <a:ext cx="325296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2D3672-18E8-4332-BF02-01C3E360FAA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Text Box 1"/>
          <p:cNvSpPr/>
          <p:nvPr/>
        </p:nvSpPr>
        <p:spPr>
          <a:xfrm>
            <a:off x="1106640" y="812880"/>
            <a:ext cx="534348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21360" cy="47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23"/>
          <p:cNvSpPr/>
          <p:nvPr/>
        </p:nvSpPr>
        <p:spPr>
          <a:xfrm>
            <a:off x="4278240" y="10155240"/>
            <a:ext cx="325296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151FB9-0799-46DF-985C-96A5676D0C0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 Box 1"/>
          <p:cNvSpPr/>
          <p:nvPr/>
        </p:nvSpPr>
        <p:spPr>
          <a:xfrm>
            <a:off x="1106640" y="812880"/>
            <a:ext cx="534348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21360" cy="47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23"/>
          <p:cNvSpPr/>
          <p:nvPr/>
        </p:nvSpPr>
        <p:spPr>
          <a:xfrm>
            <a:off x="4278240" y="10155240"/>
            <a:ext cx="325296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4744C1-FB10-430C-AD71-AF00DE52BAB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Text Box 1"/>
          <p:cNvSpPr/>
          <p:nvPr/>
        </p:nvSpPr>
        <p:spPr>
          <a:xfrm>
            <a:off x="1106640" y="812880"/>
            <a:ext cx="534348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21360" cy="47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23"/>
          <p:cNvSpPr/>
          <p:nvPr/>
        </p:nvSpPr>
        <p:spPr>
          <a:xfrm>
            <a:off x="4278240" y="10155240"/>
            <a:ext cx="325296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2B1CCB-85BB-42A0-B794-54BA896ADBC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Text Box 1"/>
          <p:cNvSpPr/>
          <p:nvPr/>
        </p:nvSpPr>
        <p:spPr>
          <a:xfrm>
            <a:off x="1106640" y="812880"/>
            <a:ext cx="534348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21360" cy="47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23"/>
          <p:cNvSpPr/>
          <p:nvPr/>
        </p:nvSpPr>
        <p:spPr>
          <a:xfrm>
            <a:off x="4278240" y="10155240"/>
            <a:ext cx="325296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EBDB9F-F3C4-44F8-B0DB-5724D1471BF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Text Box 1"/>
          <p:cNvSpPr/>
          <p:nvPr/>
        </p:nvSpPr>
        <p:spPr>
          <a:xfrm>
            <a:off x="1106640" y="812880"/>
            <a:ext cx="5338440" cy="400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21360" cy="47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23"/>
          <p:cNvSpPr/>
          <p:nvPr/>
        </p:nvSpPr>
        <p:spPr>
          <a:xfrm>
            <a:off x="4278240" y="10155240"/>
            <a:ext cx="325296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09E8DF-E1A2-4262-A137-88BFC2905EB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Text Box 1"/>
          <p:cNvSpPr/>
          <p:nvPr/>
        </p:nvSpPr>
        <p:spPr>
          <a:xfrm>
            <a:off x="1106640" y="812880"/>
            <a:ext cx="534348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21360" cy="47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23"/>
          <p:cNvSpPr/>
          <p:nvPr/>
        </p:nvSpPr>
        <p:spPr>
          <a:xfrm>
            <a:off x="4278240" y="10155240"/>
            <a:ext cx="325296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9A1FAB-FF98-4C28-B593-C5D7693CE98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1"/>
          <p:cNvSpPr/>
          <p:nvPr/>
        </p:nvSpPr>
        <p:spPr>
          <a:xfrm>
            <a:off x="1106640" y="812880"/>
            <a:ext cx="534348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21360" cy="47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23"/>
          <p:cNvSpPr/>
          <p:nvPr/>
        </p:nvSpPr>
        <p:spPr>
          <a:xfrm>
            <a:off x="4278240" y="10155240"/>
            <a:ext cx="325296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D50C6A-2FA3-496B-8D18-B833DA94B35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Text Box 1"/>
          <p:cNvSpPr/>
          <p:nvPr/>
        </p:nvSpPr>
        <p:spPr>
          <a:xfrm>
            <a:off x="4278240" y="10155240"/>
            <a:ext cx="326880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76DF43-FEC2-4CBE-B601-A8F2B750972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Text Box 2"/>
          <p:cNvSpPr/>
          <p:nvPr/>
        </p:nvSpPr>
        <p:spPr>
          <a:xfrm>
            <a:off x="1106640" y="801720"/>
            <a:ext cx="53467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21360" cy="47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4"/>
          <p:cNvSpPr/>
          <p:nvPr/>
        </p:nvSpPr>
        <p:spPr>
          <a:xfrm>
            <a:off x="4281480" y="10155240"/>
            <a:ext cx="327672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2C394F-289F-4DAC-9104-C7F96CE2F39F}" type="slidenum">
              <a:rPr b="0" lang="ru-RU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23"/>
          <p:cNvSpPr/>
          <p:nvPr/>
        </p:nvSpPr>
        <p:spPr>
          <a:xfrm>
            <a:off x="4278240" y="10155240"/>
            <a:ext cx="325296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84A443-BBB1-4B66-9509-25D04BCE418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Text Box 1"/>
          <p:cNvSpPr/>
          <p:nvPr/>
        </p:nvSpPr>
        <p:spPr>
          <a:xfrm>
            <a:off x="1106640" y="812880"/>
            <a:ext cx="534348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21360" cy="47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Text Box 3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79CD37-17C9-4A43-917F-0D65F2D8C57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23"/>
          <p:cNvSpPr/>
          <p:nvPr/>
        </p:nvSpPr>
        <p:spPr>
          <a:xfrm>
            <a:off x="4278240" y="10155240"/>
            <a:ext cx="325296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98F474-84DE-4B9A-BD61-459C4BCDBD7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Text Box 1"/>
          <p:cNvSpPr/>
          <p:nvPr/>
        </p:nvSpPr>
        <p:spPr>
          <a:xfrm>
            <a:off x="1106640" y="812880"/>
            <a:ext cx="534348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21360" cy="47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 Box 3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602F4A-07C0-4ADC-8AC6-C3550FC32EC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23"/>
          <p:cNvSpPr/>
          <p:nvPr/>
        </p:nvSpPr>
        <p:spPr>
          <a:xfrm>
            <a:off x="4278240" y="10155240"/>
            <a:ext cx="325296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D8501C-9CE9-4336-9AC3-31969ACBDAE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Text Box 1"/>
          <p:cNvSpPr/>
          <p:nvPr/>
        </p:nvSpPr>
        <p:spPr>
          <a:xfrm>
            <a:off x="1106640" y="812880"/>
            <a:ext cx="5329080" cy="3992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21360" cy="47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23"/>
          <p:cNvSpPr/>
          <p:nvPr/>
        </p:nvSpPr>
        <p:spPr>
          <a:xfrm>
            <a:off x="4278240" y="10155240"/>
            <a:ext cx="325296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30D79A-3220-40C4-802A-08F414CEDC5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Text Box 1"/>
          <p:cNvSpPr/>
          <p:nvPr/>
        </p:nvSpPr>
        <p:spPr>
          <a:xfrm>
            <a:off x="1106640" y="812880"/>
            <a:ext cx="53467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21360" cy="47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23"/>
          <p:cNvSpPr/>
          <p:nvPr/>
        </p:nvSpPr>
        <p:spPr>
          <a:xfrm>
            <a:off x="4278240" y="10155240"/>
            <a:ext cx="325296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D91805-E9D8-4641-ADB3-8BDEAEED094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Text Box 1"/>
          <p:cNvSpPr/>
          <p:nvPr/>
        </p:nvSpPr>
        <p:spPr>
          <a:xfrm>
            <a:off x="1106640" y="812880"/>
            <a:ext cx="53467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21360" cy="47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23"/>
          <p:cNvSpPr/>
          <p:nvPr/>
        </p:nvSpPr>
        <p:spPr>
          <a:xfrm>
            <a:off x="4278240" y="10155240"/>
            <a:ext cx="325296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8C6CC0-8D7B-4494-8721-76063C0AE00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1"/>
          <p:cNvSpPr/>
          <p:nvPr/>
        </p:nvSpPr>
        <p:spPr>
          <a:xfrm>
            <a:off x="1106640" y="812880"/>
            <a:ext cx="534348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21360" cy="47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23"/>
          <p:cNvSpPr/>
          <p:nvPr/>
        </p:nvSpPr>
        <p:spPr>
          <a:xfrm>
            <a:off x="4278240" y="10155240"/>
            <a:ext cx="325296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60598B-32CA-40E9-9A19-24BB9047DFA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1"/>
          <p:cNvSpPr/>
          <p:nvPr/>
        </p:nvSpPr>
        <p:spPr>
          <a:xfrm>
            <a:off x="1106640" y="812880"/>
            <a:ext cx="5329080" cy="3992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21360" cy="47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23"/>
          <p:cNvSpPr/>
          <p:nvPr/>
        </p:nvSpPr>
        <p:spPr>
          <a:xfrm>
            <a:off x="4278240" y="10155240"/>
            <a:ext cx="325296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F24F21-3A79-41F5-BB00-B159EECB2A0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1"/>
          <p:cNvSpPr/>
          <p:nvPr/>
        </p:nvSpPr>
        <p:spPr>
          <a:xfrm>
            <a:off x="1106640" y="812880"/>
            <a:ext cx="53467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21360" cy="47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23"/>
          <p:cNvSpPr/>
          <p:nvPr/>
        </p:nvSpPr>
        <p:spPr>
          <a:xfrm>
            <a:off x="4278240" y="10155240"/>
            <a:ext cx="325296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E0DBBC-D761-4D37-867B-C3B27BCE774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1"/>
          <p:cNvSpPr/>
          <p:nvPr/>
        </p:nvSpPr>
        <p:spPr>
          <a:xfrm>
            <a:off x="1106640" y="812880"/>
            <a:ext cx="53467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21360" cy="47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23"/>
          <p:cNvSpPr/>
          <p:nvPr/>
        </p:nvSpPr>
        <p:spPr>
          <a:xfrm>
            <a:off x="4278240" y="10155240"/>
            <a:ext cx="325296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29E1DA-1CCE-414C-A680-28D5589F563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Text Box 1"/>
          <p:cNvSpPr/>
          <p:nvPr/>
        </p:nvSpPr>
        <p:spPr>
          <a:xfrm>
            <a:off x="1106640" y="812880"/>
            <a:ext cx="53467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21360" cy="47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23"/>
          <p:cNvSpPr/>
          <p:nvPr/>
        </p:nvSpPr>
        <p:spPr>
          <a:xfrm>
            <a:off x="4278240" y="10155240"/>
            <a:ext cx="325296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B72F0A-A5E9-4C1F-9B05-6CAC5BB35AD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1"/>
          <p:cNvSpPr/>
          <p:nvPr/>
        </p:nvSpPr>
        <p:spPr>
          <a:xfrm>
            <a:off x="1106640" y="812880"/>
            <a:ext cx="53467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21360" cy="47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23"/>
          <p:cNvSpPr/>
          <p:nvPr/>
        </p:nvSpPr>
        <p:spPr>
          <a:xfrm>
            <a:off x="4278240" y="10155240"/>
            <a:ext cx="325296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CABC5C-9C00-4781-9066-12B1EE247C4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Text Box 1"/>
          <p:cNvSpPr/>
          <p:nvPr/>
        </p:nvSpPr>
        <p:spPr>
          <a:xfrm>
            <a:off x="1106640" y="812880"/>
            <a:ext cx="53467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21360" cy="47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450E94-E81A-411A-B46E-60FD17B2E5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90160"/>
            <a:ext cx="904248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42480" cy="2366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59600"/>
            <a:ext cx="9042480" cy="2366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5ED6AD-5B21-4476-8E16-6E01649544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90160"/>
            <a:ext cx="904248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12520" cy="2366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6840" y="1767960"/>
            <a:ext cx="4412520" cy="2366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59600"/>
            <a:ext cx="4412520" cy="2366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6840" y="4359600"/>
            <a:ext cx="4412520" cy="2366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73BB33-D0AA-43F9-A9FC-5904B5B5BC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90160"/>
            <a:ext cx="904248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1320" cy="2366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0400" y="1767960"/>
            <a:ext cx="2911320" cy="2366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17880" y="1767960"/>
            <a:ext cx="2911320" cy="2366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59600"/>
            <a:ext cx="2911320" cy="2366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0400" y="4359600"/>
            <a:ext cx="2911320" cy="2366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17880" y="4359600"/>
            <a:ext cx="2911320" cy="2366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A75EFF-CF9A-41C0-8FFD-A76EE11C82E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90160"/>
            <a:ext cx="904248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42480" cy="496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90A63B-DE74-4AA5-9C08-75F24149065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90160"/>
            <a:ext cx="904248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42480" cy="4961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008EBB-EE51-489F-8CBD-DF515CE31A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90160"/>
            <a:ext cx="904248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12520" cy="4961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6840" y="1767960"/>
            <a:ext cx="4412520" cy="4961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855EF9-9820-4BBC-8876-046530DDF2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90160"/>
            <a:ext cx="904248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A6D1AE-15ED-42A7-AA38-A76A37B022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90160"/>
            <a:ext cx="9042480" cy="57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AA0E7A-D32C-4B34-9F5B-8627B329BC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90160"/>
            <a:ext cx="904248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12520" cy="2366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6840" y="1767960"/>
            <a:ext cx="4412520" cy="4961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59600"/>
            <a:ext cx="4412520" cy="2366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0BD1EB-4530-4CA6-8639-C9289C5A96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90160"/>
            <a:ext cx="904248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12520" cy="4961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6840" y="1767960"/>
            <a:ext cx="4412520" cy="2366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6840" y="4359600"/>
            <a:ext cx="4412520" cy="2366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9F1474-70E9-434C-BDE9-EAA5F5830F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90160"/>
            <a:ext cx="904248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12520" cy="2366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6840" y="1767960"/>
            <a:ext cx="4412520" cy="2366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59600"/>
            <a:ext cx="9042480" cy="2366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14AA88-C6B3-4A15-98ED-4ADFC49D80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90160"/>
            <a:ext cx="904248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42480" cy="4961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50328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7227360" y="6886080"/>
            <a:ext cx="231948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D23C722-D587-4900-9CBC-2082DDB8D5B4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1"/>
          <p:cNvSpPr/>
          <p:nvPr/>
        </p:nvSpPr>
        <p:spPr>
          <a:xfrm>
            <a:off x="1152360" y="3076560"/>
            <a:ext cx="7848720" cy="54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1727280" y="684360"/>
            <a:ext cx="655308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336600"/>
                </a:solidFill>
                <a:latin typeface="Monotype Corsiva"/>
              </a:rPr>
              <a:t> </a:t>
            </a:r>
            <a:r>
              <a:rPr b="1" lang="ru-RU" sz="4800" spc="-1" strike="noStrike">
                <a:solidFill>
                  <a:srgbClr val="336600"/>
                </a:solidFill>
                <a:latin typeface="Monotype Corsiv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Rectangle 3"/>
          <p:cNvSpPr/>
          <p:nvPr/>
        </p:nvSpPr>
        <p:spPr>
          <a:xfrm>
            <a:off x="682560" y="1136520"/>
            <a:ext cx="8640720" cy="32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664d"/>
                </a:solidFill>
                <a:latin typeface="Arial"/>
              </a:rPr>
              <a:t>Технология обучения в сотрудничеств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Arial"/>
              </a:rPr>
              <a:t>Выполнила: Южакова Ксения, 41 г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55080" cy="12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800000"/>
                </a:solidFill>
                <a:latin typeface="Arial"/>
              </a:rPr>
              <a:t>Основные идеи всех вариантов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55080" cy="5199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663120" indent="-66312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669960"/>
                <a:tab algn="l" pos="774720"/>
                <a:tab algn="l" pos="1224000"/>
                <a:tab algn="l" pos="1673280"/>
                <a:tab algn="l" pos="2122560"/>
                <a:tab algn="l" pos="2571840"/>
                <a:tab algn="l" pos="3021120"/>
                <a:tab algn="l" pos="3470400"/>
                <a:tab algn="l" pos="3919680"/>
                <a:tab algn="l" pos="4368960"/>
                <a:tab algn="l" pos="4818240"/>
                <a:tab algn="l" pos="5267160"/>
                <a:tab algn="l" pos="5716440"/>
                <a:tab algn="l" pos="6165720"/>
                <a:tab algn="l" pos="6615000"/>
                <a:tab algn="l" pos="7064280"/>
                <a:tab algn="l" pos="7513560"/>
                <a:tab algn="l" pos="7962840"/>
                <a:tab algn="l" pos="8412120"/>
                <a:tab algn="l" pos="8861400"/>
                <a:tab algn="l" pos="9310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щность цели и задач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63120" indent="-66312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669960"/>
                <a:tab algn="l" pos="774720"/>
                <a:tab algn="l" pos="1224000"/>
                <a:tab algn="l" pos="1673280"/>
                <a:tab algn="l" pos="2122560"/>
                <a:tab algn="l" pos="2571840"/>
                <a:tab algn="l" pos="3021120"/>
                <a:tab algn="l" pos="3470400"/>
                <a:tab algn="l" pos="3919680"/>
                <a:tab algn="l" pos="4368960"/>
                <a:tab algn="l" pos="4818240"/>
                <a:tab algn="l" pos="5267160"/>
                <a:tab algn="l" pos="5716440"/>
                <a:tab algn="l" pos="6165720"/>
                <a:tab algn="l" pos="6615000"/>
                <a:tab algn="l" pos="7064280"/>
                <a:tab algn="l" pos="7513560"/>
                <a:tab algn="l" pos="7962840"/>
                <a:tab algn="l" pos="8412120"/>
                <a:tab algn="l" pos="8861400"/>
                <a:tab algn="l" pos="9310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ндивидуальная ответственность и              равные возможности успех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63120" indent="-66312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669960"/>
                <a:tab algn="l" pos="774720"/>
                <a:tab algn="l" pos="1224000"/>
                <a:tab algn="l" pos="1673280"/>
                <a:tab algn="l" pos="2122560"/>
                <a:tab algn="l" pos="2571840"/>
                <a:tab algn="l" pos="3021120"/>
                <a:tab algn="l" pos="3470400"/>
                <a:tab algn="l" pos="3919680"/>
                <a:tab algn="l" pos="4368960"/>
                <a:tab algn="l" pos="4818240"/>
                <a:tab algn="l" pos="5267160"/>
                <a:tab algn="l" pos="5716440"/>
                <a:tab algn="l" pos="6165720"/>
                <a:tab algn="l" pos="6615000"/>
                <a:tab algn="l" pos="7064280"/>
                <a:tab algn="l" pos="7513560"/>
                <a:tab algn="l" pos="7962840"/>
                <a:tab algn="l" pos="8412120"/>
                <a:tab algn="l" pos="8861400"/>
                <a:tab algn="l" pos="9310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основе лежит именно сотрудничество,      а не соревновани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63120" indent="-66312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669960"/>
                <a:tab algn="l" pos="774720"/>
                <a:tab algn="l" pos="1224000"/>
                <a:tab algn="l" pos="1673280"/>
                <a:tab algn="l" pos="2122560"/>
                <a:tab algn="l" pos="2571840"/>
                <a:tab algn="l" pos="3021120"/>
                <a:tab algn="l" pos="3470400"/>
                <a:tab algn="l" pos="3919680"/>
                <a:tab algn="l" pos="4368960"/>
                <a:tab algn="l" pos="4818240"/>
                <a:tab algn="l" pos="5267160"/>
                <a:tab algn="l" pos="5716440"/>
                <a:tab algn="l" pos="6165720"/>
                <a:tab algn="l" pos="6615000"/>
                <a:tab algn="l" pos="7064280"/>
                <a:tab algn="l" pos="7513560"/>
                <a:tab algn="l" pos="7962840"/>
                <a:tab algn="l" pos="8412120"/>
                <a:tab algn="l" pos="8861400"/>
                <a:tab algn="l" pos="9310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спех всей команды зависит от вклада         каждого участника, что предусматривает      помощь каждого члена команды друг дру-    гу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63120" indent="-66312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669960"/>
                <a:tab algn="l" pos="774720"/>
                <a:tab algn="l" pos="1224000"/>
                <a:tab algn="l" pos="1673280"/>
                <a:tab algn="l" pos="2122560"/>
                <a:tab algn="l" pos="2571840"/>
                <a:tab algn="l" pos="3021120"/>
                <a:tab algn="l" pos="3470400"/>
                <a:tab algn="l" pos="3919680"/>
                <a:tab algn="l" pos="4368960"/>
                <a:tab algn="l" pos="4818240"/>
                <a:tab algn="l" pos="5267160"/>
                <a:tab algn="l" pos="5716440"/>
                <a:tab algn="l" pos="6165720"/>
                <a:tab algn="l" pos="6615000"/>
                <a:tab algn="l" pos="7064280"/>
                <a:tab algn="l" pos="7513560"/>
                <a:tab algn="l" pos="7962840"/>
                <a:tab algn="l" pos="8412120"/>
                <a:tab algn="l" pos="8861400"/>
                <a:tab algn="l" pos="9310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зможность совершенствовать свои           собственные достиж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55080" cy="12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800000"/>
                </a:solidFill>
                <a:latin typeface="Arial"/>
              </a:rPr>
              <a:t>Преимущества: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55080" cy="4973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Учащиеся выясняют друг у друга все, что неясно и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вместе не боятс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обратиться  за помощью к учител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Учатся самостоятельно добывать зна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Формируют свою точку зрения и учатся ее отстаив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.Развиваются коммуникативные ум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.Развивается чувство товарищества, взаимопомощ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1"/>
          <p:cNvSpPr/>
          <p:nvPr/>
        </p:nvSpPr>
        <p:spPr>
          <a:xfrm>
            <a:off x="755640" y="755640"/>
            <a:ext cx="8569440" cy="51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Arial"/>
              </a:rPr>
              <a:t>Группа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- это собрание людей, включённых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в познавательно-координированную деятельность, сознательно или бессознательно подчинённую общей цели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1"/>
          <p:cNvSpPr/>
          <p:nvPr/>
        </p:nvSpPr>
        <p:spPr>
          <a:xfrm>
            <a:off x="504720" y="181080"/>
            <a:ext cx="907272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100" spc="-1" strike="noStrike">
                <a:solidFill>
                  <a:srgbClr val="3333cc"/>
                </a:solidFill>
                <a:latin typeface="Comic Sans MS"/>
              </a:rPr>
              <a:t>Что отличает обычное групповое обучение от обучения в малых группах по методике сотрудничества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2"/>
          <p:cNvSpPr/>
          <p:nvPr/>
        </p:nvSpPr>
        <p:spPr>
          <a:xfrm>
            <a:off x="360360" y="1800360"/>
            <a:ext cx="9360000" cy="70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marL="741240" indent="-739800" algn="ctr">
              <a:lnSpc>
                <a:spcPct val="80000"/>
              </a:lnSpc>
              <a:spcBef>
                <a:spcPts val="887"/>
              </a:spcBef>
              <a:tabLst>
                <a:tab algn="l" pos="0"/>
                <a:tab algn="l" pos="741240"/>
                <a:tab algn="l" pos="1189080"/>
                <a:tab algn="l" pos="1638360"/>
                <a:tab algn="l" pos="2087640"/>
                <a:tab algn="l" pos="2536920"/>
                <a:tab algn="l" pos="2986200"/>
                <a:tab algn="l" pos="3435480"/>
                <a:tab algn="l" pos="3884760"/>
                <a:tab algn="l" pos="4334040"/>
                <a:tab algn="l" pos="4782960"/>
                <a:tab algn="l" pos="5232240"/>
                <a:tab algn="l" pos="5681520"/>
                <a:tab algn="l" pos="6130800"/>
                <a:tab algn="l" pos="6580080"/>
                <a:tab algn="l" pos="7029360"/>
                <a:tab algn="l" pos="7478640"/>
                <a:tab algn="l" pos="7927920"/>
                <a:tab algn="l" pos="8377200"/>
                <a:tab algn="l" pos="8826480"/>
                <a:tab algn="l" pos="9275760"/>
                <a:tab algn="l" pos="9725040"/>
                <a:tab algn="l" pos="9883800"/>
                <a:tab algn="l" pos="10333080"/>
                <a:tab algn="l" pos="10782360"/>
              </a:tabLst>
            </a:pPr>
            <a:r>
              <a:rPr b="1" i="1" lang="ru-RU" sz="3500" spc="-1" strike="noStrike" u="sng">
                <a:solidFill>
                  <a:srgbClr val="000000"/>
                </a:solidFill>
                <a:uFillTx/>
                <a:latin typeface="Monotype Corsiva"/>
              </a:rPr>
              <a:t>Р. Джонсон выделил следующие основные отличия: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marL="741240" indent="-739800">
              <a:lnSpc>
                <a:spcPct val="80000"/>
              </a:lnSpc>
              <a:spcBef>
                <a:spcPts val="986"/>
              </a:spcBef>
              <a:buClr>
                <a:srgbClr val="ffcc66"/>
              </a:buClr>
              <a:buFont typeface="Monotype Corsiva"/>
              <a:buAutoNum type="arabicPeriod"/>
              <a:tabLst>
                <a:tab algn="l" pos="741240"/>
                <a:tab algn="l" pos="1189080"/>
                <a:tab algn="l" pos="1638360"/>
                <a:tab algn="l" pos="2087640"/>
                <a:tab algn="l" pos="2536920"/>
                <a:tab algn="l" pos="2986200"/>
                <a:tab algn="l" pos="3435480"/>
                <a:tab algn="l" pos="3884760"/>
                <a:tab algn="l" pos="4334040"/>
                <a:tab algn="l" pos="4782960"/>
                <a:tab algn="l" pos="5232240"/>
                <a:tab algn="l" pos="5681520"/>
                <a:tab algn="l" pos="6130800"/>
                <a:tab algn="l" pos="6580080"/>
                <a:tab algn="l" pos="7029360"/>
                <a:tab algn="l" pos="7478640"/>
                <a:tab algn="l" pos="7927920"/>
                <a:tab algn="l" pos="8377200"/>
                <a:tab algn="l" pos="8826480"/>
                <a:tab algn="l" pos="9275760"/>
                <a:tab algn="l" pos="9725040"/>
                <a:tab algn="l" pos="988380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Monotype Corsiva"/>
              </a:rPr>
              <a:t>Взаимосвязь членов группы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741240" indent="-739800">
              <a:lnSpc>
                <a:spcPct val="80000"/>
              </a:lnSpc>
              <a:spcBef>
                <a:spcPts val="986"/>
              </a:spcBef>
              <a:buClr>
                <a:srgbClr val="ffcc66"/>
              </a:buClr>
              <a:buFont typeface="Monotype Corsiva"/>
              <a:buAutoNum type="arabicPeriod"/>
              <a:tabLst>
                <a:tab algn="l" pos="741240"/>
                <a:tab algn="l" pos="1189080"/>
                <a:tab algn="l" pos="1638360"/>
                <a:tab algn="l" pos="2087640"/>
                <a:tab algn="l" pos="2536920"/>
                <a:tab algn="l" pos="2986200"/>
                <a:tab algn="l" pos="3435480"/>
                <a:tab algn="l" pos="3884760"/>
                <a:tab algn="l" pos="4334040"/>
                <a:tab algn="l" pos="4782960"/>
                <a:tab algn="l" pos="5232240"/>
                <a:tab algn="l" pos="5681520"/>
                <a:tab algn="l" pos="6130800"/>
                <a:tab algn="l" pos="6580080"/>
                <a:tab algn="l" pos="7029360"/>
                <a:tab algn="l" pos="7478640"/>
                <a:tab algn="l" pos="7927920"/>
                <a:tab algn="l" pos="8377200"/>
                <a:tab algn="l" pos="8826480"/>
                <a:tab algn="l" pos="9275760"/>
                <a:tab algn="l" pos="9725040"/>
                <a:tab algn="l" pos="988380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Monotype Corsiva"/>
              </a:rPr>
              <a:t>Личная ответственность каждого члена группы за собственные успехи и успехи своих товарищей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741240" indent="-739800">
              <a:lnSpc>
                <a:spcPct val="80000"/>
              </a:lnSpc>
              <a:spcBef>
                <a:spcPts val="986"/>
              </a:spcBef>
              <a:buClr>
                <a:srgbClr val="ffcc66"/>
              </a:buClr>
              <a:buFont typeface="Monotype Corsiva"/>
              <a:buAutoNum type="arabicPeriod"/>
              <a:tabLst>
                <a:tab algn="l" pos="741240"/>
                <a:tab algn="l" pos="1189080"/>
                <a:tab algn="l" pos="1638360"/>
                <a:tab algn="l" pos="2087640"/>
                <a:tab algn="l" pos="2536920"/>
                <a:tab algn="l" pos="2986200"/>
                <a:tab algn="l" pos="3435480"/>
                <a:tab algn="l" pos="3884760"/>
                <a:tab algn="l" pos="4334040"/>
                <a:tab algn="l" pos="4782960"/>
                <a:tab algn="l" pos="5232240"/>
                <a:tab algn="l" pos="5681520"/>
                <a:tab algn="l" pos="6130800"/>
                <a:tab algn="l" pos="6580080"/>
                <a:tab algn="l" pos="7029360"/>
                <a:tab algn="l" pos="7478640"/>
                <a:tab algn="l" pos="7927920"/>
                <a:tab algn="l" pos="8377200"/>
                <a:tab algn="l" pos="8826480"/>
                <a:tab algn="l" pos="9275760"/>
                <a:tab algn="l" pos="9725040"/>
                <a:tab algn="l" pos="988380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Monotype Corsiva"/>
              </a:rPr>
              <a:t>Совместная учебно-познавательная деятельность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741240" indent="-739800">
              <a:lnSpc>
                <a:spcPct val="80000"/>
              </a:lnSpc>
              <a:spcBef>
                <a:spcPts val="986"/>
              </a:spcBef>
              <a:buClr>
                <a:srgbClr val="ffcc66"/>
              </a:buClr>
              <a:buFont typeface="Monotype Corsiva"/>
              <a:buAutoNum type="arabicPeriod"/>
              <a:tabLst>
                <a:tab algn="l" pos="741240"/>
                <a:tab algn="l" pos="1189080"/>
                <a:tab algn="l" pos="1638360"/>
                <a:tab algn="l" pos="2087640"/>
                <a:tab algn="l" pos="2536920"/>
                <a:tab algn="l" pos="2986200"/>
                <a:tab algn="l" pos="3435480"/>
                <a:tab algn="l" pos="3884760"/>
                <a:tab algn="l" pos="4334040"/>
                <a:tab algn="l" pos="4782960"/>
                <a:tab algn="l" pos="5232240"/>
                <a:tab algn="l" pos="5681520"/>
                <a:tab algn="l" pos="6130800"/>
                <a:tab algn="l" pos="6580080"/>
                <a:tab algn="l" pos="7029360"/>
                <a:tab algn="l" pos="7478640"/>
                <a:tab algn="l" pos="7927920"/>
                <a:tab algn="l" pos="8377200"/>
                <a:tab algn="l" pos="8826480"/>
                <a:tab algn="l" pos="9275760"/>
                <a:tab algn="l" pos="9725040"/>
                <a:tab algn="l" pos="988380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Monotype Corsiva"/>
              </a:rPr>
              <a:t>Социализация деятельности учащихся в группах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741240" indent="-739800">
              <a:lnSpc>
                <a:spcPct val="80000"/>
              </a:lnSpc>
              <a:spcBef>
                <a:spcPts val="986"/>
              </a:spcBef>
              <a:buClr>
                <a:srgbClr val="ffcc66"/>
              </a:buClr>
              <a:buFont typeface="Monotype Corsiva"/>
              <a:buAutoNum type="arabicPeriod"/>
              <a:tabLst>
                <a:tab algn="l" pos="741240"/>
                <a:tab algn="l" pos="1189080"/>
                <a:tab algn="l" pos="1638360"/>
                <a:tab algn="l" pos="2087640"/>
                <a:tab algn="l" pos="2536920"/>
                <a:tab algn="l" pos="2986200"/>
                <a:tab algn="l" pos="3435480"/>
                <a:tab algn="l" pos="3884760"/>
                <a:tab algn="l" pos="4334040"/>
                <a:tab algn="l" pos="4782960"/>
                <a:tab algn="l" pos="5232240"/>
                <a:tab algn="l" pos="5681520"/>
                <a:tab algn="l" pos="6130800"/>
                <a:tab algn="l" pos="6580080"/>
                <a:tab algn="l" pos="7029360"/>
                <a:tab algn="l" pos="7478640"/>
                <a:tab algn="l" pos="7927920"/>
                <a:tab algn="l" pos="8377200"/>
                <a:tab algn="l" pos="8826480"/>
                <a:tab algn="l" pos="9275760"/>
                <a:tab algn="l" pos="9725040"/>
                <a:tab algn="l" pos="988380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Monotype Corsiva"/>
              </a:rPr>
              <a:t>Общая оценка работы групп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741240" indent="-739800">
              <a:lnSpc>
                <a:spcPct val="80000"/>
              </a:lnSpc>
              <a:spcBef>
                <a:spcPts val="986"/>
              </a:spcBef>
              <a:tabLst>
                <a:tab algn="l" pos="0"/>
                <a:tab algn="l" pos="741240"/>
                <a:tab algn="l" pos="1189080"/>
                <a:tab algn="l" pos="1638360"/>
                <a:tab algn="l" pos="2087640"/>
                <a:tab algn="l" pos="2536920"/>
                <a:tab algn="l" pos="2986200"/>
                <a:tab algn="l" pos="3435480"/>
                <a:tab algn="l" pos="3884760"/>
                <a:tab algn="l" pos="4334040"/>
                <a:tab algn="l" pos="4782960"/>
                <a:tab algn="l" pos="5232240"/>
                <a:tab algn="l" pos="5681520"/>
                <a:tab algn="l" pos="6130800"/>
                <a:tab algn="l" pos="6580080"/>
                <a:tab algn="l" pos="7029360"/>
                <a:tab algn="l" pos="7478640"/>
                <a:tab algn="l" pos="7927920"/>
                <a:tab algn="l" pos="8377200"/>
                <a:tab algn="l" pos="8826480"/>
                <a:tab algn="l" pos="9275760"/>
                <a:tab algn="l" pos="972504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1"/>
          <p:cNvSpPr/>
          <p:nvPr/>
        </p:nvSpPr>
        <p:spPr>
          <a:xfrm>
            <a:off x="719280" y="971640"/>
            <a:ext cx="8569080" cy="29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7030a0"/>
                </a:solidFill>
                <a:latin typeface="Arial"/>
              </a:rPr>
              <a:t>Однородная групповая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работ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предполагает выполнение небольшими группами учащихся одинакового для всех задани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2"/>
          <p:cNvSpPr/>
          <p:nvPr/>
        </p:nvSpPr>
        <p:spPr>
          <a:xfrm>
            <a:off x="1512720" y="4067280"/>
            <a:ext cx="7056720" cy="21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7030a0"/>
                </a:solidFill>
                <a:latin typeface="Arial"/>
              </a:rPr>
              <a:t>Дифференцированна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- выполнение различных заданий разными группам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1"/>
          <p:cNvSpPr/>
          <p:nvPr/>
        </p:nvSpPr>
        <p:spPr>
          <a:xfrm>
            <a:off x="755640" y="466560"/>
            <a:ext cx="856944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7030a0"/>
                </a:solidFill>
                <a:latin typeface="Arial"/>
              </a:rPr>
              <a:t>Принципы формирования групп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2"/>
          <p:cNvSpPr/>
          <p:nvPr/>
        </p:nvSpPr>
        <p:spPr>
          <a:xfrm>
            <a:off x="1079640" y="1220760"/>
            <a:ext cx="7920000" cy="63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>
              <a:lnSpc>
                <a:spcPct val="90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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ихийно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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 интересам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) желание (дружба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) по отношению к проблеме, к   предмету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) по уровню познавательной активност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дноуровневые – разноуровневы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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лабые и сильные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Количество людей в групп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для 1-2 кл.- 2-3 человека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для 3-4 кл.- 4 человек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1"/>
          <p:cNvSpPr/>
          <p:nvPr/>
        </p:nvSpPr>
        <p:spPr>
          <a:xfrm>
            <a:off x="719280" y="795240"/>
            <a:ext cx="9361440" cy="5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cc3300"/>
                </a:solidFill>
                <a:latin typeface="Arial"/>
              </a:rPr>
              <a:t>Нельзя: </a:t>
            </a:r>
            <a:br>
              <a:rPr sz="3600"/>
            </a:b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 Box 2"/>
          <p:cNvSpPr/>
          <p:nvPr/>
        </p:nvSpPr>
        <p:spPr>
          <a:xfrm>
            <a:off x="792000" y="1332000"/>
            <a:ext cx="8569440" cy="59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 algn="just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формировать пару из двух слабых   учеников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требовать полной тишины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нельзя наказывать детей лишением права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участвовать в групповой     работе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entury Schoolbook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принуждать к общей работе детей, которы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не хотят работать вместе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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entury Schoolbook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заниматься работой в группе более  10 — 15  мину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в  1 — 2  классах  и  более  половины уро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в  3 — 4  классах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Rectangle 3"/>
          <p:cNvSpPr/>
          <p:nvPr/>
        </p:nvSpPr>
        <p:spPr>
          <a:xfrm>
            <a:off x="4931640" y="96840"/>
            <a:ext cx="21564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1"/>
          <p:cNvSpPr/>
          <p:nvPr/>
        </p:nvSpPr>
        <p:spPr>
          <a:xfrm>
            <a:off x="720720" y="360360"/>
            <a:ext cx="856944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7030a0"/>
                </a:solidFill>
                <a:latin typeface="Arial"/>
              </a:rPr>
              <a:t>Алгоритм работы в групп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2"/>
          <p:cNvSpPr/>
          <p:nvPr/>
        </p:nvSpPr>
        <p:spPr>
          <a:xfrm>
            <a:off x="1512720" y="971640"/>
            <a:ext cx="7056720" cy="914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>
              <a:lnSpc>
                <a:spcPct val="90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Text Box 3"/>
          <p:cNvSpPr/>
          <p:nvPr/>
        </p:nvSpPr>
        <p:spPr>
          <a:xfrm>
            <a:off x="468360" y="906480"/>
            <a:ext cx="9172440" cy="575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0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 Повторение задания для осознанного понима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  Анализ условий (разграничение границ знаний для      нахождения способа решения задачи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 Выдвижение версий всеми членами групп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. Обоснование версий, их проверка, исключение            неподходящих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5. Совместное принятие реше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6. Анализ решения. Оформлени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7. Проговаривание в группе выступле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8. Представление реше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1"/>
          <p:cNvSpPr/>
          <p:nvPr/>
        </p:nvSpPr>
        <p:spPr>
          <a:xfrm>
            <a:off x="755640" y="749160"/>
            <a:ext cx="85694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7030a0"/>
                </a:solidFill>
                <a:latin typeface="Arial"/>
              </a:rPr>
              <a:t>Методы обучения в группе.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 Box 2"/>
          <p:cNvSpPr/>
          <p:nvPr/>
        </p:nvSpPr>
        <p:spPr>
          <a:xfrm>
            <a:off x="1512720" y="2124000"/>
            <a:ext cx="7056720" cy="409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оперативное обуче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рупповая дискусс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озговой штур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1"/>
          <p:cNvSpPr/>
          <p:nvPr/>
        </p:nvSpPr>
        <p:spPr>
          <a:xfrm>
            <a:off x="792000" y="179280"/>
            <a:ext cx="8569440" cy="22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7030a0"/>
                </a:solidFill>
                <a:latin typeface="Arial"/>
              </a:rPr>
              <a:t>Кооперативное обучение</a:t>
            </a:r>
            <a:r>
              <a:rPr b="0" lang="ru-RU" sz="3200" spc="-1" strike="noStrike">
                <a:solidFill>
                  <a:srgbClr val="7030a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это метод взаи-модействия учащихся в небольших группах, объединенных для решения общей задач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719280" y="1908000"/>
            <a:ext cx="8820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 algn="just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7030a0"/>
                </a:solidFill>
                <a:latin typeface="Arial"/>
              </a:rPr>
              <a:t>Групповая дискуссия</a:t>
            </a:r>
            <a:r>
              <a:rPr b="0" lang="ru-RU" sz="3200" spc="-1" strike="noStrike">
                <a:solidFill>
                  <a:srgbClr val="7030a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это способ организа-ции совместной деятельности учеников под руководством учителя с целью решить групповые задачи или воздействовать на мнения участников в процессе общени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720720" y="4211640"/>
            <a:ext cx="856764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7030a0"/>
                </a:solidFill>
                <a:latin typeface="Arial"/>
              </a:rPr>
              <a:t>Мозговой штурм</a:t>
            </a:r>
            <a:r>
              <a:rPr b="0" lang="ru-RU" sz="3200" spc="-1" strike="noStrike">
                <a:solidFill>
                  <a:srgbClr val="7030a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ли свободное выражение мыслей, приводит к появлению множества иде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1"/>
          <p:cNvSpPr/>
          <p:nvPr/>
        </p:nvSpPr>
        <p:spPr>
          <a:xfrm>
            <a:off x="720720" y="720720"/>
            <a:ext cx="8759880" cy="31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7030a0"/>
                </a:solidFill>
                <a:latin typeface="Arial"/>
              </a:rPr>
              <a:t>Необходимость нового подхода к обучению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Целью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образования в наши дни является развитие  личности  и  компетентностный подход (иными словами, «образование озабочено не столько тем, чтобы «накормить» ребёнка, сколько тем, чтобы научить его «готовить пищу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Text Box 2"/>
          <p:cNvSpPr/>
          <p:nvPr/>
        </p:nvSpPr>
        <p:spPr>
          <a:xfrm>
            <a:off x="719280" y="4643280"/>
            <a:ext cx="907416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 algn="just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Задач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школы сегодня – воспитать ученика, умеющего гибко адаптиро-ваться к изменяющимся условиям жизн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екрет успешности обучения – развитие коммуникативных навык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1"/>
          <p:cNvSpPr/>
          <p:nvPr/>
        </p:nvSpPr>
        <p:spPr>
          <a:xfrm>
            <a:off x="755640" y="674640"/>
            <a:ext cx="8569440" cy="15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7030a0"/>
                </a:solidFill>
                <a:latin typeface="Arial"/>
              </a:rPr>
              <a:t>Правила организации групповой работы 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2"/>
          <p:cNvSpPr/>
          <p:nvPr/>
        </p:nvSpPr>
        <p:spPr>
          <a:xfrm>
            <a:off x="1512720" y="1908000"/>
            <a:ext cx="7056720" cy="595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овори  спокойно и ясно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овори  только по дел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овори   по очеред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агируй  жестами и знакам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зражая или соглашаясь, смотри  н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оворящего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бедись, что в разговоре участвует ка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жды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ращайся  к другу по имен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1"/>
          <p:cNvSpPr/>
          <p:nvPr/>
        </p:nvSpPr>
        <p:spPr>
          <a:xfrm>
            <a:off x="755640" y="755640"/>
            <a:ext cx="856944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7030a0"/>
                </a:solidFill>
                <a:latin typeface="Arial"/>
              </a:rPr>
              <a:t>Роли в групп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Text Box 2"/>
          <p:cNvSpPr/>
          <p:nvPr/>
        </p:nvSpPr>
        <p:spPr>
          <a:xfrm>
            <a:off x="1079640" y="1619280"/>
            <a:ext cx="8099280" cy="52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ординатор (организатор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екретарь (писарь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ритик-контролёр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окладчик (спикер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хронометрист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1"/>
          <p:cNvSpPr/>
          <p:nvPr/>
        </p:nvSpPr>
        <p:spPr>
          <a:xfrm>
            <a:off x="1079640" y="303120"/>
            <a:ext cx="7993080" cy="12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Плюсы и минусы групповой работ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Text Box 2"/>
          <p:cNvSpPr/>
          <p:nvPr/>
        </p:nvSpPr>
        <p:spPr>
          <a:xfrm>
            <a:off x="792000" y="1258920"/>
            <a:ext cx="3743640" cy="704880"/>
          </a:xfrm>
          <a:prstGeom prst="rect">
            <a:avLst/>
          </a:prstGeom>
          <a:solidFill>
            <a:srgbClr val="c7d7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b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Плюс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447840" y="2195640"/>
            <a:ext cx="4173480" cy="4717800"/>
          </a:xfrm>
          <a:prstGeom prst="rect">
            <a:avLst/>
          </a:prstGeom>
          <a:solidFill>
            <a:srgbClr val="ecf2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marL="325440" indent="-325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25440"/>
                <a:tab algn="l" pos="773280"/>
                <a:tab algn="l" pos="1222200"/>
                <a:tab algn="l" pos="1671480"/>
                <a:tab algn="l" pos="2120760"/>
                <a:tab algn="l" pos="2570040"/>
                <a:tab algn="l" pos="3019320"/>
                <a:tab algn="l" pos="3468600"/>
                <a:tab algn="l" pos="3917880"/>
                <a:tab algn="l" pos="4367160"/>
                <a:tab algn="l" pos="4816440"/>
                <a:tab algn="l" pos="5265720"/>
                <a:tab algn="l" pos="5715000"/>
                <a:tab algn="l" pos="6164280"/>
                <a:tab algn="l" pos="6613560"/>
                <a:tab algn="l" pos="7062840"/>
                <a:tab algn="l" pos="7512120"/>
                <a:tab algn="l" pos="7961400"/>
                <a:tab algn="l" pos="8410680"/>
                <a:tab algn="l" pos="8859960"/>
                <a:tab algn="l" pos="9309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овышается учебная и познавательная мотивац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25440"/>
                <a:tab algn="l" pos="773280"/>
                <a:tab algn="l" pos="1222200"/>
                <a:tab algn="l" pos="1671480"/>
                <a:tab algn="l" pos="2120760"/>
                <a:tab algn="l" pos="2570040"/>
                <a:tab algn="l" pos="3019320"/>
                <a:tab algn="l" pos="3468600"/>
                <a:tab algn="l" pos="3917880"/>
                <a:tab algn="l" pos="4367160"/>
                <a:tab algn="l" pos="4816440"/>
                <a:tab algn="l" pos="5265720"/>
                <a:tab algn="l" pos="5715000"/>
                <a:tab algn="l" pos="6164280"/>
                <a:tab algn="l" pos="6613560"/>
                <a:tab algn="l" pos="7062840"/>
                <a:tab algn="l" pos="7512120"/>
                <a:tab algn="l" pos="7961400"/>
                <a:tab algn="l" pos="8410680"/>
                <a:tab algn="l" pos="8859960"/>
                <a:tab algn="l" pos="9309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нижается уровень тревожности учащихс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25440"/>
                <a:tab algn="l" pos="773280"/>
                <a:tab algn="l" pos="1222200"/>
                <a:tab algn="l" pos="1671480"/>
                <a:tab algn="l" pos="2120760"/>
                <a:tab algn="l" pos="2570040"/>
                <a:tab algn="l" pos="3019320"/>
                <a:tab algn="l" pos="3468600"/>
                <a:tab algn="l" pos="3917880"/>
                <a:tab algn="l" pos="4367160"/>
                <a:tab algn="l" pos="4816440"/>
                <a:tab algn="l" pos="5265720"/>
                <a:tab algn="l" pos="5715000"/>
                <a:tab algn="l" pos="6164280"/>
                <a:tab algn="l" pos="6613560"/>
                <a:tab algn="l" pos="7062840"/>
                <a:tab algn="l" pos="7512120"/>
                <a:tab algn="l" pos="7961400"/>
                <a:tab algn="l" pos="8410680"/>
                <a:tab algn="l" pos="8859960"/>
                <a:tab algn="l" pos="9309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 группе выше обучаемость, эффективность усвоения и актуализации знани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25440"/>
                <a:tab algn="l" pos="773280"/>
                <a:tab algn="l" pos="1222200"/>
                <a:tab algn="l" pos="1671480"/>
                <a:tab algn="l" pos="2120760"/>
                <a:tab algn="l" pos="2570040"/>
                <a:tab algn="l" pos="3019320"/>
                <a:tab algn="l" pos="3468600"/>
                <a:tab algn="l" pos="3917880"/>
                <a:tab algn="l" pos="4367160"/>
                <a:tab algn="l" pos="4816440"/>
                <a:tab algn="l" pos="5265720"/>
                <a:tab algn="l" pos="5715000"/>
                <a:tab algn="l" pos="6164280"/>
                <a:tab algn="l" pos="6613560"/>
                <a:tab algn="l" pos="7062840"/>
                <a:tab algn="l" pos="7512120"/>
                <a:tab algn="l" pos="7961400"/>
                <a:tab algn="l" pos="8410680"/>
                <a:tab algn="l" pos="8859960"/>
                <a:tab algn="l" pos="9309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Улучшается психологический климат в класс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4753080" y="1258920"/>
            <a:ext cx="4654440" cy="704880"/>
          </a:xfrm>
          <a:prstGeom prst="rect">
            <a:avLst/>
          </a:prstGeom>
          <a:solidFill>
            <a:srgbClr val="aad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b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Минус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5"/>
          <p:cNvSpPr/>
          <p:nvPr/>
        </p:nvSpPr>
        <p:spPr>
          <a:xfrm>
            <a:off x="4753080" y="2195640"/>
            <a:ext cx="4535280" cy="4717800"/>
          </a:xfrm>
          <a:prstGeom prst="rect">
            <a:avLst/>
          </a:prstGeom>
          <a:solidFill>
            <a:srgbClr val="d5eb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marL="325440" indent="-325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25440"/>
                <a:tab algn="l" pos="773280"/>
                <a:tab algn="l" pos="1222200"/>
                <a:tab algn="l" pos="1671480"/>
                <a:tab algn="l" pos="2120760"/>
                <a:tab algn="l" pos="2570040"/>
                <a:tab algn="l" pos="3019320"/>
                <a:tab algn="l" pos="3468600"/>
                <a:tab algn="l" pos="3917880"/>
                <a:tab algn="l" pos="4367160"/>
                <a:tab algn="l" pos="4816440"/>
                <a:tab algn="l" pos="5265720"/>
                <a:tab algn="l" pos="5715000"/>
                <a:tab algn="l" pos="6164280"/>
                <a:tab algn="l" pos="6613560"/>
                <a:tab algn="l" pos="7062840"/>
                <a:tab algn="l" pos="7512120"/>
                <a:tab algn="l" pos="7961400"/>
                <a:tab algn="l" pos="8410680"/>
                <a:tab algn="l" pos="8859960"/>
                <a:tab algn="l" pos="9309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Групповой работе надо сначала научи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25440"/>
                <a:tab algn="l" pos="773280"/>
                <a:tab algn="l" pos="1222200"/>
                <a:tab algn="l" pos="1671480"/>
                <a:tab algn="l" pos="2120760"/>
                <a:tab algn="l" pos="2570040"/>
                <a:tab algn="l" pos="3019320"/>
                <a:tab algn="l" pos="3468600"/>
                <a:tab algn="l" pos="3917880"/>
                <a:tab algn="l" pos="4367160"/>
                <a:tab algn="l" pos="4816440"/>
                <a:tab algn="l" pos="5265720"/>
                <a:tab algn="l" pos="5715000"/>
                <a:tab algn="l" pos="6164280"/>
                <a:tab algn="l" pos="6613560"/>
                <a:tab algn="l" pos="7062840"/>
                <a:tab algn="l" pos="7512120"/>
                <a:tab algn="l" pos="7961400"/>
                <a:tab algn="l" pos="8410680"/>
                <a:tab algn="l" pos="8859960"/>
                <a:tab algn="l" pos="9309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рганизация групповой работы требует от учителя особых умений, усил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25440"/>
                <a:tab algn="l" pos="773280"/>
                <a:tab algn="l" pos="1222200"/>
                <a:tab algn="l" pos="1671480"/>
                <a:tab algn="l" pos="2120760"/>
                <a:tab algn="l" pos="2570040"/>
                <a:tab algn="l" pos="3019320"/>
                <a:tab algn="l" pos="3468600"/>
                <a:tab algn="l" pos="3917880"/>
                <a:tab algn="l" pos="4367160"/>
                <a:tab algn="l" pos="4816440"/>
                <a:tab algn="l" pos="5265720"/>
                <a:tab algn="l" pos="5715000"/>
                <a:tab algn="l" pos="6164280"/>
                <a:tab algn="l" pos="6613560"/>
                <a:tab algn="l" pos="7062840"/>
                <a:tab algn="l" pos="7512120"/>
                <a:tab algn="l" pos="7961400"/>
                <a:tab algn="l" pos="8410680"/>
                <a:tab algn="l" pos="8859960"/>
                <a:tab algn="l" pos="9309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Некоторые ученики могут пользоваться результатами труда более сильных одноклассник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25440"/>
                <a:tab algn="l" pos="773280"/>
                <a:tab algn="l" pos="1222200"/>
                <a:tab algn="l" pos="1671480"/>
                <a:tab algn="l" pos="2120760"/>
                <a:tab algn="l" pos="2570040"/>
                <a:tab algn="l" pos="3019320"/>
                <a:tab algn="l" pos="3468600"/>
                <a:tab algn="l" pos="3917880"/>
                <a:tab algn="l" pos="4367160"/>
                <a:tab algn="l" pos="4816440"/>
                <a:tab algn="l" pos="5265720"/>
                <a:tab algn="l" pos="5715000"/>
                <a:tab algn="l" pos="6164280"/>
                <a:tab algn="l" pos="6613560"/>
                <a:tab algn="l" pos="7062840"/>
                <a:tab algn="l" pos="7512120"/>
                <a:tab algn="l" pos="7961400"/>
                <a:tab algn="l" pos="8410680"/>
                <a:tab algn="l" pos="8859960"/>
                <a:tab algn="l" pos="9309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Для некоторых детей разделение на группы – процесс болезненны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1"/>
          <p:cNvSpPr/>
          <p:nvPr/>
        </p:nvSpPr>
        <p:spPr>
          <a:xfrm>
            <a:off x="503280" y="301680"/>
            <a:ext cx="9069480" cy="74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7030a0"/>
                </a:solidFill>
                <a:latin typeface="Arial"/>
              </a:rPr>
              <a:t>Выводы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2"/>
          <p:cNvSpPr/>
          <p:nvPr/>
        </p:nvSpPr>
        <p:spPr>
          <a:xfrm>
            <a:off x="503280" y="971640"/>
            <a:ext cx="4457520" cy="648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 marL="316080" indent="-316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"/>
              <a:tabLst>
                <a:tab algn="l" pos="316080"/>
                <a:tab algn="l" pos="763560"/>
                <a:tab algn="l" pos="1212840"/>
                <a:tab algn="l" pos="1662120"/>
                <a:tab algn="l" pos="2111400"/>
                <a:tab algn="l" pos="2560680"/>
                <a:tab algn="l" pos="3009960"/>
                <a:tab algn="l" pos="3459240"/>
                <a:tab algn="l" pos="3908520"/>
                <a:tab algn="l" pos="4357800"/>
                <a:tab algn="l" pos="4807080"/>
                <a:tab algn="l" pos="5256360"/>
                <a:tab algn="l" pos="5705640"/>
                <a:tab algn="l" pos="6154560"/>
                <a:tab algn="l" pos="6603840"/>
                <a:tab algn="l" pos="7053120"/>
                <a:tab algn="l" pos="7502400"/>
                <a:tab algn="l" pos="7951680"/>
                <a:tab algn="l" pos="8400960"/>
                <a:tab algn="l" pos="8850240"/>
                <a:tab algn="l" pos="9299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рупповые приёмы работы приобщают к важным навыкам жизни;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6080" indent="-316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"/>
              <a:tabLst>
                <a:tab algn="l" pos="316080"/>
                <a:tab algn="l" pos="763560"/>
                <a:tab algn="l" pos="1212840"/>
                <a:tab algn="l" pos="1662120"/>
                <a:tab algn="l" pos="2111400"/>
                <a:tab algn="l" pos="2560680"/>
                <a:tab algn="l" pos="3009960"/>
                <a:tab algn="l" pos="3459240"/>
                <a:tab algn="l" pos="3908520"/>
                <a:tab algn="l" pos="4357800"/>
                <a:tab algn="l" pos="4807080"/>
                <a:tab algn="l" pos="5256360"/>
                <a:tab algn="l" pos="5705640"/>
                <a:tab algn="l" pos="6154560"/>
                <a:tab algn="l" pos="6603840"/>
                <a:tab algn="l" pos="7053120"/>
                <a:tab algn="l" pos="7502400"/>
                <a:tab algn="l" pos="7951680"/>
                <a:tab algn="l" pos="8400960"/>
                <a:tab algn="l" pos="8850240"/>
                <a:tab algn="l" pos="9299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лучшается успеваемость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6080" indent="-316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"/>
              <a:tabLst>
                <a:tab algn="l" pos="316080"/>
                <a:tab algn="l" pos="763560"/>
                <a:tab algn="l" pos="1212840"/>
                <a:tab algn="l" pos="1662120"/>
                <a:tab algn="l" pos="2111400"/>
                <a:tab algn="l" pos="2560680"/>
                <a:tab algn="l" pos="3009960"/>
                <a:tab algn="l" pos="3459240"/>
                <a:tab algn="l" pos="3908520"/>
                <a:tab algn="l" pos="4357800"/>
                <a:tab algn="l" pos="4807080"/>
                <a:tab algn="l" pos="5256360"/>
                <a:tab algn="l" pos="5705640"/>
                <a:tab algn="l" pos="6154560"/>
                <a:tab algn="l" pos="6603840"/>
                <a:tab algn="l" pos="7053120"/>
                <a:tab algn="l" pos="7502400"/>
                <a:tab algn="l" pos="7951680"/>
                <a:tab algn="l" pos="8400960"/>
                <a:tab algn="l" pos="8850240"/>
                <a:tab algn="l" pos="9299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ормируется мотивация учения и обучения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6080" indent="-316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"/>
              <a:tabLst>
                <a:tab algn="l" pos="316080"/>
                <a:tab algn="l" pos="763560"/>
                <a:tab algn="l" pos="1212840"/>
                <a:tab algn="l" pos="1662120"/>
                <a:tab algn="l" pos="2111400"/>
                <a:tab algn="l" pos="2560680"/>
                <a:tab algn="l" pos="3009960"/>
                <a:tab algn="l" pos="3459240"/>
                <a:tab algn="l" pos="3908520"/>
                <a:tab algn="l" pos="4357800"/>
                <a:tab algn="l" pos="4807080"/>
                <a:tab algn="l" pos="5256360"/>
                <a:tab algn="l" pos="5705640"/>
                <a:tab algn="l" pos="6154560"/>
                <a:tab algn="l" pos="6603840"/>
                <a:tab algn="l" pos="7053120"/>
                <a:tab algn="l" pos="7502400"/>
                <a:tab algn="l" pos="7951680"/>
                <a:tab algn="l" pos="8400960"/>
                <a:tab algn="l" pos="8850240"/>
                <a:tab algn="l" pos="9299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учить можно каждого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6080" indent="-316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"/>
              <a:tabLst>
                <a:tab algn="l" pos="316080"/>
                <a:tab algn="l" pos="763560"/>
                <a:tab algn="l" pos="1212840"/>
                <a:tab algn="l" pos="1662120"/>
                <a:tab algn="l" pos="2111400"/>
                <a:tab algn="l" pos="2560680"/>
                <a:tab algn="l" pos="3009960"/>
                <a:tab algn="l" pos="3459240"/>
                <a:tab algn="l" pos="3908520"/>
                <a:tab algn="l" pos="4357800"/>
                <a:tab algn="l" pos="4807080"/>
                <a:tab algn="l" pos="5256360"/>
                <a:tab algn="l" pos="5705640"/>
                <a:tab algn="l" pos="6154560"/>
                <a:tab algn="l" pos="6603840"/>
                <a:tab algn="l" pos="7053120"/>
                <a:tab algn="l" pos="7502400"/>
                <a:tab algn="l" pos="7951680"/>
                <a:tab algn="l" pos="8400960"/>
                <a:tab algn="l" pos="8850240"/>
                <a:tab algn="l" pos="9299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блюдается дифференцированный подход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6080" indent="-316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16080"/>
                <a:tab algn="l" pos="763560"/>
                <a:tab algn="l" pos="1212840"/>
                <a:tab algn="l" pos="1662120"/>
                <a:tab algn="l" pos="2111400"/>
                <a:tab algn="l" pos="2560680"/>
                <a:tab algn="l" pos="3009960"/>
                <a:tab algn="l" pos="3459240"/>
                <a:tab algn="l" pos="3908520"/>
                <a:tab algn="l" pos="4357800"/>
                <a:tab algn="l" pos="4807080"/>
                <a:tab algn="l" pos="5256360"/>
                <a:tab algn="l" pos="5705640"/>
                <a:tab algn="l" pos="6154560"/>
                <a:tab algn="l" pos="6603840"/>
                <a:tab algn="l" pos="7053120"/>
                <a:tab algn="l" pos="7502400"/>
                <a:tab algn="l" pos="7951680"/>
                <a:tab algn="l" pos="8400960"/>
                <a:tab algn="l" pos="8850240"/>
                <a:tab algn="l" pos="9299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5079960" y="1619280"/>
            <a:ext cx="4459320" cy="62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 marL="316080" indent="-316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"/>
              <a:tabLst>
                <a:tab algn="l" pos="316080"/>
                <a:tab algn="l" pos="763560"/>
                <a:tab algn="l" pos="1212840"/>
                <a:tab algn="l" pos="1662120"/>
                <a:tab algn="l" pos="2111400"/>
                <a:tab algn="l" pos="2560680"/>
                <a:tab algn="l" pos="3009960"/>
                <a:tab algn="l" pos="3459240"/>
                <a:tab algn="l" pos="3908520"/>
                <a:tab algn="l" pos="4357800"/>
                <a:tab algn="l" pos="4807080"/>
                <a:tab algn="l" pos="5256360"/>
                <a:tab algn="l" pos="5705640"/>
                <a:tab algn="l" pos="6154560"/>
                <a:tab algn="l" pos="6603840"/>
                <a:tab algn="l" pos="7053120"/>
                <a:tab algn="l" pos="7502400"/>
                <a:tab algn="l" pos="7951680"/>
                <a:tab algn="l" pos="8400960"/>
                <a:tab algn="l" pos="8850240"/>
                <a:tab algn="l" pos="9299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бота в группе помогает ребенку   проявить себя;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6080" indent="-316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"/>
              <a:tabLst>
                <a:tab algn="l" pos="316080"/>
                <a:tab algn="l" pos="763560"/>
                <a:tab algn="l" pos="1212840"/>
                <a:tab algn="l" pos="1662120"/>
                <a:tab algn="l" pos="2111400"/>
                <a:tab algn="l" pos="2560680"/>
                <a:tab algn="l" pos="3009960"/>
                <a:tab algn="l" pos="3459240"/>
                <a:tab algn="l" pos="3908520"/>
                <a:tab algn="l" pos="4357800"/>
                <a:tab algn="l" pos="4807080"/>
                <a:tab algn="l" pos="5256360"/>
                <a:tab algn="l" pos="5705640"/>
                <a:tab algn="l" pos="6154560"/>
                <a:tab algn="l" pos="6603840"/>
                <a:tab algn="l" pos="7053120"/>
                <a:tab algn="l" pos="7502400"/>
                <a:tab algn="l" pos="7951680"/>
                <a:tab algn="l" pos="8400960"/>
                <a:tab algn="l" pos="8850240"/>
                <a:tab algn="l" pos="9299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крепляется дружба;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6080" indent="-316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"/>
              <a:tabLst>
                <a:tab algn="l" pos="316080"/>
                <a:tab algn="l" pos="763560"/>
                <a:tab algn="l" pos="1212840"/>
                <a:tab algn="l" pos="1662120"/>
                <a:tab algn="l" pos="2111400"/>
                <a:tab algn="l" pos="2560680"/>
                <a:tab algn="l" pos="3009960"/>
                <a:tab algn="l" pos="3459240"/>
                <a:tab algn="l" pos="3908520"/>
                <a:tab algn="l" pos="4357800"/>
                <a:tab algn="l" pos="4807080"/>
                <a:tab algn="l" pos="5256360"/>
                <a:tab algn="l" pos="5705640"/>
                <a:tab algn="l" pos="6154560"/>
                <a:tab algn="l" pos="6603840"/>
                <a:tab algn="l" pos="7053120"/>
                <a:tab algn="l" pos="7502400"/>
                <a:tab algn="l" pos="7951680"/>
                <a:tab algn="l" pos="8400960"/>
                <a:tab algn="l" pos="8850240"/>
                <a:tab algn="l" pos="9299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лучшаются межличностные отношения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6080" indent="-316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"/>
              <a:tabLst>
                <a:tab algn="l" pos="316080"/>
                <a:tab algn="l" pos="763560"/>
                <a:tab algn="l" pos="1212840"/>
                <a:tab algn="l" pos="1662120"/>
                <a:tab algn="l" pos="2111400"/>
                <a:tab algn="l" pos="2560680"/>
                <a:tab algn="l" pos="3009960"/>
                <a:tab algn="l" pos="3459240"/>
                <a:tab algn="l" pos="3908520"/>
                <a:tab algn="l" pos="4357800"/>
                <a:tab algn="l" pos="4807080"/>
                <a:tab algn="l" pos="5256360"/>
                <a:tab algn="l" pos="5705640"/>
                <a:tab algn="l" pos="6154560"/>
                <a:tab algn="l" pos="6603840"/>
                <a:tab algn="l" pos="7053120"/>
                <a:tab algn="l" pos="7502400"/>
                <a:tab algn="l" pos="7951680"/>
                <a:tab algn="l" pos="8400960"/>
                <a:tab algn="l" pos="8850240"/>
                <a:tab algn="l" pos="9299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станавливается психологический комфорт в коллективе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6080" indent="-316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16080"/>
                <a:tab algn="l" pos="763560"/>
                <a:tab algn="l" pos="1212840"/>
                <a:tab algn="l" pos="1662120"/>
                <a:tab algn="l" pos="2111400"/>
                <a:tab algn="l" pos="2560680"/>
                <a:tab algn="l" pos="3009960"/>
                <a:tab algn="l" pos="3459240"/>
                <a:tab algn="l" pos="3908520"/>
                <a:tab algn="l" pos="4357800"/>
                <a:tab algn="l" pos="4807080"/>
                <a:tab algn="l" pos="5256360"/>
                <a:tab algn="l" pos="5705640"/>
                <a:tab algn="l" pos="6154560"/>
                <a:tab algn="l" pos="6603840"/>
                <a:tab algn="l" pos="7053120"/>
                <a:tab algn="l" pos="7502400"/>
                <a:tab algn="l" pos="7951680"/>
                <a:tab algn="l" pos="8400960"/>
                <a:tab algn="l" pos="8850240"/>
                <a:tab algn="l" pos="9299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6080" indent="-316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16080"/>
                <a:tab algn="l" pos="763560"/>
                <a:tab algn="l" pos="1212840"/>
                <a:tab algn="l" pos="1662120"/>
                <a:tab algn="l" pos="2111400"/>
                <a:tab algn="l" pos="2560680"/>
                <a:tab algn="l" pos="3009960"/>
                <a:tab algn="l" pos="3459240"/>
                <a:tab algn="l" pos="3908520"/>
                <a:tab algn="l" pos="4357800"/>
                <a:tab algn="l" pos="4807080"/>
                <a:tab algn="l" pos="5256360"/>
                <a:tab algn="l" pos="5705640"/>
                <a:tab algn="l" pos="6154560"/>
                <a:tab algn="l" pos="6603840"/>
                <a:tab algn="l" pos="7053120"/>
                <a:tab algn="l" pos="7502400"/>
                <a:tab algn="l" pos="7951680"/>
                <a:tab algn="l" pos="8400960"/>
                <a:tab algn="l" pos="8850240"/>
                <a:tab algn="l" pos="9299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6080" indent="-316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16080"/>
                <a:tab algn="l" pos="763560"/>
                <a:tab algn="l" pos="1212840"/>
                <a:tab algn="l" pos="1662120"/>
                <a:tab algn="l" pos="2111400"/>
                <a:tab algn="l" pos="2560680"/>
                <a:tab algn="l" pos="3009960"/>
                <a:tab algn="l" pos="3459240"/>
                <a:tab algn="l" pos="3908520"/>
                <a:tab algn="l" pos="4357800"/>
                <a:tab algn="l" pos="4807080"/>
                <a:tab algn="l" pos="5256360"/>
                <a:tab algn="l" pos="5705640"/>
                <a:tab algn="l" pos="6154560"/>
                <a:tab algn="l" pos="6603840"/>
                <a:tab algn="l" pos="7053120"/>
                <a:tab algn="l" pos="7502400"/>
                <a:tab algn="l" pos="7951680"/>
                <a:tab algn="l" pos="8400960"/>
                <a:tab algn="l" pos="8850240"/>
                <a:tab algn="l" pos="9299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1"/>
          <p:cNvSpPr/>
          <p:nvPr/>
        </p:nvSpPr>
        <p:spPr>
          <a:xfrm>
            <a:off x="503280" y="826920"/>
            <a:ext cx="4457520" cy="602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 marL="316080" indent="-316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"/>
              <a:tabLst>
                <a:tab algn="l" pos="316080"/>
                <a:tab algn="l" pos="763560"/>
                <a:tab algn="l" pos="1212840"/>
                <a:tab algn="l" pos="1662120"/>
                <a:tab algn="l" pos="2111400"/>
                <a:tab algn="l" pos="2560680"/>
                <a:tab algn="l" pos="3009960"/>
                <a:tab algn="l" pos="3459240"/>
                <a:tab algn="l" pos="3908520"/>
                <a:tab algn="l" pos="4357800"/>
                <a:tab algn="l" pos="4807080"/>
                <a:tab algn="l" pos="5256360"/>
                <a:tab algn="l" pos="5705640"/>
                <a:tab algn="l" pos="6154560"/>
                <a:tab algn="l" pos="6603840"/>
                <a:tab algn="l" pos="7053120"/>
                <a:tab algn="l" pos="7502400"/>
                <a:tab algn="l" pos="7951680"/>
                <a:tab algn="l" pos="8400960"/>
                <a:tab algn="l" pos="8850240"/>
                <a:tab algn="l" pos="9299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является возможность избежать негативных сторон соревновани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6080" indent="-316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"/>
              <a:tabLst>
                <a:tab algn="l" pos="316080"/>
                <a:tab algn="l" pos="763560"/>
                <a:tab algn="l" pos="1212840"/>
                <a:tab algn="l" pos="1662120"/>
                <a:tab algn="l" pos="2111400"/>
                <a:tab algn="l" pos="2560680"/>
                <a:tab algn="l" pos="3009960"/>
                <a:tab algn="l" pos="3459240"/>
                <a:tab algn="l" pos="3908520"/>
                <a:tab algn="l" pos="4357800"/>
                <a:tab algn="l" pos="4807080"/>
                <a:tab algn="l" pos="5256360"/>
                <a:tab algn="l" pos="5705640"/>
                <a:tab algn="l" pos="6154560"/>
                <a:tab algn="l" pos="6603840"/>
                <a:tab algn="l" pos="7053120"/>
                <a:tab algn="l" pos="7502400"/>
                <a:tab algn="l" pos="7951680"/>
                <a:tab algn="l" pos="8400960"/>
                <a:tab algn="l" pos="8850240"/>
                <a:tab algn="l" pos="9299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бята убеждаются в ценности взаимопомощи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6080" indent="-316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"/>
              <a:tabLst>
                <a:tab algn="l" pos="316080"/>
                <a:tab algn="l" pos="763560"/>
                <a:tab algn="l" pos="1212840"/>
                <a:tab algn="l" pos="1662120"/>
                <a:tab algn="l" pos="2111400"/>
                <a:tab algn="l" pos="2560680"/>
                <a:tab algn="l" pos="3009960"/>
                <a:tab algn="l" pos="3459240"/>
                <a:tab algn="l" pos="3908520"/>
                <a:tab algn="l" pos="4357800"/>
                <a:tab algn="l" pos="4807080"/>
                <a:tab algn="l" pos="5256360"/>
                <a:tab algn="l" pos="5705640"/>
                <a:tab algn="l" pos="6154560"/>
                <a:tab algn="l" pos="6603840"/>
                <a:tab algn="l" pos="7053120"/>
                <a:tab algn="l" pos="7502400"/>
                <a:tab algn="l" pos="7951680"/>
                <a:tab algn="l" pos="8400960"/>
                <a:tab algn="l" pos="8850240"/>
                <a:tab algn="l" pos="9299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рождает взаимную ответственность, внимательность, формирует интерес к работе товарищ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6080" indent="-316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"/>
              <a:tabLst>
                <a:tab algn="l" pos="316080"/>
                <a:tab algn="l" pos="763560"/>
                <a:tab algn="l" pos="1212840"/>
                <a:tab algn="l" pos="1662120"/>
                <a:tab algn="l" pos="2111400"/>
                <a:tab algn="l" pos="2560680"/>
                <a:tab algn="l" pos="3009960"/>
                <a:tab algn="l" pos="3459240"/>
                <a:tab algn="l" pos="3908520"/>
                <a:tab algn="l" pos="4357800"/>
                <a:tab algn="l" pos="4807080"/>
                <a:tab algn="l" pos="5256360"/>
                <a:tab algn="l" pos="5705640"/>
                <a:tab algn="l" pos="6154560"/>
                <a:tab algn="l" pos="6603840"/>
                <a:tab algn="l" pos="7053120"/>
                <a:tab algn="l" pos="7502400"/>
                <a:tab algn="l" pos="7951680"/>
                <a:tab algn="l" pos="8400960"/>
                <a:tab algn="l" pos="8850240"/>
                <a:tab algn="l" pos="9299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ализуется принцип деятельност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6080" indent="-316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"/>
              <a:tabLst>
                <a:tab algn="l" pos="316080"/>
                <a:tab algn="l" pos="763560"/>
                <a:tab algn="l" pos="1212840"/>
                <a:tab algn="l" pos="1662120"/>
                <a:tab algn="l" pos="2111400"/>
                <a:tab algn="l" pos="2560680"/>
                <a:tab algn="l" pos="3009960"/>
                <a:tab algn="l" pos="3459240"/>
                <a:tab algn="l" pos="3908520"/>
                <a:tab algn="l" pos="4357800"/>
                <a:tab algn="l" pos="4807080"/>
                <a:tab algn="l" pos="5256360"/>
                <a:tab algn="l" pos="5705640"/>
                <a:tab algn="l" pos="6154560"/>
                <a:tab algn="l" pos="6603840"/>
                <a:tab algn="l" pos="7053120"/>
                <a:tab algn="l" pos="7502400"/>
                <a:tab algn="l" pos="7951680"/>
                <a:tab algn="l" pos="8400960"/>
                <a:tab algn="l" pos="8850240"/>
                <a:tab algn="l" pos="9299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стигается всеобщий и всеохватывающий контроль знаний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6080" indent="-316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16080"/>
                <a:tab algn="l" pos="763560"/>
                <a:tab algn="l" pos="1212840"/>
                <a:tab algn="l" pos="1662120"/>
                <a:tab algn="l" pos="2111400"/>
                <a:tab algn="l" pos="2560680"/>
                <a:tab algn="l" pos="3009960"/>
                <a:tab algn="l" pos="3459240"/>
                <a:tab algn="l" pos="3908520"/>
                <a:tab algn="l" pos="4357800"/>
                <a:tab algn="l" pos="4807080"/>
                <a:tab algn="l" pos="5256360"/>
                <a:tab algn="l" pos="5705640"/>
                <a:tab algn="l" pos="6154560"/>
                <a:tab algn="l" pos="6603840"/>
                <a:tab algn="l" pos="7053120"/>
                <a:tab algn="l" pos="7502400"/>
                <a:tab algn="l" pos="7951680"/>
                <a:tab algn="l" pos="8400960"/>
                <a:tab algn="l" pos="8850240"/>
                <a:tab algn="l" pos="9299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2"/>
          <p:cNvSpPr/>
          <p:nvPr/>
        </p:nvSpPr>
        <p:spPr>
          <a:xfrm>
            <a:off x="5113440" y="1403280"/>
            <a:ext cx="4459320" cy="553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 marL="316080" indent="-316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"/>
              <a:tabLst>
                <a:tab algn="l" pos="316080"/>
                <a:tab algn="l" pos="763560"/>
                <a:tab algn="l" pos="1212840"/>
                <a:tab algn="l" pos="1662120"/>
                <a:tab algn="l" pos="2111400"/>
                <a:tab algn="l" pos="2560680"/>
                <a:tab algn="l" pos="3009960"/>
                <a:tab algn="l" pos="3459240"/>
                <a:tab algn="l" pos="3908520"/>
                <a:tab algn="l" pos="4357800"/>
                <a:tab algn="l" pos="4807080"/>
                <a:tab algn="l" pos="5256360"/>
                <a:tab algn="l" pos="5705640"/>
                <a:tab algn="l" pos="6154560"/>
                <a:tab algn="l" pos="6603840"/>
                <a:tab algn="l" pos="7053120"/>
                <a:tab algn="l" pos="7502400"/>
                <a:tab algn="l" pos="7951680"/>
                <a:tab algn="l" pos="8400960"/>
                <a:tab algn="l" pos="8850240"/>
                <a:tab algn="l" pos="9299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ащиеся усваивают больший объем материал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6080" indent="-316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"/>
              <a:tabLst>
                <a:tab algn="l" pos="316080"/>
                <a:tab algn="l" pos="763560"/>
                <a:tab algn="l" pos="1212840"/>
                <a:tab algn="l" pos="1662120"/>
                <a:tab algn="l" pos="2111400"/>
                <a:tab algn="l" pos="2560680"/>
                <a:tab algn="l" pos="3009960"/>
                <a:tab algn="l" pos="3459240"/>
                <a:tab algn="l" pos="3908520"/>
                <a:tab algn="l" pos="4357800"/>
                <a:tab algn="l" pos="4807080"/>
                <a:tab algn="l" pos="5256360"/>
                <a:tab algn="l" pos="5705640"/>
                <a:tab algn="l" pos="6154560"/>
                <a:tab algn="l" pos="6603840"/>
                <a:tab algn="l" pos="7053120"/>
                <a:tab algn="l" pos="7502400"/>
                <a:tab algn="l" pos="7951680"/>
                <a:tab algn="l" pos="8400960"/>
                <a:tab algn="l" pos="8850240"/>
                <a:tab algn="l" pos="9299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еспечивается единство воспитания и обучени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6080" indent="-316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"/>
              <a:tabLst>
                <a:tab algn="l" pos="316080"/>
                <a:tab algn="l" pos="763560"/>
                <a:tab algn="l" pos="1212840"/>
                <a:tab algn="l" pos="1662120"/>
                <a:tab algn="l" pos="2111400"/>
                <a:tab algn="l" pos="2560680"/>
                <a:tab algn="l" pos="3009960"/>
                <a:tab algn="l" pos="3459240"/>
                <a:tab algn="l" pos="3908520"/>
                <a:tab algn="l" pos="4357800"/>
                <a:tab algn="l" pos="4807080"/>
                <a:tab algn="l" pos="5256360"/>
                <a:tab algn="l" pos="5705640"/>
                <a:tab algn="l" pos="6154560"/>
                <a:tab algn="l" pos="6603840"/>
                <a:tab algn="l" pos="7053120"/>
                <a:tab algn="l" pos="7502400"/>
                <a:tab algn="l" pos="7951680"/>
                <a:tab algn="l" pos="8400960"/>
                <a:tab algn="l" pos="8850240"/>
                <a:tab algn="l" pos="9299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жду учеником и учителем устанавливаются доверительные отношени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6080" indent="-316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"/>
              <a:tabLst>
                <a:tab algn="l" pos="316080"/>
                <a:tab algn="l" pos="763560"/>
                <a:tab algn="l" pos="1212840"/>
                <a:tab algn="l" pos="1662120"/>
                <a:tab algn="l" pos="2111400"/>
                <a:tab algn="l" pos="2560680"/>
                <a:tab algn="l" pos="3009960"/>
                <a:tab algn="l" pos="3459240"/>
                <a:tab algn="l" pos="3908520"/>
                <a:tab algn="l" pos="4357800"/>
                <a:tab algn="l" pos="4807080"/>
                <a:tab algn="l" pos="5256360"/>
                <a:tab algn="l" pos="5705640"/>
                <a:tab algn="l" pos="6154560"/>
                <a:tab algn="l" pos="6603840"/>
                <a:tab algn="l" pos="7053120"/>
                <a:tab algn="l" pos="7502400"/>
                <a:tab algn="l" pos="7951680"/>
                <a:tab algn="l" pos="8400960"/>
                <a:tab algn="l" pos="8850240"/>
                <a:tab algn="l" pos="9299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инимальный объем домашнего задани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6080" indent="-316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"/>
              <a:tabLst>
                <a:tab algn="l" pos="316080"/>
                <a:tab algn="l" pos="763560"/>
                <a:tab algn="l" pos="1212840"/>
                <a:tab algn="l" pos="1662120"/>
                <a:tab algn="l" pos="2111400"/>
                <a:tab algn="l" pos="2560680"/>
                <a:tab algn="l" pos="3009960"/>
                <a:tab algn="l" pos="3459240"/>
                <a:tab algn="l" pos="3908520"/>
                <a:tab algn="l" pos="4357800"/>
                <a:tab algn="l" pos="4807080"/>
                <a:tab algn="l" pos="5256360"/>
                <a:tab algn="l" pos="5705640"/>
                <a:tab algn="l" pos="6154560"/>
                <a:tab algn="l" pos="6603840"/>
                <a:tab algn="l" pos="7053120"/>
                <a:tab algn="l" pos="7502400"/>
                <a:tab algn="l" pos="7951680"/>
                <a:tab algn="l" pos="8400960"/>
                <a:tab algn="l" pos="8850240"/>
                <a:tab algn="l" pos="9299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прощается процедура проверки работ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6080" indent="-316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16080"/>
                <a:tab algn="l" pos="763560"/>
                <a:tab algn="l" pos="1212840"/>
                <a:tab algn="l" pos="1662120"/>
                <a:tab algn="l" pos="2111400"/>
                <a:tab algn="l" pos="2560680"/>
                <a:tab algn="l" pos="3009960"/>
                <a:tab algn="l" pos="3459240"/>
                <a:tab algn="l" pos="3908520"/>
                <a:tab algn="l" pos="4357800"/>
                <a:tab algn="l" pos="4807080"/>
                <a:tab algn="l" pos="5256360"/>
                <a:tab algn="l" pos="5705640"/>
                <a:tab algn="l" pos="6154560"/>
                <a:tab algn="l" pos="6603840"/>
                <a:tab algn="l" pos="7053120"/>
                <a:tab algn="l" pos="7502400"/>
                <a:tab algn="l" pos="7951680"/>
                <a:tab algn="l" pos="8400960"/>
                <a:tab algn="l" pos="8850240"/>
                <a:tab algn="l" pos="9299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6080" indent="-316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16080"/>
                <a:tab algn="l" pos="763560"/>
                <a:tab algn="l" pos="1212840"/>
                <a:tab algn="l" pos="1662120"/>
                <a:tab algn="l" pos="2111400"/>
                <a:tab algn="l" pos="2560680"/>
                <a:tab algn="l" pos="3009960"/>
                <a:tab algn="l" pos="3459240"/>
                <a:tab algn="l" pos="3908520"/>
                <a:tab algn="l" pos="4357800"/>
                <a:tab algn="l" pos="4807080"/>
                <a:tab algn="l" pos="5256360"/>
                <a:tab algn="l" pos="5705640"/>
                <a:tab algn="l" pos="6154560"/>
                <a:tab algn="l" pos="6603840"/>
                <a:tab algn="l" pos="7053120"/>
                <a:tab algn="l" pos="7502400"/>
                <a:tab algn="l" pos="7951680"/>
                <a:tab algn="l" pos="8400960"/>
                <a:tab algn="l" pos="8850240"/>
                <a:tab algn="l" pos="9299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1"/>
          <p:cNvSpPr/>
          <p:nvPr/>
        </p:nvSpPr>
        <p:spPr>
          <a:xfrm>
            <a:off x="1011240" y="684360"/>
            <a:ext cx="90694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3600" spc="-1" strike="noStrike">
                <a:solidFill>
                  <a:srgbClr val="7030a0"/>
                </a:solidFill>
                <a:latin typeface="Arial"/>
              </a:rPr>
              <a:t>Формирование</a:t>
            </a:r>
            <a:r>
              <a:rPr b="0" lang="ru-RU" sz="3600" spc="-1" strike="noStrike">
                <a:solidFill>
                  <a:srgbClr val="7030a0"/>
                </a:solidFill>
                <a:latin typeface="Arial"/>
              </a:rPr>
              <a:t> </a:t>
            </a:r>
            <a:r>
              <a:rPr b="0" i="1" lang="ru-RU" sz="3600" spc="-1" strike="noStrike">
                <a:solidFill>
                  <a:srgbClr val="7030a0"/>
                </a:solidFill>
                <a:latin typeface="Arial"/>
              </a:rPr>
              <a:t>культуры общени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2"/>
          <p:cNvSpPr/>
          <p:nvPr/>
        </p:nvSpPr>
        <p:spPr>
          <a:xfrm>
            <a:off x="503280" y="1768320"/>
            <a:ext cx="9055080" cy="51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336600"/>
                </a:solidFill>
                <a:latin typeface="Arial"/>
              </a:rPr>
              <a:t>1 этап</a:t>
            </a:r>
            <a:r>
              <a:rPr b="0" lang="ru-RU" sz="32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учимся слушать друг друга и    высказывать свою точку зрения, мнение по любому поводу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336600"/>
                </a:solidFill>
                <a:latin typeface="Arial"/>
              </a:rPr>
              <a:t>2 этап</a:t>
            </a:r>
            <a:r>
              <a:rPr b="0" lang="ru-RU" sz="32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– учимся вести диалог и учимся аргументировать свою версию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336600"/>
                </a:solidFill>
                <a:latin typeface="Arial"/>
              </a:rPr>
              <a:t>3 этап</a:t>
            </a:r>
            <a:r>
              <a:rPr b="0" lang="ru-RU" sz="32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– учимся задавать вопросы и учимся давать контраргумент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336600"/>
                </a:solidFill>
                <a:latin typeface="Arial"/>
              </a:rPr>
              <a:t>4 этап</a:t>
            </a:r>
            <a:r>
              <a:rPr b="0" lang="ru-RU" sz="32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– учимся разрешать конфликты и совершенствовать умения вести диалог.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1"/>
          <p:cNvSpPr/>
          <p:nvPr/>
        </p:nvSpPr>
        <p:spPr>
          <a:xfrm>
            <a:off x="504720" y="192240"/>
            <a:ext cx="907272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700" spc="-1" strike="noStrike">
                <a:solidFill>
                  <a:srgbClr val="ff420e"/>
                </a:solidFill>
                <a:latin typeface="Tahoma"/>
              </a:rPr>
              <a:t>Формула успеха выпускника школы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2"/>
          <p:cNvSpPr/>
          <p:nvPr/>
        </p:nvSpPr>
        <p:spPr>
          <a:xfrm>
            <a:off x="504720" y="1763640"/>
            <a:ext cx="9036000" cy="499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marL="363600" indent="-363600">
              <a:lnSpc>
                <a:spcPct val="90000"/>
              </a:lnSpc>
              <a:spcBef>
                <a:spcPts val="887"/>
              </a:spcBef>
              <a:buClr>
                <a:srgbClr val="ebf25a"/>
              </a:buClr>
              <a:buFont typeface="Wingdings" charset="2"/>
              <a:buChar char=""/>
              <a:tabLst>
                <a:tab algn="l" pos="363600"/>
                <a:tab algn="l" pos="811080"/>
                <a:tab algn="l" pos="1260360"/>
                <a:tab algn="l" pos="1709640"/>
                <a:tab algn="l" pos="2158920"/>
                <a:tab algn="l" pos="2608200"/>
                <a:tab algn="l" pos="3057480"/>
                <a:tab algn="l" pos="3506760"/>
                <a:tab algn="l" pos="3956040"/>
                <a:tab algn="l" pos="4405320"/>
                <a:tab algn="l" pos="4854600"/>
                <a:tab algn="l" pos="5303880"/>
                <a:tab algn="l" pos="5753160"/>
                <a:tab algn="l" pos="6202440"/>
                <a:tab algn="l" pos="6651720"/>
                <a:tab algn="l" pos="7101000"/>
                <a:tab algn="l" pos="7550280"/>
                <a:tab algn="l" pos="7999560"/>
                <a:tab algn="l" pos="8448840"/>
                <a:tab algn="l" pos="8897760"/>
                <a:tab algn="l" pos="9347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500" spc="-1" strike="noStrike">
                <a:solidFill>
                  <a:srgbClr val="0000ff"/>
                </a:solidFill>
                <a:latin typeface="Monotype Corsiva"/>
              </a:rPr>
              <a:t>Умение видеть и решать проблемы.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marL="363600" indent="-363600">
              <a:lnSpc>
                <a:spcPct val="90000"/>
              </a:lnSpc>
              <a:spcBef>
                <a:spcPts val="887"/>
              </a:spcBef>
              <a:buClr>
                <a:srgbClr val="ebf25a"/>
              </a:buClr>
              <a:buFont typeface="Wingdings" charset="2"/>
              <a:buChar char=""/>
              <a:tabLst>
                <a:tab algn="l" pos="363600"/>
                <a:tab algn="l" pos="811080"/>
                <a:tab algn="l" pos="1260360"/>
                <a:tab algn="l" pos="1709640"/>
                <a:tab algn="l" pos="2158920"/>
                <a:tab algn="l" pos="2608200"/>
                <a:tab algn="l" pos="3057480"/>
                <a:tab algn="l" pos="3506760"/>
                <a:tab algn="l" pos="3956040"/>
                <a:tab algn="l" pos="4405320"/>
                <a:tab algn="l" pos="4854600"/>
                <a:tab algn="l" pos="5303880"/>
                <a:tab algn="l" pos="5753160"/>
                <a:tab algn="l" pos="6202440"/>
                <a:tab algn="l" pos="6651720"/>
                <a:tab algn="l" pos="7101000"/>
                <a:tab algn="l" pos="7550280"/>
                <a:tab algn="l" pos="7999560"/>
                <a:tab algn="l" pos="8448840"/>
                <a:tab algn="l" pos="8897760"/>
                <a:tab algn="l" pos="9347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500" spc="-1" strike="noStrike">
                <a:solidFill>
                  <a:srgbClr val="0000ff"/>
                </a:solidFill>
                <a:latin typeface="Monotype Corsiva"/>
              </a:rPr>
              <a:t>Умение самостоятельно учиться, работать с информацией.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marL="363600" indent="-363600">
              <a:lnSpc>
                <a:spcPct val="90000"/>
              </a:lnSpc>
              <a:spcBef>
                <a:spcPts val="887"/>
              </a:spcBef>
              <a:buClr>
                <a:srgbClr val="ebf25a"/>
              </a:buClr>
              <a:buFont typeface="Wingdings" charset="2"/>
              <a:buChar char=""/>
              <a:tabLst>
                <a:tab algn="l" pos="363600"/>
                <a:tab algn="l" pos="811080"/>
                <a:tab algn="l" pos="1260360"/>
                <a:tab algn="l" pos="1709640"/>
                <a:tab algn="l" pos="2158920"/>
                <a:tab algn="l" pos="2608200"/>
                <a:tab algn="l" pos="3057480"/>
                <a:tab algn="l" pos="3506760"/>
                <a:tab algn="l" pos="3956040"/>
                <a:tab algn="l" pos="4405320"/>
                <a:tab algn="l" pos="4854600"/>
                <a:tab algn="l" pos="5303880"/>
                <a:tab algn="l" pos="5753160"/>
                <a:tab algn="l" pos="6202440"/>
                <a:tab algn="l" pos="6651720"/>
                <a:tab algn="l" pos="7101000"/>
                <a:tab algn="l" pos="7550280"/>
                <a:tab algn="l" pos="7999560"/>
                <a:tab algn="l" pos="8448840"/>
                <a:tab algn="l" pos="8897760"/>
                <a:tab algn="l" pos="9347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500" spc="-1" strike="noStrike">
                <a:solidFill>
                  <a:srgbClr val="0000ff"/>
                </a:solidFill>
                <a:latin typeface="Monotype Corsiva"/>
              </a:rPr>
              <a:t>Способность иметь самостоятельную точку зрения и умение её аргументировать.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marL="363600" indent="-363600">
              <a:lnSpc>
                <a:spcPct val="90000"/>
              </a:lnSpc>
              <a:spcBef>
                <a:spcPts val="887"/>
              </a:spcBef>
              <a:buClr>
                <a:srgbClr val="ebf25a"/>
              </a:buClr>
              <a:buFont typeface="Wingdings" charset="2"/>
              <a:buChar char=""/>
              <a:tabLst>
                <a:tab algn="l" pos="363600"/>
                <a:tab algn="l" pos="811080"/>
                <a:tab algn="l" pos="1260360"/>
                <a:tab algn="l" pos="1709640"/>
                <a:tab algn="l" pos="2158920"/>
                <a:tab algn="l" pos="2608200"/>
                <a:tab algn="l" pos="3057480"/>
                <a:tab algn="l" pos="3506760"/>
                <a:tab algn="l" pos="3956040"/>
                <a:tab algn="l" pos="4405320"/>
                <a:tab algn="l" pos="4854600"/>
                <a:tab algn="l" pos="5303880"/>
                <a:tab algn="l" pos="5753160"/>
                <a:tab algn="l" pos="6202440"/>
                <a:tab algn="l" pos="6651720"/>
                <a:tab algn="l" pos="7101000"/>
                <a:tab algn="l" pos="7550280"/>
                <a:tab algn="l" pos="7999560"/>
                <a:tab algn="l" pos="8448840"/>
                <a:tab algn="l" pos="8897760"/>
                <a:tab algn="l" pos="9347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500" spc="-1" strike="noStrike">
                <a:solidFill>
                  <a:srgbClr val="0000ff"/>
                </a:solidFill>
                <a:latin typeface="Monotype Corsiva"/>
              </a:rPr>
              <a:t>Умение применять полученные знания для решения жизненных проблем.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marL="363600" indent="-363600">
              <a:lnSpc>
                <a:spcPct val="90000"/>
              </a:lnSpc>
              <a:spcBef>
                <a:spcPts val="887"/>
              </a:spcBef>
              <a:buClr>
                <a:srgbClr val="ebf25a"/>
              </a:buClr>
              <a:buFont typeface="Wingdings" charset="2"/>
              <a:buChar char=""/>
              <a:tabLst>
                <a:tab algn="l" pos="363600"/>
                <a:tab algn="l" pos="811080"/>
                <a:tab algn="l" pos="1260360"/>
                <a:tab algn="l" pos="1709640"/>
                <a:tab algn="l" pos="2158920"/>
                <a:tab algn="l" pos="2608200"/>
                <a:tab algn="l" pos="3057480"/>
                <a:tab algn="l" pos="3506760"/>
                <a:tab algn="l" pos="3956040"/>
                <a:tab algn="l" pos="4405320"/>
                <a:tab algn="l" pos="4854600"/>
                <a:tab algn="l" pos="5303880"/>
                <a:tab algn="l" pos="5753160"/>
                <a:tab algn="l" pos="6202440"/>
                <a:tab algn="l" pos="6651720"/>
                <a:tab algn="l" pos="7101000"/>
                <a:tab algn="l" pos="7550280"/>
                <a:tab algn="l" pos="7999560"/>
                <a:tab algn="l" pos="8448840"/>
                <a:tab algn="l" pos="8897760"/>
                <a:tab algn="l" pos="9347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500" spc="-1" strike="noStrike">
                <a:solidFill>
                  <a:srgbClr val="0000ff"/>
                </a:solidFill>
                <a:latin typeface="Monotype Corsiva"/>
              </a:rPr>
              <a:t>Культура общения.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1" name="chimes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reeform 1"/>
          <p:cNvSpPr/>
          <p:nvPr/>
        </p:nvSpPr>
        <p:spPr>
          <a:xfrm>
            <a:off x="357120" y="604800"/>
            <a:ext cx="9366480" cy="635004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Text Box 2"/>
          <p:cNvSpPr/>
          <p:nvPr/>
        </p:nvSpPr>
        <p:spPr>
          <a:xfrm>
            <a:off x="515880" y="1636560"/>
            <a:ext cx="9072720" cy="150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ff3333"/>
                </a:solidFill>
                <a:latin typeface="Monotype Corsiva"/>
              </a:rPr>
              <a:t>Девиз обучения в сотрудничестве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Text Box 3"/>
          <p:cNvSpPr/>
          <p:nvPr/>
        </p:nvSpPr>
        <p:spPr>
          <a:xfrm>
            <a:off x="331920" y="2498760"/>
            <a:ext cx="9416880" cy="42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ctr">
              <a:lnSpc>
                <a:spcPct val="100000"/>
              </a:lnSpc>
              <a:spcBef>
                <a:spcPts val="1488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3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5300" spc="-1" strike="noStrike">
                <a:solidFill>
                  <a:srgbClr val="3deb3d"/>
                </a:solidFill>
                <a:latin typeface="Arial"/>
              </a:rPr>
              <a:t>«Помогая другим, учимся сами!»</a:t>
            </a:r>
            <a:endParaRPr b="0" lang="en-US" sz="5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1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1"/>
          <p:cNvSpPr/>
          <p:nvPr/>
        </p:nvSpPr>
        <p:spPr>
          <a:xfrm>
            <a:off x="3745080" y="1042920"/>
            <a:ext cx="5543280" cy="62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alibri"/>
                <a:ea typeface="Times New Roman"/>
              </a:rPr>
              <a:t>«</a:t>
            </a:r>
            <a:r>
              <a:rPr b="0" lang="ru-RU" sz="3600" spc="-1" strike="noStrike">
                <a:solidFill>
                  <a:srgbClr val="c00000"/>
                </a:solidFill>
                <a:latin typeface="Calibri"/>
                <a:ea typeface="Times New Roman"/>
              </a:rPr>
              <a:t>Мои ученики будут узнавать новое не от меня; </a:t>
            </a:r>
            <a:br>
              <a:rPr sz="3200"/>
            </a:br>
            <a:r>
              <a:rPr b="0" lang="ru-RU" sz="3600" spc="-1" strike="noStrike">
                <a:solidFill>
                  <a:srgbClr val="c00000"/>
                </a:solidFill>
                <a:latin typeface="Calibri"/>
                <a:ea typeface="Times New Roman"/>
              </a:rPr>
              <a:t>они будут открывать это новое сами. </a:t>
            </a:r>
            <a:br>
              <a:rPr sz="3200"/>
            </a:br>
            <a:r>
              <a:rPr b="0" lang="ru-RU" sz="3600" spc="-1" strike="noStrike">
                <a:solidFill>
                  <a:srgbClr val="c00000"/>
                </a:solidFill>
                <a:latin typeface="Calibri"/>
                <a:ea typeface="Times New Roman"/>
              </a:rPr>
              <a:t>Моя главная задача - помочь им раскрыться, </a:t>
            </a:r>
            <a:br>
              <a:rPr sz="3200"/>
            </a:br>
            <a:r>
              <a:rPr b="0" lang="ru-RU" sz="3600" spc="-1" strike="noStrike">
                <a:solidFill>
                  <a:srgbClr val="c00000"/>
                </a:solidFill>
                <a:latin typeface="Calibri"/>
                <a:ea typeface="Times New Roman"/>
              </a:rPr>
              <a:t>развить собственные идеи».</a:t>
            </a:r>
            <a:br>
              <a:rPr sz="3600"/>
            </a:br>
            <a:br>
              <a:rPr sz="3200"/>
            </a:br>
            <a:r>
              <a:rPr b="0" i="1" lang="ru-RU" sz="3600" spc="-1" strike="noStrike">
                <a:solidFill>
                  <a:srgbClr val="c00000"/>
                </a:solidFill>
                <a:latin typeface="Cambria"/>
                <a:ea typeface="Times New Roman"/>
              </a:rPr>
              <a:t>И.Г.Песталоцци</a:t>
            </a:r>
            <a:br>
              <a:rPr sz="54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Picture 2" descr=""/>
          <p:cNvPicPr/>
          <p:nvPr/>
        </p:nvPicPr>
        <p:blipFill>
          <a:blip r:embed="rId2"/>
          <a:stretch/>
        </p:blipFill>
        <p:spPr>
          <a:xfrm>
            <a:off x="360360" y="900000"/>
            <a:ext cx="3529080" cy="419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1"/>
          <p:cNvSpPr/>
          <p:nvPr/>
        </p:nvSpPr>
        <p:spPr>
          <a:xfrm>
            <a:off x="0" y="0"/>
            <a:ext cx="10080720" cy="755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Text Box 2"/>
          <p:cNvSpPr/>
          <p:nvPr/>
        </p:nvSpPr>
        <p:spPr>
          <a:xfrm>
            <a:off x="393840" y="236520"/>
            <a:ext cx="885348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В психологической литературе приводятся такие данные: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обучающиеся удерживают в памяти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AutoShape 3"/>
          <p:cNvSpPr/>
          <p:nvPr/>
        </p:nvSpPr>
        <p:spPr>
          <a:xfrm>
            <a:off x="900000" y="2158920"/>
            <a:ext cx="2284560" cy="1260720"/>
          </a:xfrm>
          <a:prstGeom prst="flowChartAlternateProcess">
            <a:avLst/>
          </a:prstGeom>
          <a:solidFill>
            <a:srgbClr val="8285fc"/>
          </a:solidFill>
          <a:ln w="9360">
            <a:solidFill>
              <a:srgbClr val="acb5d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Arial"/>
              </a:rPr>
              <a:t>10% того, что читают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AutoShape 4"/>
          <p:cNvSpPr/>
          <p:nvPr/>
        </p:nvSpPr>
        <p:spPr>
          <a:xfrm>
            <a:off x="3836880" y="2160720"/>
            <a:ext cx="2282760" cy="1338120"/>
          </a:xfrm>
          <a:prstGeom prst="flowChartAlternateProcess">
            <a:avLst/>
          </a:prstGeom>
          <a:solidFill>
            <a:srgbClr val="ffc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Arial"/>
              </a:rPr>
              <a:t>26% от того, что слышат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AutoShape 5"/>
          <p:cNvSpPr/>
          <p:nvPr/>
        </p:nvSpPr>
        <p:spPr>
          <a:xfrm>
            <a:off x="720720" y="3959280"/>
            <a:ext cx="2587680" cy="1249200"/>
          </a:xfrm>
          <a:prstGeom prst="flowChartAlternateProcess">
            <a:avLst/>
          </a:prstGeom>
          <a:solidFill>
            <a:srgbClr val="ffddf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Arial"/>
              </a:rPr>
              <a:t>30% от того, что видят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AutoShape 6"/>
          <p:cNvSpPr/>
          <p:nvPr/>
        </p:nvSpPr>
        <p:spPr>
          <a:xfrm flipH="1">
            <a:off x="3779280" y="3959280"/>
            <a:ext cx="2835000" cy="1417680"/>
          </a:xfrm>
          <a:prstGeom prst="flowChartAlternateProcess">
            <a:avLst/>
          </a:prstGeom>
          <a:solidFill>
            <a:srgbClr val="92d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Arial"/>
              </a:rPr>
              <a:t>50% от того, что они видят и слышат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AutoShape 7"/>
          <p:cNvSpPr/>
          <p:nvPr/>
        </p:nvSpPr>
        <p:spPr>
          <a:xfrm>
            <a:off x="7020000" y="2184480"/>
            <a:ext cx="2519280" cy="1415880"/>
          </a:xfrm>
          <a:prstGeom prst="flowChartAlternateProcess">
            <a:avLst/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Arial"/>
              </a:rPr>
              <a:t>70% от того, что они обсуждают с другими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AutoShape 8"/>
          <p:cNvSpPr/>
          <p:nvPr/>
        </p:nvSpPr>
        <p:spPr>
          <a:xfrm>
            <a:off x="7018200" y="4060800"/>
            <a:ext cx="2521080" cy="1338120"/>
          </a:xfrm>
          <a:prstGeom prst="roundRect">
            <a:avLst>
              <a:gd name="adj" fmla="val 16667"/>
            </a:avLst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Arial"/>
              </a:rPr>
              <a:t>80% от того, что основано на личном опыте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AutoShape 9"/>
          <p:cNvSpPr/>
          <p:nvPr/>
        </p:nvSpPr>
        <p:spPr>
          <a:xfrm>
            <a:off x="5219640" y="5580000"/>
            <a:ext cx="2914560" cy="1417680"/>
          </a:xfrm>
          <a:prstGeom prst="roundRect">
            <a:avLst>
              <a:gd name="adj" fmla="val 16667"/>
            </a:avLst>
          </a:prstGeom>
          <a:solidFill>
            <a:srgbClr val="e3fb9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Arial"/>
              </a:rPr>
              <a:t>90% от того, что они говорят в то время как делают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AutoShape 10"/>
          <p:cNvSpPr/>
          <p:nvPr/>
        </p:nvSpPr>
        <p:spPr>
          <a:xfrm>
            <a:off x="1440000" y="5580000"/>
            <a:ext cx="2835000" cy="1338480"/>
          </a:xfrm>
          <a:prstGeom prst="roundRect">
            <a:avLst>
              <a:gd name="adj" fmla="val 16667"/>
            </a:avLst>
          </a:prstGeom>
          <a:solidFill>
            <a:srgbClr val="cddd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Arial"/>
              </a:rPr>
              <a:t>95% от того, чему они обучают сами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1"/>
          <p:cNvSpPr/>
          <p:nvPr/>
        </p:nvSpPr>
        <p:spPr>
          <a:xfrm>
            <a:off x="1230480" y="-3240"/>
            <a:ext cx="8591400" cy="21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cc0000"/>
                </a:solidFill>
                <a:latin typeface="Tahoma"/>
              </a:rPr>
              <a:t>Основные варианты организации обучения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cc0000"/>
                </a:solidFill>
                <a:latin typeface="Tahoma"/>
              </a:rPr>
              <a:t>в сотрудничестве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Text Box 2"/>
          <p:cNvSpPr/>
          <p:nvPr/>
        </p:nvSpPr>
        <p:spPr>
          <a:xfrm>
            <a:off x="1303200" y="2224080"/>
            <a:ext cx="8569440" cy="58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marL="363600" indent="-363600">
              <a:lnSpc>
                <a:spcPct val="100000"/>
              </a:lnSpc>
              <a:spcBef>
                <a:spcPts val="774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63600"/>
                <a:tab algn="l" pos="811080"/>
                <a:tab algn="l" pos="1260360"/>
                <a:tab algn="l" pos="1709640"/>
                <a:tab algn="l" pos="2158920"/>
                <a:tab algn="l" pos="2608200"/>
                <a:tab algn="l" pos="3057480"/>
                <a:tab algn="l" pos="3506760"/>
                <a:tab algn="l" pos="3956040"/>
                <a:tab algn="l" pos="4405320"/>
                <a:tab algn="l" pos="4854600"/>
                <a:tab algn="l" pos="5303880"/>
                <a:tab algn="l" pos="5753160"/>
                <a:tab algn="l" pos="6202440"/>
                <a:tab algn="l" pos="6651720"/>
                <a:tab algn="l" pos="7101000"/>
                <a:tab algn="l" pos="7550280"/>
                <a:tab algn="l" pos="7999560"/>
                <a:tab algn="l" pos="8448840"/>
                <a:tab algn="l" pos="8897760"/>
                <a:tab algn="l" pos="9347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100" spc="-1" strike="noStrike">
                <a:solidFill>
                  <a:srgbClr val="000000"/>
                </a:solidFill>
                <a:latin typeface="Tahoma"/>
              </a:rPr>
              <a:t>«</a:t>
            </a:r>
            <a:r>
              <a:rPr b="1" i="1" lang="ru-RU" sz="3100" spc="-1" strike="noStrike">
                <a:solidFill>
                  <a:srgbClr val="3333cc"/>
                </a:solidFill>
                <a:latin typeface="Tahoma"/>
              </a:rPr>
              <a:t>Обучение в команде</a:t>
            </a:r>
            <a:r>
              <a:rPr b="1" i="1" lang="ru-RU" sz="3100" spc="-1" strike="noStrike">
                <a:solidFill>
                  <a:srgbClr val="000000"/>
                </a:solidFill>
                <a:latin typeface="Tahoma"/>
              </a:rPr>
              <a:t>» - </a:t>
            </a:r>
            <a:r>
              <a:rPr b="1" i="1" lang="en-US" sz="3100" spc="-1" strike="noStrike">
                <a:solidFill>
                  <a:srgbClr val="000000"/>
                </a:solidFill>
                <a:latin typeface="Tahoma"/>
              </a:rPr>
              <a:t>STL (Student Team Learning)</a:t>
            </a:r>
            <a:r>
              <a:rPr b="1" i="1" lang="ru-RU" sz="31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63600" indent="-363600">
              <a:lnSpc>
                <a:spcPct val="100000"/>
              </a:lnSpc>
              <a:spcBef>
                <a:spcPts val="774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63600"/>
                <a:tab algn="l" pos="811080"/>
                <a:tab algn="l" pos="1260360"/>
                <a:tab algn="l" pos="1709640"/>
                <a:tab algn="l" pos="2158920"/>
                <a:tab algn="l" pos="2608200"/>
                <a:tab algn="l" pos="3057480"/>
                <a:tab algn="l" pos="3506760"/>
                <a:tab algn="l" pos="3956040"/>
                <a:tab algn="l" pos="4405320"/>
                <a:tab algn="l" pos="4854600"/>
                <a:tab algn="l" pos="5303880"/>
                <a:tab algn="l" pos="5753160"/>
                <a:tab algn="l" pos="6202440"/>
                <a:tab algn="l" pos="6651720"/>
                <a:tab algn="l" pos="7101000"/>
                <a:tab algn="l" pos="7550280"/>
                <a:tab algn="l" pos="7999560"/>
                <a:tab algn="l" pos="8448840"/>
                <a:tab algn="l" pos="8897760"/>
                <a:tab algn="l" pos="9347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100" spc="-1" strike="noStrike">
                <a:solidFill>
                  <a:srgbClr val="000000"/>
                </a:solidFill>
                <a:latin typeface="Tahoma"/>
              </a:rPr>
              <a:t>«</a:t>
            </a:r>
            <a:r>
              <a:rPr b="1" i="1" lang="ru-RU" sz="3100" spc="-1" strike="noStrike">
                <a:solidFill>
                  <a:srgbClr val="3333cc"/>
                </a:solidFill>
                <a:latin typeface="Tahoma"/>
              </a:rPr>
              <a:t>Ажурная пила</a:t>
            </a:r>
            <a:r>
              <a:rPr b="1" i="1" lang="ru-RU" sz="3100" spc="-1" strike="noStrike">
                <a:solidFill>
                  <a:srgbClr val="000000"/>
                </a:solidFill>
                <a:latin typeface="Tahoma"/>
              </a:rPr>
              <a:t>» - </a:t>
            </a:r>
            <a:r>
              <a:rPr b="1" i="1" lang="en-US" sz="3100" spc="-1" strike="noStrike">
                <a:solidFill>
                  <a:srgbClr val="000000"/>
                </a:solidFill>
                <a:latin typeface="Tahoma"/>
              </a:rPr>
              <a:t>Jigsaw</a:t>
            </a:r>
            <a:r>
              <a:rPr b="1" i="1" lang="ru-RU" sz="3100" spc="-1" strike="noStrike">
                <a:solidFill>
                  <a:srgbClr val="000000"/>
                </a:solidFill>
                <a:latin typeface="Tahoma"/>
              </a:rPr>
              <a:t> – разработана Э. Аронсоном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63600" indent="-363600">
              <a:lnSpc>
                <a:spcPct val="100000"/>
              </a:lnSpc>
              <a:spcBef>
                <a:spcPts val="774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63600"/>
                <a:tab algn="l" pos="811080"/>
                <a:tab algn="l" pos="1260360"/>
                <a:tab algn="l" pos="1709640"/>
                <a:tab algn="l" pos="2158920"/>
                <a:tab algn="l" pos="2608200"/>
                <a:tab algn="l" pos="3057480"/>
                <a:tab algn="l" pos="3506760"/>
                <a:tab algn="l" pos="3956040"/>
                <a:tab algn="l" pos="4405320"/>
                <a:tab algn="l" pos="4854600"/>
                <a:tab algn="l" pos="5303880"/>
                <a:tab algn="l" pos="5753160"/>
                <a:tab algn="l" pos="6202440"/>
                <a:tab algn="l" pos="6651720"/>
                <a:tab algn="l" pos="7101000"/>
                <a:tab algn="l" pos="7550280"/>
                <a:tab algn="l" pos="7999560"/>
                <a:tab algn="l" pos="8448840"/>
                <a:tab algn="l" pos="8897760"/>
                <a:tab algn="l" pos="9347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100" spc="-1" strike="noStrike">
                <a:solidFill>
                  <a:srgbClr val="333399"/>
                </a:solidFill>
                <a:latin typeface="Tahoma"/>
              </a:rPr>
              <a:t>«</a:t>
            </a:r>
            <a:r>
              <a:rPr b="1" i="1" lang="ru-RU" sz="3100" spc="-1" strike="noStrike">
                <a:solidFill>
                  <a:srgbClr val="3333cc"/>
                </a:solidFill>
                <a:latin typeface="Tahoma"/>
              </a:rPr>
              <a:t>Учимся вместе</a:t>
            </a:r>
            <a:r>
              <a:rPr b="1" i="1" lang="ru-RU" sz="3100" spc="-1" strike="noStrike">
                <a:solidFill>
                  <a:srgbClr val="333399"/>
                </a:solidFill>
                <a:latin typeface="Tahoma"/>
              </a:rPr>
              <a:t>» - </a:t>
            </a:r>
            <a:r>
              <a:rPr b="1" i="1" lang="en-US" sz="3100" spc="-1" strike="noStrike">
                <a:solidFill>
                  <a:srgbClr val="000000"/>
                </a:solidFill>
                <a:latin typeface="Tahoma"/>
              </a:rPr>
              <a:t>Learning</a:t>
            </a:r>
            <a:r>
              <a:rPr b="1" i="1" lang="ru-RU" sz="31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3100" spc="-1" strike="noStrike">
                <a:solidFill>
                  <a:srgbClr val="000000"/>
                </a:solidFill>
                <a:latin typeface="Tahoma"/>
              </a:rPr>
              <a:t>Together</a:t>
            </a:r>
            <a:r>
              <a:rPr b="1" i="1" lang="ru-RU" sz="3100" spc="-1" strike="noStrike">
                <a:solidFill>
                  <a:srgbClr val="000000"/>
                </a:solidFill>
                <a:latin typeface="Tahoma"/>
              </a:rPr>
              <a:t> -</a:t>
            </a:r>
            <a:r>
              <a:rPr b="0" lang="ru-RU" sz="31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ru-RU" sz="3100" spc="-1" strike="noStrike">
                <a:solidFill>
                  <a:srgbClr val="000000"/>
                </a:solidFill>
                <a:latin typeface="Tahoma"/>
              </a:rPr>
              <a:t>(университет штата Миннесота)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63600" indent="-363600">
              <a:lnSpc>
                <a:spcPct val="100000"/>
              </a:lnSpc>
              <a:spcBef>
                <a:spcPts val="774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63600"/>
                <a:tab algn="l" pos="811080"/>
                <a:tab algn="l" pos="1260360"/>
                <a:tab algn="l" pos="1709640"/>
                <a:tab algn="l" pos="2158920"/>
                <a:tab algn="l" pos="2608200"/>
                <a:tab algn="l" pos="3057480"/>
                <a:tab algn="l" pos="3506760"/>
                <a:tab algn="l" pos="3956040"/>
                <a:tab algn="l" pos="4405320"/>
                <a:tab algn="l" pos="4854600"/>
                <a:tab algn="l" pos="5303880"/>
                <a:tab algn="l" pos="5753160"/>
                <a:tab algn="l" pos="6202440"/>
                <a:tab algn="l" pos="6651720"/>
                <a:tab algn="l" pos="7101000"/>
                <a:tab algn="l" pos="7550280"/>
                <a:tab algn="l" pos="7999560"/>
                <a:tab algn="l" pos="8448840"/>
                <a:tab algn="l" pos="8897760"/>
                <a:tab algn="l" pos="9347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100" spc="-1" strike="noStrike">
                <a:solidFill>
                  <a:srgbClr val="3333cc"/>
                </a:solidFill>
                <a:latin typeface="Tahoma"/>
              </a:rPr>
              <a:t>«Исследовательская работа</a:t>
            </a:r>
            <a:r>
              <a:rPr b="1" i="1" lang="ru-RU" sz="3500" spc="-1" strike="noStrike">
                <a:solidFill>
                  <a:srgbClr val="333399"/>
                </a:solidFill>
                <a:latin typeface="Tahoma"/>
              </a:rPr>
              <a:t>» </a:t>
            </a:r>
            <a:r>
              <a:rPr b="1" i="1" lang="ru-RU" sz="3100" spc="-1" strike="noStrike">
                <a:solidFill>
                  <a:srgbClr val="000000"/>
                </a:solidFill>
                <a:latin typeface="Tahoma"/>
              </a:rPr>
              <a:t>учащихся в группах (Шломо Шаран, Израиль)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63600" indent="-363600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363600"/>
                <a:tab algn="l" pos="811080"/>
                <a:tab algn="l" pos="1260360"/>
                <a:tab algn="l" pos="1709640"/>
                <a:tab algn="l" pos="2158920"/>
                <a:tab algn="l" pos="2608200"/>
                <a:tab algn="l" pos="3057480"/>
                <a:tab algn="l" pos="3506760"/>
                <a:tab algn="l" pos="3956040"/>
                <a:tab algn="l" pos="4405320"/>
                <a:tab algn="l" pos="4854600"/>
                <a:tab algn="l" pos="5303880"/>
                <a:tab algn="l" pos="5753160"/>
                <a:tab algn="l" pos="6202440"/>
                <a:tab algn="l" pos="6651720"/>
                <a:tab algn="l" pos="7101000"/>
                <a:tab algn="l" pos="7550280"/>
                <a:tab algn="l" pos="7999560"/>
                <a:tab algn="l" pos="8448840"/>
                <a:tab algn="l" pos="8897760"/>
                <a:tab algn="l" pos="93470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63600" indent="-363600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363600"/>
                <a:tab algn="l" pos="811080"/>
                <a:tab algn="l" pos="1260360"/>
                <a:tab algn="l" pos="1709640"/>
                <a:tab algn="l" pos="2158920"/>
                <a:tab algn="l" pos="2608200"/>
                <a:tab algn="l" pos="3057480"/>
                <a:tab algn="l" pos="3506760"/>
                <a:tab algn="l" pos="3956040"/>
                <a:tab algn="l" pos="4405320"/>
                <a:tab algn="l" pos="4854600"/>
                <a:tab algn="l" pos="5303880"/>
                <a:tab algn="l" pos="5753160"/>
                <a:tab algn="l" pos="6202440"/>
                <a:tab algn="l" pos="6651720"/>
                <a:tab algn="l" pos="7101000"/>
                <a:tab algn="l" pos="7550280"/>
                <a:tab algn="l" pos="7999560"/>
                <a:tab algn="l" pos="8448840"/>
                <a:tab algn="l" pos="8897760"/>
                <a:tab algn="l" pos="93470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1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1"/>
          <p:cNvSpPr/>
          <p:nvPr/>
        </p:nvSpPr>
        <p:spPr>
          <a:xfrm>
            <a:off x="504720" y="423720"/>
            <a:ext cx="9072720" cy="7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666699"/>
                </a:solidFill>
                <a:latin typeface="Arial"/>
              </a:rPr>
              <a:t>1. Обучение в команд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Text Box 2"/>
          <p:cNvSpPr/>
          <p:nvPr/>
        </p:nvSpPr>
        <p:spPr>
          <a:xfrm>
            <a:off x="198360" y="1081080"/>
            <a:ext cx="9684000" cy="619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marL="365040" indent="-363600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65040" indent="-363600">
              <a:lnSpc>
                <a:spcPct val="80000"/>
              </a:lnSpc>
              <a:spcBef>
                <a:spcPts val="774"/>
              </a:spcBef>
              <a:buClr>
                <a:srgbClr val="00007d"/>
              </a:buClr>
              <a:buFont typeface="Wingdings" charset="2"/>
              <a:buChar char=""/>
              <a:tabLst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Book Antiqua"/>
              </a:rPr>
              <a:t>Делим класс на разноуровневые группы из 4-х учащихся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65040" indent="-363600">
              <a:lnSpc>
                <a:spcPct val="80000"/>
              </a:lnSpc>
              <a:spcBef>
                <a:spcPts val="774"/>
              </a:spcBef>
              <a:buClr>
                <a:srgbClr val="00007d"/>
              </a:buClr>
              <a:buFont typeface="Wingdings" charset="2"/>
              <a:buChar char=""/>
              <a:tabLst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Book Antiqua"/>
              </a:rPr>
              <a:t>Группа получает задание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65040" indent="-363600">
              <a:lnSpc>
                <a:spcPct val="80000"/>
              </a:lnSpc>
              <a:spcBef>
                <a:spcPts val="774"/>
              </a:spcBef>
              <a:buClr>
                <a:srgbClr val="00007d"/>
              </a:buClr>
              <a:buFont typeface="Wingdings" charset="2"/>
              <a:buChar char=""/>
              <a:tabLst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Book Antiqua"/>
              </a:rPr>
              <a:t>Задание распределяют на каждого по частям, либо выполняют по «вертушке»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65040" indent="-363600">
              <a:lnSpc>
                <a:spcPct val="80000"/>
              </a:lnSpc>
              <a:spcBef>
                <a:spcPts val="774"/>
              </a:spcBef>
              <a:buClr>
                <a:srgbClr val="00007d"/>
              </a:buClr>
              <a:buFont typeface="Wingdings" charset="2"/>
              <a:buChar char=""/>
              <a:tabLst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Book Antiqua"/>
              </a:rPr>
              <a:t>Задание объясняется вслух учеником и контро-лируется всей группой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65040" indent="-363600">
              <a:lnSpc>
                <a:spcPct val="80000"/>
              </a:lnSpc>
              <a:spcBef>
                <a:spcPts val="774"/>
              </a:spcBef>
              <a:buClr>
                <a:srgbClr val="00007d"/>
              </a:buClr>
              <a:buFont typeface="Wingdings" charset="2"/>
              <a:buChar char=""/>
              <a:tabLst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Book Antiqua"/>
              </a:rPr>
              <a:t>Общее обсуждение в классе или индивидуаль-ный тест на проверку и понимание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1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1"/>
          <p:cNvSpPr/>
          <p:nvPr/>
        </p:nvSpPr>
        <p:spPr>
          <a:xfrm>
            <a:off x="504720" y="503280"/>
            <a:ext cx="907272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666699"/>
                </a:solidFill>
                <a:latin typeface="Arial"/>
              </a:rPr>
              <a:t>2. «Ажурная пила»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Text Box 2"/>
          <p:cNvSpPr/>
          <p:nvPr/>
        </p:nvSpPr>
        <p:spPr>
          <a:xfrm>
            <a:off x="331920" y="1398600"/>
            <a:ext cx="9416880" cy="57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marL="363600" indent="-363600">
              <a:lnSpc>
                <a:spcPct val="80000"/>
              </a:lnSpc>
              <a:spcBef>
                <a:spcPts val="663"/>
              </a:spcBef>
              <a:buClr>
                <a:srgbClr val="00007d"/>
              </a:buClr>
              <a:buFont typeface="Wingdings" charset="2"/>
              <a:buChar char=""/>
              <a:tabLst>
                <a:tab algn="l" pos="363600"/>
                <a:tab algn="l" pos="811080"/>
                <a:tab algn="l" pos="1260360"/>
                <a:tab algn="l" pos="1709640"/>
                <a:tab algn="l" pos="2158920"/>
                <a:tab algn="l" pos="2608200"/>
                <a:tab algn="l" pos="3057480"/>
                <a:tab algn="l" pos="3506760"/>
                <a:tab algn="l" pos="3956040"/>
                <a:tab algn="l" pos="4405320"/>
                <a:tab algn="l" pos="4854600"/>
                <a:tab algn="l" pos="5303880"/>
                <a:tab algn="l" pos="5753160"/>
                <a:tab algn="l" pos="6202440"/>
                <a:tab algn="l" pos="6651720"/>
                <a:tab algn="l" pos="7101000"/>
                <a:tab algn="l" pos="7550280"/>
                <a:tab algn="l" pos="7999560"/>
                <a:tab algn="l" pos="8448840"/>
                <a:tab algn="l" pos="8897760"/>
                <a:tab algn="l" pos="934704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Book Antiqua"/>
              </a:rPr>
              <a:t>Материал делим на логические или смысловые части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63600" indent="-363600">
              <a:lnSpc>
                <a:spcPct val="80000"/>
              </a:lnSpc>
              <a:spcBef>
                <a:spcPts val="663"/>
              </a:spcBef>
              <a:buClr>
                <a:srgbClr val="00007d"/>
              </a:buClr>
              <a:buFont typeface="Wingdings" charset="2"/>
              <a:buChar char=""/>
              <a:tabLst>
                <a:tab algn="l" pos="363600"/>
                <a:tab algn="l" pos="811080"/>
                <a:tab algn="l" pos="1260360"/>
                <a:tab algn="l" pos="1709640"/>
                <a:tab algn="l" pos="2158920"/>
                <a:tab algn="l" pos="2608200"/>
                <a:tab algn="l" pos="3057480"/>
                <a:tab algn="l" pos="3506760"/>
                <a:tab algn="l" pos="3956040"/>
                <a:tab algn="l" pos="4405320"/>
                <a:tab algn="l" pos="4854600"/>
                <a:tab algn="l" pos="5303880"/>
                <a:tab algn="l" pos="5753160"/>
                <a:tab algn="l" pos="6202440"/>
                <a:tab algn="l" pos="6651720"/>
                <a:tab algn="l" pos="7101000"/>
                <a:tab algn="l" pos="7550280"/>
                <a:tab algn="l" pos="7999560"/>
                <a:tab algn="l" pos="8448840"/>
                <a:tab algn="l" pos="8897760"/>
                <a:tab algn="l" pos="934704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Book Antiqua"/>
              </a:rPr>
              <a:t>Каждый получает свою часть, изучает и становится «экспертом» по своему заданию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63600" indent="-363600">
              <a:lnSpc>
                <a:spcPct val="80000"/>
              </a:lnSpc>
              <a:spcBef>
                <a:spcPts val="663"/>
              </a:spcBef>
              <a:buClr>
                <a:srgbClr val="00007d"/>
              </a:buClr>
              <a:buFont typeface="Wingdings" charset="2"/>
              <a:buChar char=""/>
              <a:tabLst>
                <a:tab algn="l" pos="363600"/>
                <a:tab algn="l" pos="811080"/>
                <a:tab algn="l" pos="1260360"/>
                <a:tab algn="l" pos="1709640"/>
                <a:tab algn="l" pos="2158920"/>
                <a:tab algn="l" pos="2608200"/>
                <a:tab algn="l" pos="3057480"/>
                <a:tab algn="l" pos="3506760"/>
                <a:tab algn="l" pos="3956040"/>
                <a:tab algn="l" pos="4405320"/>
                <a:tab algn="l" pos="4854600"/>
                <a:tab algn="l" pos="5303880"/>
                <a:tab algn="l" pos="5753160"/>
                <a:tab algn="l" pos="6202440"/>
                <a:tab algn="l" pos="6651720"/>
                <a:tab algn="l" pos="7101000"/>
                <a:tab algn="l" pos="7550280"/>
                <a:tab algn="l" pos="7999560"/>
                <a:tab algn="l" pos="8448840"/>
                <a:tab algn="l" pos="8897760"/>
                <a:tab algn="l" pos="934704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Book Antiqua"/>
              </a:rPr>
              <a:t>«Встреча экспертов» из разных команд, но по одинаковому заданию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63600" indent="-363600">
              <a:lnSpc>
                <a:spcPct val="80000"/>
              </a:lnSpc>
              <a:spcBef>
                <a:spcPts val="663"/>
              </a:spcBef>
              <a:buClr>
                <a:srgbClr val="00007d"/>
              </a:buClr>
              <a:buFont typeface="Wingdings" charset="2"/>
              <a:buChar char=""/>
              <a:tabLst>
                <a:tab algn="l" pos="363600"/>
                <a:tab algn="l" pos="811080"/>
                <a:tab algn="l" pos="1260360"/>
                <a:tab algn="l" pos="1709640"/>
                <a:tab algn="l" pos="2158920"/>
                <a:tab algn="l" pos="2608200"/>
                <a:tab algn="l" pos="3057480"/>
                <a:tab algn="l" pos="3506760"/>
                <a:tab algn="l" pos="3956040"/>
                <a:tab algn="l" pos="4405320"/>
                <a:tab algn="l" pos="4854600"/>
                <a:tab algn="l" pos="5303880"/>
                <a:tab algn="l" pos="5753160"/>
                <a:tab algn="l" pos="6202440"/>
                <a:tab algn="l" pos="6651720"/>
                <a:tab algn="l" pos="7101000"/>
                <a:tab algn="l" pos="7550280"/>
                <a:tab algn="l" pos="7999560"/>
                <a:tab algn="l" pos="8448840"/>
                <a:tab algn="l" pos="8897760"/>
                <a:tab algn="l" pos="934704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Book Antiqua"/>
              </a:rPr>
              <a:t>Возвращение «экспертов» и обучение друг друга по всему материалу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63600" indent="-363600">
              <a:lnSpc>
                <a:spcPct val="80000"/>
              </a:lnSpc>
              <a:spcBef>
                <a:spcPts val="663"/>
              </a:spcBef>
              <a:buClr>
                <a:srgbClr val="00007d"/>
              </a:buClr>
              <a:buFont typeface="Wingdings" charset="2"/>
              <a:buChar char=""/>
              <a:tabLst>
                <a:tab algn="l" pos="363600"/>
                <a:tab algn="l" pos="811080"/>
                <a:tab algn="l" pos="1260360"/>
                <a:tab algn="l" pos="1709640"/>
                <a:tab algn="l" pos="2158920"/>
                <a:tab algn="l" pos="2608200"/>
                <a:tab algn="l" pos="3057480"/>
                <a:tab algn="l" pos="3506760"/>
                <a:tab algn="l" pos="3956040"/>
                <a:tab algn="l" pos="4405320"/>
                <a:tab algn="l" pos="4854600"/>
                <a:tab algn="l" pos="5303880"/>
                <a:tab algn="l" pos="5753160"/>
                <a:tab algn="l" pos="6202440"/>
                <a:tab algn="l" pos="6651720"/>
                <a:tab algn="l" pos="7101000"/>
                <a:tab algn="l" pos="7550280"/>
                <a:tab algn="l" pos="7999560"/>
                <a:tab algn="l" pos="8448840"/>
                <a:tab algn="l" pos="8897760"/>
                <a:tab algn="l" pos="934704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Book Antiqua"/>
              </a:rPr>
              <a:t>Отчитывается каждый и вся команда в целом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63600" indent="-363600">
              <a:lnSpc>
                <a:spcPct val="80000"/>
              </a:lnSpc>
              <a:spcBef>
                <a:spcPts val="663"/>
              </a:spcBef>
              <a:buClr>
                <a:srgbClr val="00007d"/>
              </a:buClr>
              <a:buFont typeface="Wingdings" charset="2"/>
              <a:buChar char=""/>
              <a:tabLst>
                <a:tab algn="l" pos="363600"/>
                <a:tab algn="l" pos="811080"/>
                <a:tab algn="l" pos="1260360"/>
                <a:tab algn="l" pos="1709640"/>
                <a:tab algn="l" pos="2158920"/>
                <a:tab algn="l" pos="2608200"/>
                <a:tab algn="l" pos="3057480"/>
                <a:tab algn="l" pos="3506760"/>
                <a:tab algn="l" pos="3956040"/>
                <a:tab algn="l" pos="4405320"/>
                <a:tab algn="l" pos="4854600"/>
                <a:tab algn="l" pos="5303880"/>
                <a:tab algn="l" pos="5753160"/>
                <a:tab algn="l" pos="6202440"/>
                <a:tab algn="l" pos="6651720"/>
                <a:tab algn="l" pos="7101000"/>
                <a:tab algn="l" pos="7550280"/>
                <a:tab algn="l" pos="7999560"/>
                <a:tab algn="l" pos="8448840"/>
                <a:tab algn="l" pos="8897760"/>
                <a:tab algn="l" pos="934704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Book Antiqua"/>
              </a:rPr>
              <a:t>Учитель может спросить одного по любому вопросу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63600" indent="-363600">
              <a:lnSpc>
                <a:spcPct val="80000"/>
              </a:lnSpc>
              <a:spcBef>
                <a:spcPts val="663"/>
              </a:spcBef>
              <a:buClr>
                <a:srgbClr val="00007d"/>
              </a:buClr>
              <a:buFont typeface="Wingdings" charset="2"/>
              <a:buChar char=""/>
              <a:tabLst>
                <a:tab algn="l" pos="363600"/>
                <a:tab algn="l" pos="811080"/>
                <a:tab algn="l" pos="1260360"/>
                <a:tab algn="l" pos="1709640"/>
                <a:tab algn="l" pos="2158920"/>
                <a:tab algn="l" pos="2608200"/>
                <a:tab algn="l" pos="3057480"/>
                <a:tab algn="l" pos="3506760"/>
                <a:tab algn="l" pos="3956040"/>
                <a:tab algn="l" pos="4405320"/>
                <a:tab algn="l" pos="4854600"/>
                <a:tab algn="l" pos="5303880"/>
                <a:tab algn="l" pos="5753160"/>
                <a:tab algn="l" pos="6202440"/>
                <a:tab algn="l" pos="6651720"/>
                <a:tab algn="l" pos="7101000"/>
                <a:tab algn="l" pos="7550280"/>
                <a:tab algn="l" pos="7999560"/>
                <a:tab algn="l" pos="8448840"/>
                <a:tab algn="l" pos="8897760"/>
                <a:tab algn="l" pos="934704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Book Antiqua"/>
              </a:rPr>
              <a:t>Оценка общая на группу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1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1"/>
          <p:cNvSpPr/>
          <p:nvPr/>
        </p:nvSpPr>
        <p:spPr>
          <a:xfrm>
            <a:off x="515880" y="525600"/>
            <a:ext cx="9072720" cy="7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666699"/>
                </a:solidFill>
                <a:latin typeface="Arial"/>
              </a:rPr>
              <a:t>3. «Учимся вместе»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2"/>
          <p:cNvSpPr/>
          <p:nvPr/>
        </p:nvSpPr>
        <p:spPr>
          <a:xfrm>
            <a:off x="331920" y="1319040"/>
            <a:ext cx="9416880" cy="595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marL="363600" indent="-363600">
              <a:lnSpc>
                <a:spcPct val="100000"/>
              </a:lnSpc>
              <a:spcBef>
                <a:spcPts val="887"/>
              </a:spcBef>
              <a:buClr>
                <a:srgbClr val="00007d"/>
              </a:buClr>
              <a:buFont typeface="Wingdings" charset="2"/>
              <a:buChar char=""/>
              <a:tabLst>
                <a:tab algn="l" pos="363600"/>
                <a:tab algn="l" pos="811080"/>
                <a:tab algn="l" pos="1260360"/>
                <a:tab algn="l" pos="1709640"/>
                <a:tab algn="l" pos="2158920"/>
                <a:tab algn="l" pos="2608200"/>
                <a:tab algn="l" pos="3057480"/>
                <a:tab algn="l" pos="3506760"/>
                <a:tab algn="l" pos="3956040"/>
                <a:tab algn="l" pos="4405320"/>
                <a:tab algn="l" pos="4854600"/>
                <a:tab algn="l" pos="5303880"/>
                <a:tab algn="l" pos="5753160"/>
                <a:tab algn="l" pos="6202440"/>
                <a:tab algn="l" pos="6651720"/>
                <a:tab algn="l" pos="7101000"/>
                <a:tab algn="l" pos="7550280"/>
                <a:tab algn="l" pos="7999560"/>
                <a:tab algn="l" pos="8448840"/>
                <a:tab algn="l" pos="8897760"/>
                <a:tab algn="l" pos="934704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Arial"/>
              </a:rPr>
              <a:t>Одно задание на группу, является подзаданием общей темы класса.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marL="363600" indent="-363600">
              <a:lnSpc>
                <a:spcPct val="100000"/>
              </a:lnSpc>
              <a:spcBef>
                <a:spcPts val="887"/>
              </a:spcBef>
              <a:buClr>
                <a:srgbClr val="00007d"/>
              </a:buClr>
              <a:buFont typeface="Wingdings" charset="2"/>
              <a:buChar char=""/>
              <a:tabLst>
                <a:tab algn="l" pos="363600"/>
                <a:tab algn="l" pos="811080"/>
                <a:tab algn="l" pos="1260360"/>
                <a:tab algn="l" pos="1709640"/>
                <a:tab algn="l" pos="2158920"/>
                <a:tab algn="l" pos="2608200"/>
                <a:tab algn="l" pos="3057480"/>
                <a:tab algn="l" pos="3506760"/>
                <a:tab algn="l" pos="3956040"/>
                <a:tab algn="l" pos="4405320"/>
                <a:tab algn="l" pos="4854600"/>
                <a:tab algn="l" pos="5303880"/>
                <a:tab algn="l" pos="5753160"/>
                <a:tab algn="l" pos="6202440"/>
                <a:tab algn="l" pos="6651720"/>
                <a:tab algn="l" pos="7101000"/>
                <a:tab algn="l" pos="7550280"/>
                <a:tab algn="l" pos="7999560"/>
                <a:tab algn="l" pos="8448840"/>
                <a:tab algn="l" pos="8897760"/>
                <a:tab algn="l" pos="934704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Arial"/>
              </a:rPr>
              <a:t>Внутри группы распределяются роли в выполнении задания.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marL="363600" indent="-363600">
              <a:lnSpc>
                <a:spcPct val="100000"/>
              </a:lnSpc>
              <a:spcBef>
                <a:spcPts val="887"/>
              </a:spcBef>
              <a:buClr>
                <a:srgbClr val="00007d"/>
              </a:buClr>
              <a:buFont typeface="Wingdings" charset="2"/>
              <a:buChar char=""/>
              <a:tabLst>
                <a:tab algn="l" pos="363600"/>
                <a:tab algn="l" pos="811080"/>
                <a:tab algn="l" pos="1260360"/>
                <a:tab algn="l" pos="1709640"/>
                <a:tab algn="l" pos="2158920"/>
                <a:tab algn="l" pos="2608200"/>
                <a:tab algn="l" pos="3057480"/>
                <a:tab algn="l" pos="3506760"/>
                <a:tab algn="l" pos="3956040"/>
                <a:tab algn="l" pos="4405320"/>
                <a:tab algn="l" pos="4854600"/>
                <a:tab algn="l" pos="5303880"/>
                <a:tab algn="l" pos="5753160"/>
                <a:tab algn="l" pos="6202440"/>
                <a:tab algn="l" pos="6651720"/>
                <a:tab algn="l" pos="7101000"/>
                <a:tab algn="l" pos="7550280"/>
                <a:tab algn="l" pos="7999560"/>
                <a:tab algn="l" pos="8448840"/>
                <a:tab algn="l" pos="8897760"/>
                <a:tab algn="l" pos="934704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Arial"/>
              </a:rPr>
              <a:t>В результате работы всех групп достигается усвоение всего материала. 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1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504720" y="503280"/>
            <a:ext cx="907272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666699"/>
                </a:solidFill>
                <a:latin typeface="Arial"/>
              </a:rPr>
              <a:t>4. Исследовательская работ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Text Box 2"/>
          <p:cNvSpPr/>
          <p:nvPr/>
        </p:nvSpPr>
        <p:spPr>
          <a:xfrm>
            <a:off x="331920" y="1477800"/>
            <a:ext cx="941688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marL="363600" indent="-363600">
              <a:lnSpc>
                <a:spcPct val="100000"/>
              </a:lnSpc>
              <a:spcBef>
                <a:spcPts val="887"/>
              </a:spcBef>
              <a:buClr>
                <a:srgbClr val="00007d"/>
              </a:buClr>
              <a:buFont typeface="Wingdings" charset="2"/>
              <a:buChar char=""/>
              <a:tabLst>
                <a:tab algn="l" pos="363600"/>
                <a:tab algn="l" pos="811080"/>
                <a:tab algn="l" pos="1260360"/>
                <a:tab algn="l" pos="1709640"/>
                <a:tab algn="l" pos="2158920"/>
                <a:tab algn="l" pos="2608200"/>
                <a:tab algn="l" pos="3057480"/>
                <a:tab algn="l" pos="3506760"/>
                <a:tab algn="l" pos="3956040"/>
                <a:tab algn="l" pos="4405320"/>
                <a:tab algn="l" pos="4854600"/>
                <a:tab algn="l" pos="5303880"/>
                <a:tab algn="l" pos="5753160"/>
                <a:tab algn="l" pos="6202440"/>
                <a:tab algn="l" pos="6651720"/>
                <a:tab algn="l" pos="7101000"/>
                <a:tab algn="l" pos="7550280"/>
                <a:tab algn="l" pos="7999560"/>
                <a:tab algn="l" pos="8448840"/>
                <a:tab algn="l" pos="8897760"/>
                <a:tab algn="l" pos="934704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Book Antiqua"/>
              </a:rPr>
              <a:t>Группы по 6 человек.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marL="363600" indent="-363600">
              <a:lnSpc>
                <a:spcPct val="100000"/>
              </a:lnSpc>
              <a:spcBef>
                <a:spcPts val="887"/>
              </a:spcBef>
              <a:buClr>
                <a:srgbClr val="00007d"/>
              </a:buClr>
              <a:buFont typeface="Wingdings" charset="2"/>
              <a:buChar char=""/>
              <a:tabLst>
                <a:tab algn="l" pos="363600"/>
                <a:tab algn="l" pos="811080"/>
                <a:tab algn="l" pos="1260360"/>
                <a:tab algn="l" pos="1709640"/>
                <a:tab algn="l" pos="2158920"/>
                <a:tab algn="l" pos="2608200"/>
                <a:tab algn="l" pos="3057480"/>
                <a:tab algn="l" pos="3506760"/>
                <a:tab algn="l" pos="3956040"/>
                <a:tab algn="l" pos="4405320"/>
                <a:tab algn="l" pos="4854600"/>
                <a:tab algn="l" pos="5303880"/>
                <a:tab algn="l" pos="5753160"/>
                <a:tab algn="l" pos="6202440"/>
                <a:tab algn="l" pos="6651720"/>
                <a:tab algn="l" pos="7101000"/>
                <a:tab algn="l" pos="7550280"/>
                <a:tab algn="l" pos="7999560"/>
                <a:tab algn="l" pos="8448840"/>
                <a:tab algn="l" pos="8897760"/>
                <a:tab algn="l" pos="934704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Book Antiqua"/>
              </a:rPr>
              <a:t>Подтема на группу.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marL="363600" indent="-363600">
              <a:lnSpc>
                <a:spcPct val="100000"/>
              </a:lnSpc>
              <a:spcBef>
                <a:spcPts val="887"/>
              </a:spcBef>
              <a:buClr>
                <a:srgbClr val="00007d"/>
              </a:buClr>
              <a:buFont typeface="Wingdings" charset="2"/>
              <a:buChar char=""/>
              <a:tabLst>
                <a:tab algn="l" pos="363600"/>
                <a:tab algn="l" pos="811080"/>
                <a:tab algn="l" pos="1260360"/>
                <a:tab algn="l" pos="1709640"/>
                <a:tab algn="l" pos="2158920"/>
                <a:tab algn="l" pos="2608200"/>
                <a:tab algn="l" pos="3057480"/>
                <a:tab algn="l" pos="3506760"/>
                <a:tab algn="l" pos="3956040"/>
                <a:tab algn="l" pos="4405320"/>
                <a:tab algn="l" pos="4854600"/>
                <a:tab algn="l" pos="5303880"/>
                <a:tab algn="l" pos="5753160"/>
                <a:tab algn="l" pos="6202440"/>
                <a:tab algn="l" pos="6651720"/>
                <a:tab algn="l" pos="7101000"/>
                <a:tab algn="l" pos="7550280"/>
                <a:tab algn="l" pos="7999560"/>
                <a:tab algn="l" pos="8448840"/>
                <a:tab algn="l" pos="8897760"/>
                <a:tab algn="l" pos="934704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Book Antiqua"/>
              </a:rPr>
              <a:t>В группе - отдельные задания каждому.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marL="363600" indent="-363600">
              <a:lnSpc>
                <a:spcPct val="100000"/>
              </a:lnSpc>
              <a:spcBef>
                <a:spcPts val="887"/>
              </a:spcBef>
              <a:buClr>
                <a:srgbClr val="00007d"/>
              </a:buClr>
              <a:buFont typeface="Wingdings" charset="2"/>
              <a:buChar char=""/>
              <a:tabLst>
                <a:tab algn="l" pos="363600"/>
                <a:tab algn="l" pos="811080"/>
                <a:tab algn="l" pos="1260360"/>
                <a:tab algn="l" pos="1709640"/>
                <a:tab algn="l" pos="2158920"/>
                <a:tab algn="l" pos="2608200"/>
                <a:tab algn="l" pos="3057480"/>
                <a:tab algn="l" pos="3506760"/>
                <a:tab algn="l" pos="3956040"/>
                <a:tab algn="l" pos="4405320"/>
                <a:tab algn="l" pos="4854600"/>
                <a:tab algn="l" pos="5303880"/>
                <a:tab algn="l" pos="5753160"/>
                <a:tab algn="l" pos="6202440"/>
                <a:tab algn="l" pos="6651720"/>
                <a:tab algn="l" pos="7101000"/>
                <a:tab algn="l" pos="7550280"/>
                <a:tab algn="l" pos="7999560"/>
                <a:tab algn="l" pos="8448840"/>
                <a:tab algn="l" pos="8897760"/>
                <a:tab algn="l" pos="934704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Book Antiqua"/>
              </a:rPr>
              <a:t>Индивидуальная самостоятельная работа каждого.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marL="363600" indent="-363600">
              <a:lnSpc>
                <a:spcPct val="100000"/>
              </a:lnSpc>
              <a:spcBef>
                <a:spcPts val="887"/>
              </a:spcBef>
              <a:buClr>
                <a:srgbClr val="00007d"/>
              </a:buClr>
              <a:buFont typeface="Wingdings" charset="2"/>
              <a:buChar char=""/>
              <a:tabLst>
                <a:tab algn="l" pos="363600"/>
                <a:tab algn="l" pos="811080"/>
                <a:tab algn="l" pos="1260360"/>
                <a:tab algn="l" pos="1709640"/>
                <a:tab algn="l" pos="2158920"/>
                <a:tab algn="l" pos="2608200"/>
                <a:tab algn="l" pos="3057480"/>
                <a:tab algn="l" pos="3506760"/>
                <a:tab algn="l" pos="3956040"/>
                <a:tab algn="l" pos="4405320"/>
                <a:tab algn="l" pos="4854600"/>
                <a:tab algn="l" pos="5303880"/>
                <a:tab algn="l" pos="5753160"/>
                <a:tab algn="l" pos="6202440"/>
                <a:tab algn="l" pos="6651720"/>
                <a:tab algn="l" pos="7101000"/>
                <a:tab algn="l" pos="7550280"/>
                <a:tab algn="l" pos="7999560"/>
                <a:tab algn="l" pos="8448840"/>
                <a:tab algn="l" pos="8897760"/>
                <a:tab algn="l" pos="934704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Book Antiqua"/>
              </a:rPr>
              <a:t>Дискуссия в группах. Составление едино-го доклада.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marL="363600" indent="-363600">
              <a:lnSpc>
                <a:spcPct val="100000"/>
              </a:lnSpc>
              <a:spcBef>
                <a:spcPts val="774"/>
              </a:spcBef>
              <a:buClr>
                <a:srgbClr val="00007d"/>
              </a:buClr>
              <a:buFont typeface="Wingdings" charset="2"/>
              <a:buChar char=""/>
              <a:tabLst>
                <a:tab algn="l" pos="363600"/>
                <a:tab algn="l" pos="811080"/>
                <a:tab algn="l" pos="1260360"/>
                <a:tab algn="l" pos="1709640"/>
                <a:tab algn="l" pos="2158920"/>
                <a:tab algn="l" pos="2608200"/>
                <a:tab algn="l" pos="3057480"/>
                <a:tab algn="l" pos="3506760"/>
                <a:tab algn="l" pos="3956040"/>
                <a:tab algn="l" pos="4405320"/>
                <a:tab algn="l" pos="4854600"/>
                <a:tab algn="l" pos="5303880"/>
                <a:tab algn="l" pos="5753160"/>
                <a:tab algn="l" pos="6202440"/>
                <a:tab algn="l" pos="6651720"/>
                <a:tab algn="l" pos="7101000"/>
                <a:tab algn="l" pos="7550280"/>
                <a:tab algn="l" pos="7999560"/>
                <a:tab algn="l" pos="8448840"/>
                <a:tab algn="l" pos="8897760"/>
                <a:tab algn="l" pos="934704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Book Antiqua"/>
              </a:rPr>
              <a:t>Презентация доклада перед всем классом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1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30T09:45:24Z</dcterms:created>
  <dc:creator/>
  <dc:description/>
  <dc:language>en-US</dc:language>
  <cp:lastModifiedBy>Home</cp:lastModifiedBy>
  <dcterms:modified xsi:type="dcterms:W3CDTF">2020-05-18T00:28:36Z</dcterms:modified>
  <cp:revision>29</cp:revision>
  <dc:subject/>
  <dc:title>Слайд 1</dc:title>
</cp:coreProperties>
</file>