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2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.png" ContentType="image/png"/>
  <Override PartName="/ppt/media/image11.png" ContentType="image/png"/>
  <Override PartName="/ppt/media/image9.jpeg" ContentType="image/jpeg"/>
  <Override PartName="/ppt/media/image20.png" ContentType="image/png"/>
  <Override PartName="/ppt/media/image36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4503-CAD7-4565-8D04-F9A10A21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9514-EF5D-4915-A733-ABF1891D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D079-07CB-4630-A247-0F797C97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CF70-F307-419D-A88D-3161F867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145-073B-4C32-AD3B-1EC81343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523-E7CD-4D03-AF86-F18B8806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DA7-DF02-4911-8F72-7853365A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B4D6-D447-44D2-BB73-8166624F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F46-077D-46B8-82B7-38E027AF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40E-E225-4910-9872-6B4D3439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C120-DF94-475A-A28E-A6DB0599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5D19-E67A-496A-A002-5A10FAAB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fe"/>
            </a:gs>
            <a:gs pos="50000">
              <a:srgbClr val="ebf6f7"/>
            </a:gs>
            <a:gs pos="100000">
              <a:srgbClr val="fc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66E5-0DB8-4FD0-83C8-757C2C06E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audio" Target="file:///tmp/home/.config/libreoffice/4/user/gallery/&#1050;&#1088;&#1072;&#1089;&#1085;&#1072;&#1103;%20&#1089;&#1090;&#1088;&#1072;&#1085;&#1080;&#1094;&#1072;.wav" TargetMode="External"/><Relationship Id="rId6" Type="http://schemas.microsoft.com/office/2007/relationships/media" Target="file:///tmp/home/.config/libreoffice/4/user/gallery/&#1050;&#1088;&#1072;&#1089;&#1085;&#1072;&#1103;%20&#1089;&#1090;&#1088;&#1072;&#1085;&#1080;&#1094;&#1072;.wav" TargetMode="External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audio" Target="file:///tmp/home/.config/libreoffice/4/user/gallery/22.wav" TargetMode="External"/><Relationship Id="rId5" Type="http://schemas.microsoft.com/office/2007/relationships/media" Target="file:///tmp/home/.config/libreoffice/4/user/gallery/22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audio" Target="file:///tmp/home/.config/libreoffice/4/user/gallery/144.wav" TargetMode="External"/><Relationship Id="rId4" Type="http://schemas.microsoft.com/office/2007/relationships/media" Target="file:///tmp/home/.config/libreoffice/4/user/gallery/144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audio" Target="file:///tmp/home/.config/libreoffice/4/user/gallery/2.wav" TargetMode="External"/><Relationship Id="rId4" Type="http://schemas.microsoft.com/office/2007/relationships/media" Target="file:///tmp/home/.config/libreoffice/4/user/gallery/2.wav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audio" Target="file:///tmp/home/.config/libreoffice/4/user/gallery/3.wav" TargetMode="External"/><Relationship Id="rId6" Type="http://schemas.microsoft.com/office/2007/relationships/media" Target="file:///tmp/home/.config/libreoffice/4/user/gallery/3.wav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file:///tmp/home/.config/libreoffice/4/user/gallery/4.wav" TargetMode="External"/><Relationship Id="rId5" Type="http://schemas.microsoft.com/office/2007/relationships/media" Target="file:///tmp/home/.config/libreoffice/4/user/gallery/4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audio" Target="file:///tmp/home/.config/libreoffice/4/user/gallery/5.wav" TargetMode="External"/><Relationship Id="rId4" Type="http://schemas.microsoft.com/office/2007/relationships/media" Target="file:///tmp/home/.config/libreoffice/4/user/gallery/5.wav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file:///tmp/home/.config/libreoffice/4/user/gallery/6.wav" TargetMode="External"/><Relationship Id="rId4" Type="http://schemas.microsoft.com/office/2007/relationships/media" Target="file:///tmp/home/.config/libreoffice/4/user/gallery/6.wav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audio" Target="file:///tmp/home/.config/libreoffice/4/user/gallery/7.wav" TargetMode="External"/><Relationship Id="rId4" Type="http://schemas.microsoft.com/office/2007/relationships/media" Target="file:///tmp/home/.config/libreoffice/4/user/gallery/7.wav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audio" Target="file:///tmp/home/.config/libreoffice/4/user/gallery/12.wav" TargetMode="External"/><Relationship Id="rId6" Type="http://schemas.microsoft.com/office/2007/relationships/media" Target="file:///tmp/home/.config/libreoffice/4/user/gallery/12.wav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audio" Target="file:///tmp/home/.config/libreoffice/4/user/gallery/14.wav" TargetMode="External"/><Relationship Id="rId4" Type="http://schemas.microsoft.com/office/2007/relationships/media" Target="file:///tmp/home/.config/libreoffice/4/user/gallery/14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2920" y="1557000"/>
            <a:ext cx="5542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Ц</a:t>
            </a: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1" lang="en-US" sz="9600" spc="-1" strike="noStrike">
                <a:solidFill>
                  <a:srgbClr val="66ccff"/>
                </a:solidFill>
                <a:latin typeface="Arial"/>
              </a:rPr>
              <a:t>Е</a:t>
            </a:r>
            <a:r>
              <a:rPr b="1" lang="en-US" sz="9600" spc="-1" strike="noStrike">
                <a:solidFill>
                  <a:srgbClr val="3333ff"/>
                </a:solidFill>
                <a:latin typeface="Arial"/>
              </a:rPr>
              <a:t>Т</a:t>
            </a:r>
            <a:r>
              <a:rPr b="1" lang="en-US" sz="9600" spc="-1" strike="noStrike">
                <a:solidFill>
                  <a:srgbClr val="00ff00"/>
                </a:solidFill>
                <a:latin typeface="Arial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3933720"/>
            <a:ext cx="1800000" cy="13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4076640"/>
            <a:ext cx="2089080" cy="1584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4292640"/>
            <a:ext cx="208908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4581360"/>
            <a:ext cx="2089080" cy="1584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4221000"/>
            <a:ext cx="2089080" cy="15843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3645000"/>
            <a:ext cx="2089080" cy="158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77080" y="260280"/>
            <a:ext cx="1803240" cy="1798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00360" y="3860640"/>
            <a:ext cx="2089080" cy="158436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86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ЕЛ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нег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м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едв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1628640" cy="218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32000" y="4365720"/>
            <a:ext cx="2089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443640" y="1700280"/>
            <a:ext cx="2144880" cy="2187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940360" y="443700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851280" y="3789360"/>
            <a:ext cx="2389320" cy="1349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10108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66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666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0795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9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КОРИЧНЕ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Коричнев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Коричнев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едв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Коричнев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шляпка у белого гри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2911320" cy="2186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332000" y="4365720"/>
            <a:ext cx="2089080" cy="1584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372360" y="4508640"/>
            <a:ext cx="2458800" cy="1844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211640" y="3716280"/>
            <a:ext cx="2592360" cy="1865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75640" y="6453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63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7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СЕР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Сер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ж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Сер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651640" y="1484280"/>
            <a:ext cx="2849400" cy="2881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55640" y="3429000"/>
            <a:ext cx="2089080" cy="158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419640" y="4149720"/>
            <a:ext cx="2392200" cy="2187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537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КРАС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мид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расн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жарная маш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раб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300720" y="3500280"/>
            <a:ext cx="2349720" cy="2186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4076640"/>
            <a:ext cx="1800360" cy="13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419640" y="3933720"/>
            <a:ext cx="2665080" cy="1995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95672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572000" y="1268280"/>
            <a:ext cx="4038480" cy="2113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85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185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53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ОРАНЖЕ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Оранжев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апель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Оранжев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анда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Рыжа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Рыжа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б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67640" y="1197000"/>
            <a:ext cx="981000" cy="102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71640" y="4797360"/>
            <a:ext cx="2089080" cy="1584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708360" y="1700280"/>
            <a:ext cx="3960720" cy="2568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732720" y="4724280"/>
            <a:ext cx="1904760" cy="1648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635280" y="458136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544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6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708360" y="2997360"/>
            <a:ext cx="2524320" cy="25174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ЖЕЛТ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Желт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им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Желт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вет лам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Желт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Желт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148360" y="1125360"/>
            <a:ext cx="3571920" cy="218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42920" y="4365720"/>
            <a:ext cx="208908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372360" y="3860640"/>
            <a:ext cx="2195280" cy="2187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17236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31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315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1654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3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ЗЕЛЕ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Зеле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гур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Зелен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окод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Зелен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ляг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Зеле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лис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24360" y="3429000"/>
            <a:ext cx="1244520" cy="218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87280" y="4508640"/>
            <a:ext cx="2089440" cy="1584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292720" y="3500280"/>
            <a:ext cx="3363840" cy="2546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95672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7093080" y="1773360"/>
            <a:ext cx="1380960" cy="1019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4643280" y="1484280"/>
            <a:ext cx="2372040" cy="175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235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235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062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0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ГОЛУБ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Голубо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Голуба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ета 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Голубо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льто у дев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580000" y="1557360"/>
            <a:ext cx="2772000" cy="2000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03280" y="4724280"/>
            <a:ext cx="2089080" cy="15843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51280" y="3645000"/>
            <a:ext cx="1962000" cy="2014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012000" y="4149720"/>
            <a:ext cx="2695320" cy="18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97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9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СИ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Сине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Сине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е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25960" y="1600200"/>
            <a:ext cx="3282840" cy="2185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00000" y="4221000"/>
            <a:ext cx="2089440" cy="158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284720" y="40053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10108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27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275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748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6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c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ФИОЛЕТО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Фиолетов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ве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Фиолетов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л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Фиолетов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ас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Фиолетов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аклаж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1944720" cy="133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4221000"/>
            <a:ext cx="2089440" cy="158436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564000" y="3357720"/>
            <a:ext cx="3066840" cy="1990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508720" y="4508640"/>
            <a:ext cx="3019320" cy="2028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796000" y="2492280"/>
            <a:ext cx="285732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99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Р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ное ночное не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ный роя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651640" y="134136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32000" y="4365720"/>
            <a:ext cx="2089080" cy="158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27640" y="4005360"/>
            <a:ext cx="2628720" cy="2187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79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7:15:42Z</dcterms:created>
  <dc:creator>Ambrosovsky</dc:creator>
  <dc:description/>
  <dc:language>en-US</dc:language>
  <cp:lastModifiedBy>Ambrosovsky</cp:lastModifiedBy>
  <dcterms:modified xsi:type="dcterms:W3CDTF">2006-02-26T12:59:30Z</dcterms:modified>
  <cp:revision>84</cp:revision>
  <dc:subject/>
  <dc:title>ЦВЕТА</dc:title>
</cp:coreProperties>
</file>