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06B0-D776-4C97-8E18-802EC65F8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4E4F-902C-43F7-BEC9-39597891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22BB-DCAA-43A6-A327-BF4A457A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4353-1D8E-4D49-9430-BAC40C4E8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CA0B-D67B-4CBB-A949-DE16A76E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5460-9972-4742-B0BC-694ACF33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8A97-45F3-47F0-9A80-222E4E2B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BEC5-A813-47F8-A24D-E448F9AA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9C3C-4C24-44C2-89A9-1F9C729D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593C-3395-4557-AA76-3886934E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3CC7-4B3C-4E26-829D-81A4B70E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EC16-A131-4BB9-A49F-9894E01E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70B1-ADA0-4304-A1D3-C7F90927CE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1000080" y="793440"/>
            <a:ext cx="721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усская культур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XII</a:t>
            </a: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1" lang="en-US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XV</a:t>
            </a: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в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071880" y="4214880"/>
            <a:ext cx="32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Живопис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Золотые врата Рожденственского собора в Суздале (XIII в.).jpg"/>
          <p:cNvPicPr/>
          <p:nvPr/>
        </p:nvPicPr>
        <p:blipFill>
          <a:blip r:embed="rId1"/>
          <a:stretch/>
        </p:blipFill>
        <p:spPr>
          <a:xfrm>
            <a:off x="4857840" y="785880"/>
            <a:ext cx="4000320" cy="51004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2"/>
          <p:cNvSpPr/>
          <p:nvPr/>
        </p:nvSpPr>
        <p:spPr>
          <a:xfrm>
            <a:off x="1143000" y="0"/>
            <a:ext cx="70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Декоративно-прикладное искус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857160" y="61102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Золотые врата» Рождественского собора в Суздале (XIII в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214200" y="642960"/>
            <a:ext cx="4572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Западные ворота Суздальского собора были расписаны «жжёным золотом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Обитые снаружи медными листами, они несут на себе 56 клейм с различными изображениями, выполненными оригинальным способом огневого золочения (Медные листы, прикрепленные к дверям, сначала покрывали черным лаком, потом острым инструментом прочерчивали рисунок, который травили кислотой. Затем листы покрывали ртутью и золотом и нагревали. В результате золото накрепко соединялось с медью листа. Техника огневого золочения получила широкое распространение на Рус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885240" y="285840"/>
            <a:ext cx="79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Живопись Владимиро-Суздальской школ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2" descr="Фреска из Дмитриевского собора Владимира (северная часть свода).  апостолы Павел, Матфей, Марк, Симон, Яков, Фома.jpg"/>
          <p:cNvPicPr/>
          <p:nvPr/>
        </p:nvPicPr>
        <p:blipFill>
          <a:blip r:embed="rId1"/>
          <a:stretch/>
        </p:blipFill>
        <p:spPr>
          <a:xfrm>
            <a:off x="281160" y="1214280"/>
            <a:ext cx="8648640" cy="385776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3"/>
          <p:cNvSpPr/>
          <p:nvPr/>
        </p:nvSpPr>
        <p:spPr>
          <a:xfrm>
            <a:off x="1285920" y="5214960"/>
            <a:ext cx="70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цены Страшного суда Дмитриевского собор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г. Владими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500040" y="42876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Иконы XII-XIII вв. Владимиро-Суздальского княжест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2" descr="Деисус.jpg"/>
          <p:cNvPicPr/>
          <p:nvPr/>
        </p:nvPicPr>
        <p:blipFill>
          <a:blip r:embed="rId1"/>
          <a:stretch/>
        </p:blipFill>
        <p:spPr>
          <a:xfrm>
            <a:off x="785880" y="1643040"/>
            <a:ext cx="7358040" cy="407844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3"/>
          <p:cNvSpPr/>
          <p:nvPr/>
        </p:nvSpPr>
        <p:spPr>
          <a:xfrm>
            <a:off x="928800" y="564372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«Деисус» (в переводе с греч. «моление, прошение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1721160" y="0"/>
            <a:ext cx="67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Икона «Богоматерь Владимирская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2" descr="Владимирская Богоматерь.jpg"/>
          <p:cNvPicPr/>
          <p:nvPr/>
        </p:nvPicPr>
        <p:blipFill>
          <a:blip r:embed="rId1"/>
          <a:stretch/>
        </p:blipFill>
        <p:spPr>
          <a:xfrm>
            <a:off x="857160" y="527040"/>
            <a:ext cx="3786120" cy="56926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3"/>
          <p:cNvSpPr/>
          <p:nvPr/>
        </p:nvSpPr>
        <p:spPr>
          <a:xfrm>
            <a:off x="4929120" y="46450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менно эту икону сделал покровительницей Северо-Восточной Руси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князь Андрей Боголюбск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4929120" y="107172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 дар Юрию Долгоруком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285840" y="44604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Икона «Димитрий Солунский» (XII век). Государственная Третьяковская галерея (Москв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285840" y="5792760"/>
            <a:ext cx="878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Икона написана неизвестным автором по заказу князя Всеволода Большое Гнездо (в крещении Дмитрием) для Дмитриевского собора во Владимир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Икона Димитрий Солунский (XII век). . 156 × 108 см. Третьяковская галерея (Москва).jpg"/>
          <p:cNvPicPr/>
          <p:nvPr/>
        </p:nvPicPr>
        <p:blipFill>
          <a:blip r:embed="rId1"/>
          <a:stretch/>
        </p:blipFill>
        <p:spPr>
          <a:xfrm>
            <a:off x="4500720" y="241200"/>
            <a:ext cx="38242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285840" y="642960"/>
            <a:ext cx="5072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Богоматерь Великая Панагия (Оранта). Ярославл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Первая треть XIII 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Государственная Третьяковская Галерея (Москва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2" descr="Богоматерь Великая Панагия (Оранта). Ярославль. 193.2 × 120.5 см. Первая треть XIII в. Государственная Третьяковская Галерея.jpg"/>
          <p:cNvPicPr/>
          <p:nvPr/>
        </p:nvPicPr>
        <p:blipFill>
          <a:blip r:embed="rId1"/>
          <a:stretch/>
        </p:blipFill>
        <p:spPr>
          <a:xfrm>
            <a:off x="5214960" y="195120"/>
            <a:ext cx="3286080" cy="537696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3"/>
          <p:cNvSpPr/>
          <p:nvPr/>
        </p:nvSpPr>
        <p:spPr>
          <a:xfrm>
            <a:off x="285840" y="58644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Икона «Ярославская Оранта» – икона Богородицы, происходящая из Спасо-Преображенского собора ярославского Спасо-Преображенского монастыр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5000760" y="1000080"/>
            <a:ext cx="392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ложилась позднее школ других княжеств. Ее характерными чертами стали ясность идеи, реальность изображения, доступност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2" descr="икона Ангел Златые власы.jpg"/>
          <p:cNvPicPr/>
          <p:nvPr/>
        </p:nvPicPr>
        <p:blipFill>
          <a:blip r:embed="rId1"/>
          <a:stretch/>
        </p:blipFill>
        <p:spPr>
          <a:xfrm>
            <a:off x="428760" y="1000080"/>
            <a:ext cx="3857400" cy="478944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2016000" y="5857920"/>
            <a:ext cx="546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Икона «Ангел Златые влас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1680120" y="214200"/>
            <a:ext cx="58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Новгородская школа живопис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1285920" y="42876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Икона «Спас Нерукотворный» (XII в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2" descr="Спас Нерукотворный.jpg"/>
          <p:cNvPicPr/>
          <p:nvPr/>
        </p:nvPicPr>
        <p:blipFill>
          <a:blip r:embed="rId1"/>
          <a:stretch/>
        </p:blipFill>
        <p:spPr>
          <a:xfrm>
            <a:off x="2786040" y="1071720"/>
            <a:ext cx="381168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"/>
          <p:cNvSpPr/>
          <p:nvPr/>
        </p:nvSpPr>
        <p:spPr>
          <a:xfrm>
            <a:off x="2426760" y="142920"/>
            <a:ext cx="449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«Успение Богородицы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Икона Успения Божией матери.jpg"/>
          <p:cNvPicPr/>
          <p:nvPr/>
        </p:nvPicPr>
        <p:blipFill>
          <a:blip r:embed="rId1"/>
          <a:stretch/>
        </p:blipFill>
        <p:spPr>
          <a:xfrm>
            <a:off x="1500120" y="944640"/>
            <a:ext cx="600084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4T14:11:52Z</dcterms:created>
  <dc:creator>Ирина</dc:creator>
  <dc:description/>
  <dc:language>en-US</dc:language>
  <cp:lastModifiedBy>Ирина</cp:lastModifiedBy>
  <dcterms:modified xsi:type="dcterms:W3CDTF">2019-10-14T18:37:58Z</dcterms:modified>
  <cp:revision>33</cp:revision>
  <dc:subject/>
  <dc:title>Слайд 1</dc:title>
</cp:coreProperties>
</file>