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43C-3E93-455A-AD52-FA7B63DE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BB4-2D02-44DC-A7CC-99624F3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8C6-1B52-49D0-BBB9-35911B98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F25-4F44-4A54-A36E-4A3FA808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7CA7-D041-4E36-90B4-37BEACB1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476E-E8E9-4179-A7B5-3A268CE7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9C08-1AEA-4CCD-8A1E-1CA0FF63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C1A7-190C-4E97-A17B-F1BC789D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F1AE-3391-485C-A5C0-9CA9C585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1ABE-C061-4301-AC96-7A7BBEE9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F8C6-6E4C-409D-AA32-2EC00674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FF8-0208-4C37-85B6-F58D5CE5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DC2D-C2EE-4751-9D4F-111F993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E07B-7FF5-4EC4-BF7F-F63F109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6CD5-6F7D-4E56-9685-A6F06150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01B0-9F5C-4A9E-8F3A-BEDE8CF5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218A-3D0A-4525-8731-F0EBE673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D43-72F1-452C-97B1-7F6A2DF6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B62-DAB6-48D6-BF42-23DD1E9D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85C-4568-4018-BD88-59A52B62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9BE-41A9-4156-A96A-8AE5537E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F2D-6A81-448E-90B0-33CEBD9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EDF-EC09-40C1-BBB9-0B794AE5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944-2F45-49CB-B991-AE87E28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657B-EFC3-466C-9FF3-B9102F7812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E002-0171-4343-A9F7-CA7B7BC84E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iel Defoe (1660-1731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e is most famous as the author of Robinson Crusoe (1719), a story of a man shipwrecked along on an island. Defoe went into politics and trade and travelled all over Europe. In 1684 he married Mary Tuffley ; they had two sons and five daughters. Daniel Defoe (1660-1731) is an English novelist and journali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4146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45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Useful vocabulary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journali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n): news wri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autho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n): wri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shipwrecke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adj): left alone after a ship has su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fictio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n): non-factual lit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went int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phr v): got involved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efreshe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adj): enliv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692280"/>
            <a:ext cx="403884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grille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v): cooked food with very strong heat, either above or below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miserabl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adj): terrible, s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turtl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n): a reptile with a sh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roaste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v): food cooked with dry heat in an oven or on a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smooth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adj): soft/not r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cheerful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adj): happy and smi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June 28. When I woke up after sleeping for almost two days, I felt quite refreshed so I got up and decided to prepare myself for the night ahead. The first thing I did was to fill a large bottle with water, and put it on the table, next to my bed; then I grilled some of the meat on the coals, but I only ate a little bit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216144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I walked about, but was still very weak, and felt miserable about my sickness. At night I had three of the turtle’s eggs, which I roasted in the ashes for supp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After supper I tried to walk, but I felt so weak that I could hardly carry the gun (I never went out without that)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So I walked a short distance and sat down on the ground, looking out to the smooth and calm sea in front of me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As I sat here, I thought about my life so far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Not feeling sleepy, I decided to go back to my hut and make some medicine from green leaves and rum. I took some and went to bed. I must have been sleeping all the next day and the day after because when I woke up I felt refreshed, lively and cheerful. And when I got up, I was stronger than I was the day before, and I knew my stomach was better because I felt hungr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Say if it is True or Fals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”Robinson Crusoe” is a story about a man shipwrecked along on an isla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At first he cooked his meal on the stov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After supper he tried to walk, but he felt asleep and didn’t g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Sitting and looking out to the smooth and calm sea Robinson thought about fis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When he woke up he felt refreshed, lively and cheerfu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Complete the sent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Daniel Defoe is an English . . . and journalist. 2. In 1684 he married Mary Tuffley; they had . . . sons and . . . daughters. 3. The first thing Robinson did was to fill a large . . . with water. 4. Then he . . . some of the meat on the coals. 5. He walked a short . . . and . . . down on the grou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2T16:18:51Z</dcterms:created>
  <dc:creator>user</dc:creator>
  <dc:description/>
  <dc:language>en-US</dc:language>
  <cp:lastModifiedBy>user</cp:lastModifiedBy>
  <dcterms:modified xsi:type="dcterms:W3CDTF">2020-05-12T17:37:39Z</dcterms:modified>
  <cp:revision>2</cp:revision>
  <dc:subject/>
  <dc:title>Слайд 1</dc:title>
</cp:coreProperties>
</file>