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193-0A52-4E08-94DB-B4F5615B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B5F-89F4-4B60-BB4D-97EFA9E6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81C-DBF4-4161-86B3-BF2786A2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807-1CC6-4BC8-B251-6EABF701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C30-CF81-4621-92F0-552EA52A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6F5-18D8-4E26-9837-EBD04013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B8E-9916-4D01-97DC-B6B689F7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E7E-63FE-486D-BBD5-6F4D130A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965-5D37-455D-AF75-1F801F0A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126-2274-4B04-BA52-6605947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8F7-A78B-4C1D-8409-873FE85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05F-F58D-466E-97A9-8F454147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CF14-0A1D-4E26-9117-8EFC748CF2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opwar.ru/armament/weapon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628632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ЮНЫЕ ГЕРО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РОСТОВА –НА-ДО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 rot="926400">
            <a:off x="6031080" y="1074240"/>
            <a:ext cx="1985760" cy="26434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2" descr="ÐÐ°ÑÑÐ¸Ð½ÐºÐ¸ Ð¿Ð¾ Ð·Ð°Ð¿ÑÐ¾ÑÑ ÐÐµÐ½Ñ Ð ÐµÐ¿ÐºÐ¾"/>
          <p:cNvPicPr/>
          <p:nvPr/>
        </p:nvPicPr>
        <p:blipFill>
          <a:blip r:embed="rId2"/>
          <a:stretch/>
        </p:blipFill>
        <p:spPr>
          <a:xfrm>
            <a:off x="3357720" y="1571760"/>
            <a:ext cx="2071440" cy="31762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0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 rot="20046000">
            <a:off x="2228760" y="3763440"/>
            <a:ext cx="1959120" cy="280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ÐÐ¾ÑÐ¾Ð¶ÐµÐµ Ð¸Ð·Ð¾Ð±ÑÐ°Ð¶ÐµÐ½Ð¸Ðµ"/>
          <p:cNvPicPr/>
          <p:nvPr/>
        </p:nvPicPr>
        <p:blipFill>
          <a:blip r:embed="rId4"/>
          <a:stretch/>
        </p:blipFill>
        <p:spPr>
          <a:xfrm rot="936600">
            <a:off x="4786200" y="3682800"/>
            <a:ext cx="2102040" cy="294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http://rodb-v.ru/img/cherevichkin.jpg"/>
          <p:cNvPicPr/>
          <p:nvPr/>
        </p:nvPicPr>
        <p:blipFill>
          <a:blip r:embed="rId5"/>
          <a:stretch/>
        </p:blipFill>
        <p:spPr>
          <a:xfrm rot="20565000">
            <a:off x="352440" y="1531440"/>
            <a:ext cx="207180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cs01.files.mya5.ru/DgABAIQAzMgBzQEY_8P-ww/WKSCkrZGPEizZmguKGDgLA/sv/image/a8/24/9e/62608/22/%D0%9A%D0%BE%D0%BB%D1%8F%20%D0%9A%D0%B8%D0%B7%D0%B8%D0%BC%201.jpg?1421750648"/>
          <p:cNvPicPr/>
          <p:nvPr/>
        </p:nvPicPr>
        <p:blipFill>
          <a:blip r:embed="rId6"/>
          <a:stretch/>
        </p:blipFill>
        <p:spPr>
          <a:xfrm rot="643200">
            <a:off x="7284600" y="3344760"/>
            <a:ext cx="163368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857240" y="4000680"/>
            <a:ext cx="5500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ем! Помним! Гордимся! Вновь скупая слеза сторожит тишину. Вы о жизни мечтали, уходя на войну. Сколько юных тогда не вернулось назад! Не дожив, не допев, под гранитом лежат. Глядя в вечный огонь – тихой скорби сиянье, Ты послушай святую минуту молчан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minuta-molchaniya-_.mp3" descr=""/>
          <p:cNvPicPr/>
          <p:nvPr/>
        </p:nvPicPr>
        <p:blipFill>
          <a:blip r:embed="rId1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285840" y="214200"/>
            <a:ext cx="464328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87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14240" y="928800"/>
            <a:ext cx="4214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 При отступлении из Ростова-на-Дону силы Красной армии находились под интенсивным огнем немецкой артиллерии, в связи с чем множество советских воинов было ранено, контужено и погребено под обломками зданий. Под свой страх и риск пятеро 11-12 летних пионеров Ваня Зятин, Коля Кизим, Игорь Нейгоф, Витя Проценко и Коля Сидоренко подобрали на улицах и откопали под обломками зданий до 40 раненых бойцов Красной Армии и спрятали их на чердаке своего дома. В течение двух недель ребятам удалось ухаживать за ранеными красноармейцами, но вскоре на улице нашелся предатель, который сдал маленьких героев немецким оккупационным властя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85880" y="0"/>
            <a:ext cx="42148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ля Кизи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0" descr="http://cs01.files.mya5.ru/DgABAIQAzMgBzQEY_8P-ww/WKSCkrZGPEizZmguKGDgLA/sv/image/a8/24/9e/62608/22/%D0%9A%D0%BE%D0%BB%D1%8F%20%D0%9A%D0%B8%D0%B7%D0%B8%D0%BC%201.jpg?1421750648"/>
          <p:cNvPicPr/>
          <p:nvPr/>
        </p:nvPicPr>
        <p:blipFill>
          <a:blip r:embed="rId1"/>
          <a:stretch/>
        </p:blipFill>
        <p:spPr>
          <a:xfrm>
            <a:off x="5072040" y="1285920"/>
            <a:ext cx="321480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Женя Репко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2960" y="1600200"/>
            <a:ext cx="55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я Репко рос в Верхне-Гниловском поселке. Это – ближняя к центру Ростова часть станицы Гниловской. Сама станица вошла в состав города уже после войны, а поселок Верхне-Гниловской стал частью Ростова гораздо раньше. В домиках и домишках поселка проживал рабочий люд, а детвора обожала бегать по крутым спускам и переулкам к Дону, на правом крутом берегу которого и располагается поселок. Здесь и жили Григорий Павлович Репко с супругой Анной Александровной – родители Жени. Когда началась война, юный житель Верхне-Гниловского Женя Репко, вместе со своими друзьями Колей Серьяновым и Витей Козловым, отправился в военкомат. Ребята хотели попроситься на фронт, в действующую армию. Но военный комиссар и слышать не хотел о столь юных добровольцах – мол, рано еще, идите домой, без вас справим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2" descr="ÐÐ°ÑÑÐ¸Ð½ÐºÐ¸ Ð¿Ð¾ Ð·Ð°Ð¿ÑÐ¾ÑÑ ÐÐµÐ½Ñ Ð ÐµÐ¿ÐºÐ¾"/>
          <p:cNvPicPr/>
          <p:nvPr/>
        </p:nvPicPr>
        <p:blipFill>
          <a:blip r:embed="rId1"/>
          <a:stretch/>
        </p:blipFill>
        <p:spPr>
          <a:xfrm>
            <a:off x="6215040" y="1571760"/>
            <a:ext cx="2143080" cy="34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142920" y="714240"/>
            <a:ext cx="635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я Репко Женя проявил смелость и находчивость, проведя советских воинов к вражеским позициям, расположенным около водокачки. Его отец Григорий Павлович работал там старшим машинистом. Наблюдательный парнишка, часто бывая у отца, хорошо изучил расположение дзотов гитлеровцев в тех местах. Здесь при подавлении огневой точки Женя Репко был у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ÐÐ°ÑÑÐ¸Ð½ÐºÐ¸ Ð¿Ð¾ Ð·Ð°Ð¿ÑÐ¾ÑÑ ÑÐ½ÑÐµ Ð³ÐµÑÐ¾Ð¸ ÑÐ¾ÑÑÐ¾Ð²Ð°"/>
          <p:cNvPicPr/>
          <p:nvPr/>
        </p:nvPicPr>
        <p:blipFill>
          <a:blip r:embed="rId1"/>
          <a:stretch/>
        </p:blipFill>
        <p:spPr>
          <a:xfrm>
            <a:off x="1357200" y="2857680"/>
            <a:ext cx="585792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6840" y="785880"/>
            <a:ext cx="7829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4июля 1942 г. гитлеровцы вновь заняли Ростов-на-Дону – на этот раз надолго. Вторая оккупация столицы Донского края продолжалась 205 дней. Юный Женя Репко вместе со своими друзьями пошел к Владимиру Николаевичу Базыкину – школьному учителю, которого ребята уважали и к мнению которого прислушивались. Он посоветовал создать подпольную группу, захватить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ружи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и начинать борьбу с немцами, не дожидаясь подхода Красной Армии. Так появилась партизанская группа из одиннадцати человек, которую возглавил Николай Александрович Зотов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8290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Эдик Жмайлов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0" name="Picture 30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857920" y="1214280"/>
            <a:ext cx="2444760" cy="3214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785880" y="714240"/>
            <a:ext cx="4929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ья Жмайловых до войны проживала в Ростове-на-Дону. Обычная семья, как и тысячи других – отец – железнодорожник, мать, трое детей – старшая сестра и два сына. Еще перед первой немецкой оккупацией семью Жмайловых эвакуировали в Минеральные Воды. В эвакуацию отправились мама и двое младших сыновей. Отец ушел на фронт, а вскоре за ним пошла добровольцем и старшая сестра.  Эдику, учившемуся в шестом классе ростовской школы № 78, пришлось идти работать учеником в сапожную мастерскую. Эдик Жмайлов «Гордитесь своим сыном, - писал командир части родителям, - хоть по годам он был еще маленьким, но показал себя большим героем. В последнем бою он лично уложил пятерых гитлеровских солдат». Мальчик геройски погиб, защищая боевое знамя. До победы над фашистской Германией оставалось всего три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00040" y="428760"/>
            <a:ext cx="5143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Фашисты придумали для детей мучительную смерть. Яму во дворе дома они засыпали негашеной известью и бросили туда мальчишек. Затем добавили в яму воды. Смерть не была быстрой, ребята долго кричали». Потом их зверски расстреля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://rodb-v.ru/img/heroes.jpg"/>
          <p:cNvPicPr/>
          <p:nvPr/>
        </p:nvPicPr>
        <p:blipFill>
          <a:blip r:embed="rId1"/>
          <a:stretch/>
        </p:blipFill>
        <p:spPr>
          <a:xfrm>
            <a:off x="2643120" y="3143160"/>
            <a:ext cx="2643120" cy="31435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571680" y="642960"/>
            <a:ext cx="5572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ли мальчишки в шинелях до пят, На врага под огонь бронебойный. Не забудьте же этих ребят! Будьте этих мальчишек достойны! Великоваты были им шинели, Во всем полку сапог не подобрать. Но все равно в боях они умели Не отставать, не отступать и побеж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ÐÐ°ÑÑÐ¸Ð½ÐºÐ¸ Ð¿Ð¾ Ð·Ð°Ð¿ÑÐ¾ÑÑ ÑÐ½ÑÐµ Ð³ÐµÑÐ¾Ð¸ ÑÐ¾ÑÑÐ¾Ð²Ð°"/>
          <p:cNvPicPr/>
          <p:nvPr/>
        </p:nvPicPr>
        <p:blipFill>
          <a:blip r:embed="rId1"/>
          <a:stretch/>
        </p:blipFill>
        <p:spPr>
          <a:xfrm>
            <a:off x="6072120" y="1143000"/>
            <a:ext cx="2214720" cy="3322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 rot="21034800">
            <a:off x="4201920" y="3536640"/>
            <a:ext cx="3286080" cy="27414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8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1143000" y="3714840"/>
            <a:ext cx="271476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571680" y="642960"/>
            <a:ext cx="628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 щадя себя в огне войны, Не жалея сил во имя Родины, Дети героической стр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ыли настоящими героя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ÐÐ°ÑÑÐ¸Ð½ÐºÐ¸ Ð¿Ð¾ Ð·Ð°Ð¿ÑÐ¾ÑÑ ÑÐ½ÑÐµ Ð³ÐµÑÐ¾Ð¸ ÑÐ¾ÑÑÐ¾Ð²Ð°"/>
          <p:cNvPicPr/>
          <p:nvPr/>
        </p:nvPicPr>
        <p:blipFill>
          <a:blip r:embed="rId1"/>
          <a:stretch/>
        </p:blipFill>
        <p:spPr>
          <a:xfrm>
            <a:off x="1285920" y="3110040"/>
            <a:ext cx="4643280" cy="30096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21:17:59Z</dcterms:created>
  <dc:creator>Лен29</dc:creator>
  <dc:description/>
  <dc:language>en-US</dc:language>
  <cp:lastModifiedBy>1</cp:lastModifiedBy>
  <dcterms:modified xsi:type="dcterms:W3CDTF">2020-02-27T15:17:23Z</dcterms:modified>
  <cp:revision>190</cp:revision>
  <dc:subject/>
  <dc:title>Слайд 1</dc:title>
</cp:coreProperties>
</file>