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644-4200-48B3-B3FE-8374D5D7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181-C967-4BAB-9E8D-E42B6B0A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9F8-F9E7-4AB2-B813-7119531C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D22-D7EE-432C-9B33-0DE048A1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4E9B-AB05-4A4A-B8C7-7DF10B95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C611-B126-45A9-AD96-3E7B1513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9B14-A7A4-43CA-BE6E-6B82E187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0B7C-4ECC-4481-8CE7-4E8F31E4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E0F3-D000-42C0-A68C-579D7F28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13B6-2F89-4363-A21E-99A3A50D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C388-1BB5-4016-84BE-B55EB280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E0C-1205-42EE-8719-D449FF77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7A4E-9BD1-47D2-816A-C02C3513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0FBA-5A53-4493-A858-F8177789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CF5D-85A6-4BD2-A014-96E8D1E2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450B-65E7-42DA-A529-06D53930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9C7E-21E8-43C2-A21F-6D46CF33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A644-521D-490C-8284-ED7C6D0B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F61-40B8-404B-9B26-64C96FD3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684-FFE5-4B4A-9A36-97E79150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A38-0816-42D4-968E-63E50470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DED-D33A-4F93-BF4A-A9770AE5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5172-5FE2-4BF4-A3BF-6A889894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090-3699-4BC3-8811-8C269ACD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AA79-AA4B-4475-A6FA-79043CF1D0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0B9B-2F1B-47CC-B32C-446E66ABB8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Детско-родительский исследовательский проект</a:t>
            </a:r>
            <a:br>
              <a:rPr sz="4000"/>
            </a:b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«Волшебные краски»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351480" y="5465880"/>
            <a:ext cx="22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356000" y="386064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и:Малышев Гле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ма:Ерпилова Мария Юр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: Кокишева Н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ccff"/>
                </a:solidFill>
                <a:latin typeface="Arial"/>
              </a:rPr>
              <a:t>Волшебные краски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Обогащать эмоциональный мир ребенка,используя метод погружения в цвет, цветовосприя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Развивать коммуникативные способ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пособствовать творческой самореализации реб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ериалы и инструмен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Акварельные кра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Кисточ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таканчик с вод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Альбомные лис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Kcr3bYGj1m4"/>
          <p:cNvPicPr/>
          <p:nvPr/>
        </p:nvPicPr>
        <p:blipFill>
          <a:blip r:embed="rId1"/>
          <a:stretch/>
        </p:blipFill>
        <p:spPr>
          <a:xfrm>
            <a:off x="4067280" y="1341360"/>
            <a:ext cx="4500360" cy="3382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1"/>
          <p:cNvSpPr/>
          <p:nvPr/>
        </p:nvSpPr>
        <p:spPr>
          <a:xfrm>
            <a:off x="231840" y="1792440"/>
            <a:ext cx="35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395280" y="1916280"/>
            <a:ext cx="34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нятия с применением цветотерапии помогают решать ряд задач: развивать познавательную активность; формировать речевые навыки; эмоциональную сфе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3jqk5vOZMb0"/>
          <p:cNvPicPr/>
          <p:nvPr/>
        </p:nvPicPr>
        <p:blipFill>
          <a:blip r:embed="rId1"/>
          <a:stretch/>
        </p:blipFill>
        <p:spPr>
          <a:xfrm>
            <a:off x="5003640" y="2133720"/>
            <a:ext cx="3743640" cy="374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oiu18VxO2rA"/>
          <p:cNvPicPr/>
          <p:nvPr/>
        </p:nvPicPr>
        <p:blipFill>
          <a:blip r:embed="rId2"/>
          <a:stretch/>
        </p:blipFill>
        <p:spPr>
          <a:xfrm>
            <a:off x="395280" y="1773360"/>
            <a:ext cx="4210200" cy="42098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1979640" y="33336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ходе занятием рисованием мы с Глебом познавали краски. Краски оставляют пятна на  листе. Пробовали их на вкус. Рисовали не только на листе бумаги, но и на своем теле. Глеб очень старался рисовать аккуратно. В итоги у него получился рису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myy-X8gZdbA"/>
          <p:cNvPicPr/>
          <p:nvPr/>
        </p:nvPicPr>
        <p:blipFill>
          <a:blip r:embed="rId1"/>
          <a:stretch/>
        </p:blipFill>
        <p:spPr>
          <a:xfrm>
            <a:off x="1619280" y="620640"/>
            <a:ext cx="6407280" cy="41148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340360" y="5083200"/>
            <a:ext cx="38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т что у нас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получилос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2:37:19Z</dcterms:created>
  <dc:creator>Customer</dc:creator>
  <dc:description/>
  <dc:language>en-US</dc:language>
  <cp:lastModifiedBy>СКАЗКА</cp:lastModifiedBy>
  <dcterms:modified xsi:type="dcterms:W3CDTF">2018-09-14T11:13:43Z</dcterms:modified>
  <cp:revision>6</cp:revision>
  <dc:subject/>
  <dc:title>Детско-родительский исследовательский проект «Волшебные краски»</dc:title>
</cp:coreProperties>
</file>