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1E6-2734-4C09-A45C-80B83308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57F-576A-4DD7-A518-41A72ABB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C3C-7354-45AE-85F5-6C836762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E3E-3192-4084-BA9A-AC7821EC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0F5-65B8-42F4-B6AF-0C75D3A3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F04-03BF-487F-9C96-D01C482C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3AB-F36D-40C9-BACC-4D4B2943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62C1-F6B1-4A53-9BF0-B99ABC13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063-0AE6-4A13-B83A-03E5F315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312-B67B-4977-8E41-86AE5405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40A-4C3B-4D61-9C75-CED96AA2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1D6-0773-47C7-8A70-B25093DA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23FA-9FCF-4D03-A988-15B989614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dvummass.pas" TargetMode="External"/><Relationship Id="rId3" Type="http://schemas.openxmlformats.org/officeDocument/2006/relationships/hyperlink" Target="file:///dvummass.pas" TargetMode="External"/><Relationship Id="rId4" Type="http://schemas.openxmlformats.org/officeDocument/2006/relationships/hyperlink" Target="file:///dvummass.pas" TargetMode="External"/><Relationship Id="rId5" Type="http://schemas.openxmlformats.org/officeDocument/2006/relationships/hyperlink" Target="file:///dvummass.pas" TargetMode="External"/><Relationship Id="rId6" Type="http://schemas.openxmlformats.org/officeDocument/2006/relationships/hyperlink" Target="file:///dvummass.pas" TargetMode="External"/><Relationship Id="rId7" Type="http://schemas.openxmlformats.org/officeDocument/2006/relationships/hyperlink" Target="file:///dvummass.pas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3170160"/>
            <a:ext cx="561672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вумерные массив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27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62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умерный массив представляет собой прямоугольную таблицу, состояшую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рок 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бц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1628640"/>
            <a:ext cx="2266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мер 1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2997360"/>
            <a:ext cx="439092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1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…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…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………………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…   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789360"/>
            <a:ext cx="15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9933ff"/>
                </a:solidFill>
                <a:latin typeface="Arial"/>
              </a:rPr>
              <a:t>m x n 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3141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3213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357336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Матрица коэффициентов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линейных уравнений с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неизвест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360" y="333360"/>
            <a:ext cx="2266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мер 2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58920" y="2259000"/>
          <a:ext cx="6568920" cy="2617920"/>
        </p:xfrm>
        <a:graphic>
          <a:graphicData uri="http://schemas.openxmlformats.org/drawingml/2006/table">
            <a:tbl>
              <a:tblPr/>
              <a:tblGrid>
                <a:gridCol w="1336680"/>
                <a:gridCol w="1044360"/>
                <a:gridCol w="1047960"/>
                <a:gridCol w="1046160"/>
                <a:gridCol w="1046160"/>
                <a:gridCol w="104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Русс. 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Литер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Ма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.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д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ндре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аве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1547640" y="1123920"/>
            <a:ext cx="5867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едомость успеваем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01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Каждый элемент в двумерном массиве находится на пересечении строки и столбца и идентифицируется двумя числами: первый индекс – номер строки, второй индекс – номер столб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630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а(2,3) = 3;    а(3,4)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9640" y="549360"/>
            <a:ext cx="2114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а 1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413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аны оценки учащихся класса, сдавших выпускные экзамены. Подсчитать средний балл каждого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492280"/>
            <a:ext cx="7848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. Данные: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учащихся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(n,m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ценки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fam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мили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. Результат: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балл уча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. Промежут. переменные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мер учащего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j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мер 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мма оценок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333360"/>
            <a:ext cx="2916000" cy="719280"/>
          </a:xfrm>
          <a:prstGeom prst="flowChartInputOutput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m,fam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),a(m,n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413000"/>
            <a:ext cx="2448000" cy="720720"/>
          </a:xfrm>
          <a:prstGeom prst="flowChartPreparation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 = 1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2421000"/>
            <a:ext cx="1346040" cy="431640"/>
          </a:xfrm>
          <a:prstGeom prst="flowChartProcess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141720"/>
            <a:ext cx="2447640" cy="576360"/>
          </a:xfrm>
          <a:prstGeom prst="flowChartPreparation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 = 1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3933720"/>
            <a:ext cx="1584360" cy="503280"/>
          </a:xfrm>
          <a:prstGeom prst="flowChartProcess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 = s + a(i,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4941720"/>
            <a:ext cx="1584360" cy="503280"/>
          </a:xfrm>
          <a:prstGeom prst="flowChartProcess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(i) = s 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877000"/>
            <a:ext cx="2916000" cy="718920"/>
          </a:xfrm>
          <a:prstGeom prst="flowChartInputOutput">
            <a:avLst/>
          </a:prstGeom>
          <a:solidFill>
            <a:srgbClr val="00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. с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105264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133720"/>
            <a:ext cx="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71628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285264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56610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66420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44370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0920" y="4653000"/>
            <a:ext cx="1296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50920" y="3429000"/>
            <a:ext cx="0" cy="1224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0920" y="3409560"/>
            <a:ext cx="7308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5445000"/>
            <a:ext cx="0" cy="14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78920" y="5589720"/>
            <a:ext cx="12970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9280" y="1773000"/>
            <a:ext cx="0" cy="3816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773360"/>
            <a:ext cx="3603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1773360"/>
            <a:ext cx="2872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1773360"/>
            <a:ext cx="0" cy="38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763640" y="4724280"/>
            <a:ext cx="122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4724280"/>
            <a:ext cx="0" cy="2174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3429000"/>
            <a:ext cx="2876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3429000"/>
            <a:ext cx="0" cy="1295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92360" y="5661000"/>
            <a:ext cx="15112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260280"/>
            <a:ext cx="4897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4; m=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var a:array[1..n,1..m] of inte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am:array[1..n] of str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i,j,s:inte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c:array[1..n] of re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(‘фамилия', i,'-го уч-ся - ');readln(fam[i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(‘оценки',i,'-го уч-ся - 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j:=1 to m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a[i,j]:=(random(4)+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(a[i,j],' 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s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j:=1 to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s:=s+a[i,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c[i]:=s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ritel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i],'-ср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балл-',c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i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31:50Z</dcterms:created>
  <dc:creator>Павелко И.В.</dc:creator>
  <dc:description/>
  <dc:language>en-US</dc:language>
  <cp:lastModifiedBy>Iuzer</cp:lastModifiedBy>
  <dcterms:modified xsi:type="dcterms:W3CDTF">2014-04-27T11:37:10Z</dcterms:modified>
  <cp:revision>11</cp:revision>
  <dc:subject/>
  <dc:title>Слайд 1</dc:title>
</cp:coreProperties>
</file>