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A53-00E0-4744-89E2-B7F3AB2C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998-2E93-4FA6-875C-F640A26E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DF5-C0E6-4785-8F4C-BABA807E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A8D-3CDA-4BA6-91C2-2CC94E2F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8F1-DE76-4A54-A346-F932932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113-30A4-4167-AD5A-6AF923AD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466-2191-4C89-80AB-9679A63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433-0C76-4D4D-B892-8FF7104B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B3C-5222-45C4-ABD9-13897E6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071-E74E-46F3-988E-C1911E3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F09-7475-47FB-A868-4300179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104-BF86-488F-BA6C-599874B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447-5F93-4EEE-B4EC-147173D4D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images.google.ru/imgres?q=&#1085;&#1077;+&#1088;&#1072;&#1079;&#1075;&#1086;&#1074;&#1072;&#1088;&#1080;&#1074;&#1072;&#1081;&#1090;&#1077;+&#1085;&#1072;+&#1084;&#1086;&#1088;&#1086;&#1079;&#1077;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" TargetMode="External"/><Relationship Id="rId3" Type="http://schemas.openxmlformats.org/officeDocument/2006/relationships/hyperlink" Target="http://images.google.ru/imgres?q=&#1085;&#1077;+&#1088;&#1072;&#1079;&#1075;&#1086;&#1074;&#1072;&#1088;&#1080;&#1074;&#1072;&#1081;&#1090;&#1077;+&#1085;&#1072;+&#1084;&#1086;&#1088;&#1086;&#1079;&#1077;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" TargetMode="External"/><Relationship Id="rId4" Type="http://schemas.openxmlformats.org/officeDocument/2006/relationships/hyperlink" Target="http://images.google.ru/imgres?q=&#1085;&#1077;+&#1088;&#1072;&#1079;&#1075;&#1086;&#1074;&#1072;&#1088;&#1080;&#1074;&#1072;&#1081;&#1090;&#1077;+&#1085;&#1072;+&#1084;&#1086;&#1088;&#1086;&#1079;&#1077;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" TargetMode="External"/><Relationship Id="rId5" Type="http://schemas.openxmlformats.org/officeDocument/2006/relationships/hyperlink" Target="http://images.yandex.ru/yandsearch?text=&#1096;&#1072;&#1087;&#1082;&#1080;&amp;img_url=kniti.ru%2Fwp-content%2Fuploads%2F2011%2F09%2F1231322019_sh_02.jpg&amp;pos=0&amp;rpt=simage" TargetMode="External"/><Relationship Id="rId6" Type="http://schemas.openxmlformats.org/officeDocument/2006/relationships/hyperlink" Target="http://images.yandex.ru/yandsearch?text=&#1075;&#1086;&#1088;&#1103;&#1095;&#1080;&#1081;%20&#1095;&#1072;&#1081;&amp;img_url=writerzblock.files.wordpress.com%2F2011%2F02%2Ftea.jpg&amp;pos=25&amp;rpt=simage" TargetMode="External"/><Relationship Id="rId7" Type="http://schemas.openxmlformats.org/officeDocument/2006/relationships/hyperlink" Target="http://images.yandex.ru/yandsearch?text=&#1096;&#1072;&#1087;&#1082;&#1080;%20&#1087;&#1072;&#1088;&#1085;&#1080;&amp;img_url=forum.exler.ru%2Fuploads%2F116%2Fpost-1317414500.jpg&amp;pos=15&amp;rpt=simage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963720" y="1219320"/>
            <a:ext cx="7210440" cy="1566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806440" y="4365720"/>
            <a:ext cx="23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совских И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дагог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ЮЦ «ПЕТЕРГО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для девушек. Режим молчания в больные дни (3 дня, установленные законом) и снижение нагрузок. Несоблюдение этого правила грозит длительным нарушением голосовой деятельности и очень часто с серьезными последствиями. В эти дни стенки капилляров кровеносных сосудов приобретают повышенную ломкость, что приводит к кровоизлия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9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то так легко не вызывает заболевания горла, как слабость, изнеженность и не закаленность. Люди голосоречевых профессий чаще склонны к простуде, которая локализируется в области верхних дыхательных путей. Это объясняется особой чувствительностью их голосового аппарата к охлаждению, условиям производства, а также подвижностью нервных процессов и особой впечатлительностью, и, наконец, неосторожностью самих людей, потенциальных пациентов врачей-ларингологов. Умение при первых симптомах заболевания принять грамотные меры первой самопомощи, знания в области искусства закаливания и укрепления организма - все это уменьшает возможность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ухо горло нос.jpg"/>
          <p:cNvPicPr/>
          <p:nvPr/>
        </p:nvPicPr>
        <p:blipFill>
          <a:blip r:embed="rId1"/>
          <a:stretch/>
        </p:blipFill>
        <p:spPr>
          <a:xfrm>
            <a:off x="6588000" y="620640"/>
            <a:ext cx="155592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622440"/>
            <a:ext cx="5218200" cy="1047600"/>
          </a:xfrm>
          <a:prstGeom prst="rect">
            <a:avLst/>
          </a:prstGeom>
          <a:ln w="0">
            <a:noFill/>
          </a:ln>
        </p:spPr>
      </p:pic>
      <p:sp>
        <p:nvSpPr>
          <p:cNvPr id="77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images.google.ru/imgres?q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=%D0%BD%D0%B5+%D1%80%D0%B0%D0%B7%D0%B3%D0%BE%D0%B2%D0%B0%D1%80%D0%B8%D0%B2%D0%B0%D0%B9%D1%82%D0%B5+%D0%BD%D0%B0+%D0%BC%D0%BE%D1%80%D0%BE%D0%B7%D0%B5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ages.yandex.ru/yandsearch?text=%D1%88%D0%B0%D0%BF%D0%BA%D0%B8&amp;img_url=kniti.ru%2Fwp-content%2Fuploads%2F2011%2F09%2F1231322019_sh_02.jpg&amp;pos=0&amp;rpt=s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ages.yandex.ru/yandsearch?text=%D0%B3%D0%BE%D1%80%D1%8F%D1%87%D0%B8%D0%B9%20%D1%87%D0%B0%D0%B9&amp;img_url=writerzblock.files.wordpress.com%2F2011%2F02%2Ftea.jpg&amp;pos=25&amp;rpt=s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ages.yandex.ru/yandsearch?text=%D1%88%D0%B0%D0%BF%D0%BA%D0%B8%20%D0%BF%D0%B0%D1%80%D0%BD%D0%B8&amp;img_url=forum.exler.ru%2Fuploads%2F116%2Fpost-1317414500.jpg&amp;pos=15&amp;rpt=s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ru/imgres?q=%D0%B4%D1%8B%D1%85%D0%B0%D0%BD%D0%B8%D0%B5+%D1%87%D0%B5%D1%80%D0%B5%D0%B7+%D0%BD%D0%BE%D1%81&amp;start=259&amp;hl=ru&amp;newwindow=1&amp;biw=1366&amp;bih=634&amp;tbm=isch&amp;tbnid=mv-fupwLYmr6JM:&amp;imgrefurl=http://www.top4man.ru/telo/dvizhenie/pravilnoe-dyhanie-vo-vremya-fitnesa/&amp;docid=iKvCUTaKrtPToM&amp;imgurl=http:/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573120"/>
            <a:ext cx="5834160" cy="1170000"/>
          </a:xfrm>
          <a:prstGeom prst="rect">
            <a:avLst/>
          </a:prstGeom>
          <a:ln w="0">
            <a:noFill/>
          </a:ln>
        </p:spPr>
      </p:pic>
      <p:sp>
        <p:nvSpPr>
          <p:cNvPr id="79" name="Содержимое 2"/>
          <p:cNvSpPr/>
          <p:nvPr/>
        </p:nvSpPr>
        <p:spPr>
          <a:xfrm>
            <a:off x="468360" y="1773360"/>
            <a:ext cx="82296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дуров В.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рки по истории вокальной педагогики. – 2-е изд. – М.: Музгиз, 195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ичевский Ю.С., Фомин В.С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ий музыкальный словарь для учащихся. – 7-е изд. – Л.: Музыка, 19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цкий О.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а пения: из опыта педагога. – М.: МГУКИ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 Ю., Михеев С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арузо. СПб. Глагол,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тарович В.С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 голоса. – М.: Музгиз, 195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иатрия и фонопед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Л.Б. Дмитриев, Л.М. Телеляева, С.Л. Таптапова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. Ермако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.: Медицина, 19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выходите сразу после занятия вокалом на улицу, особенно в холод. Хороший совет: выработайте привычку в холодное время года перед выходом на улицу выпить немного воды комнатной температуры. Это охладит стенки гортани. Вообще избегайте резкой смены температуры. После горячей еды и питья подождите в помещении 15-30 минут, иначе начнутся кат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uhod-za-litsom-zimoy.jpg"/>
          <p:cNvPicPr/>
          <p:nvPr/>
        </p:nvPicPr>
        <p:blipFill>
          <a:blip r:embed="rId1"/>
          <a:stretch/>
        </p:blipFill>
        <p:spPr>
          <a:xfrm>
            <a:off x="395280" y="476280"/>
            <a:ext cx="275580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25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говаривайте на морозе, старайтесь не бегать и не ходить быстро на морозном воздухе, чтобы не углублять дыхание. Вообще избегайте охлаждений и переохлаждений. Для голосового аппарата опасно чрезмерное употребление мороженого, сквозняки, ветер в жаркую погоду, когда вы разогрелись на солнце. Это самая легкая возможность для прост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мороз.jpg"/>
          <p:cNvPicPr/>
          <p:nvPr/>
        </p:nvPicPr>
        <p:blipFill>
          <a:blip r:embed="rId1"/>
          <a:stretch/>
        </p:blipFill>
        <p:spPr>
          <a:xfrm>
            <a:off x="642960" y="428760"/>
            <a:ext cx="285732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32860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своей обувью, особенно в сырость и холод. Холодные, сырые ноги - верная простуда. Если это случилось, то обязательно сделайте горячую ножную ванну, наденьте теплые носки, постарайтесь сразу выпить горячего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носочки.png"/>
          <p:cNvPicPr/>
          <p:nvPr/>
        </p:nvPicPr>
        <p:blipFill>
          <a:blip r:embed="rId1"/>
          <a:stretch/>
        </p:blipFill>
        <p:spPr>
          <a:xfrm>
            <a:off x="357120" y="7142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горячий чай.jpg"/>
          <p:cNvPicPr/>
          <p:nvPr/>
        </p:nvPicPr>
        <p:blipFill>
          <a:blip r:embed="rId2"/>
          <a:stretch/>
        </p:blipFill>
        <p:spPr>
          <a:xfrm>
            <a:off x="7000920" y="428760"/>
            <a:ext cx="157176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785680"/>
            <a:ext cx="82868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одежда должна быть удобна и адекватна погоде. Но, кроме одежды и обуви, еще очень важна в нашем климате проблема головного убора - он должен быть достаточно легким и теплым. Известно очень много случаев невралгий, происшедших только по причине неподходящего головного убора. Они (невралгии) проходили, когда слишком тяжелый и жаркий головной убор сменялся на более рациональный. Чрезмерное согревание головы вызывает усиленный приток крови, головную боль, а также ведет к зябкости головы, понижению ее сопротивляемости быстрому охлаждению, что вызывает раз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шапочка девочка.jpg"/>
          <p:cNvPicPr/>
          <p:nvPr/>
        </p:nvPicPr>
        <p:blipFill>
          <a:blip r:embed="rId1"/>
          <a:stretch/>
        </p:blipFill>
        <p:spPr>
          <a:xfrm>
            <a:off x="500040" y="571680"/>
            <a:ext cx="1333440" cy="1928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Рисунок 4" descr="шапка парень.jpg"/>
          <p:cNvPicPr/>
          <p:nvPr/>
        </p:nvPicPr>
        <p:blipFill>
          <a:blip r:embed="rId2"/>
          <a:stretch/>
        </p:blipFill>
        <p:spPr>
          <a:xfrm>
            <a:off x="6858000" y="785880"/>
            <a:ext cx="1857240" cy="1857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деятельности дышать надо, по возможности, только через нос. Это предохраняет дыхательные пути от пыли и инфекции, которые оседают в носу, а воздух, проходя через нос, согревается и увлажняется. Хорошо прополаскивать щелочными водами (типа «Боржоми») рот, глотку, носоглотку, так как щелочная вода хорошо очищает слизис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через нос.jpg"/>
          <p:cNvPicPr/>
          <p:nvPr/>
        </p:nvPicPr>
        <p:blipFill>
          <a:blip r:embed="rId1"/>
          <a:stretch/>
        </p:blipFill>
        <p:spPr>
          <a:xfrm>
            <a:off x="357120" y="357120"/>
            <a:ext cx="147636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девочка нюхает цветы.jpg"/>
          <p:cNvPicPr/>
          <p:nvPr/>
        </p:nvPicPr>
        <p:blipFill>
          <a:blip r:embed="rId2"/>
          <a:stretch/>
        </p:blipFill>
        <p:spPr>
          <a:xfrm>
            <a:off x="6429240" y="785880"/>
            <a:ext cx="24004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308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 в помещениях для упражнений, репетиций и выступлений должен быть не сухой, не пыльный, не холодный (охранная медицинская норма температуры воздуха не ниже +15 градуса по Цельс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градусник.jpg"/>
          <p:cNvPicPr/>
          <p:nvPr/>
        </p:nvPicPr>
        <p:blipFill>
          <a:blip r:embed="rId1"/>
          <a:stretch/>
        </p:blipFill>
        <p:spPr>
          <a:xfrm>
            <a:off x="928800" y="928800"/>
            <a:ext cx="2419200" cy="188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не петь в помещениях, где курят или курили. Старайтесь не курить сами. Алкоголь и никотин не улучшают состояние организма, зато разрушают вашу нервную 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запрещено курить.jpg"/>
          <p:cNvPicPr/>
          <p:nvPr/>
        </p:nvPicPr>
        <p:blipFill>
          <a:blip r:embed="rId1"/>
          <a:stretch/>
        </p:blipFill>
        <p:spPr>
          <a:xfrm>
            <a:off x="5357880" y="71424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0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и пение после еды затруднены, так как кроме механического воздействия полного желудка на дыхание (подпертая диафрагма), акт пищеварения требует прилива крови к пищеварительным органам. Этим понижается жизнедеятельность произвольных мышц гортани. Пауза после еды должна быть не менее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здоровая еда.jpg"/>
          <p:cNvPicPr/>
          <p:nvPr/>
        </p:nvPicPr>
        <p:blipFill>
          <a:blip r:embed="rId1"/>
          <a:stretch/>
        </p:blipFill>
        <p:spPr>
          <a:xfrm>
            <a:off x="500040" y="500040"/>
            <a:ext cx="3078360" cy="2452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часы.jpg"/>
          <p:cNvPicPr/>
          <p:nvPr/>
        </p:nvPicPr>
        <p:blipFill>
          <a:blip r:embed="rId2"/>
          <a:stretch/>
        </p:blipFill>
        <p:spPr>
          <a:xfrm>
            <a:off x="6643800" y="1285920"/>
            <a:ext cx="18748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6:20:04Z</dcterms:created>
  <dc:creator>Admin</dc:creator>
  <dc:description/>
  <dc:language>en-US</dc:language>
  <cp:lastModifiedBy>Настя</cp:lastModifiedBy>
  <dcterms:modified xsi:type="dcterms:W3CDTF">2020-05-19T06:44:54Z</dcterms:modified>
  <cp:revision>16</cp:revision>
  <dc:subject/>
  <dc:title>Правила и советы по гигиене голоса</dc:title>
</cp:coreProperties>
</file>