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0B2-D668-436D-9218-3D49A6A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D78-DBC8-4C35-A555-87760ADA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2AEB-0DFF-4EFC-8839-FCDE4F72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9E4FE-18A2-43E1-B143-BA52C36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61B85-2A85-4039-9126-B30F152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4A69-AB5B-4404-B92C-34B0585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C3584-A50D-4DE1-81A9-C191EDA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0961F-7AFA-4CB0-AD4E-CD6EF828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A0E2-6B89-4495-A90F-07B8CEB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46C0B-3952-491C-BCBC-067A3B9A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DF689-B133-4A40-AD5C-0422C6D7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316F9-CE28-4C67-B5F2-B6A9A5E1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AA0-45A8-48F4-A548-03675ABC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3D10-553F-45EA-9A5A-655E0E02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0542F-A6B6-43C3-98C6-C62CBC6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EA52-466C-44B0-AA29-29725783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E4C47-5A68-461E-9DB6-88E21267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39505-4BD2-4A18-9F5B-899A695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E5879-47CE-4478-9588-29BD768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EED95-14F5-4A6B-8C81-B7BA033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41EB7-D348-4019-A27B-24073B8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3651D-DA87-4EBE-9716-052A113A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9DACB-8759-4B9C-9A45-25F6FED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E6F-234A-44A3-8C81-AC3D2990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1A7FF-567D-4994-B348-2B7F7652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9E019-AFCD-48A7-AEB0-67AABBB6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1C9AE-8D13-4CAF-8B8B-6A7125EA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83C96-E8B1-4E66-BA64-B9AD3A6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4EF74-60B0-470D-9F92-22EBB272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9EE31-E136-47BD-A732-44A2B636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1EEC0-732D-4DA5-B3FC-6320C8B3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604C6-CFDB-4490-8EDA-97B3F6E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9D17B-C73D-4B3D-B05D-42033FF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7F55-4BDE-4649-A279-D5B03E1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705E-22D7-41AE-B1BC-FE924B6B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2C2DE-C6B3-4F5A-9AFB-F8FEDB7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E330F-1444-43D7-81FC-B4CC8F0B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240E-FB52-4092-A9E3-4C2BBD98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8AF89-6658-4D76-9599-31EF0770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D2964-7483-4B09-B591-E4B21FAA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78A36-023C-41FF-8F9C-190910B3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7C4B-B97D-44A6-8C48-3514281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9EA01-5FF4-465A-AC9C-E5AB52D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EB1E4-E9DA-4068-8E6D-F7391625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15B9F-F5A0-4E63-A26B-3C5DB0C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7D21-0F59-45AE-AA46-BC981C3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69056-7953-419C-BE37-70CAD99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829DB-8087-45E5-8E07-5EC5D90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DA0F4-B58B-4129-B973-984CF4D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91AE7-2885-41C8-9326-926D52E9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10766-5680-4318-A3CA-1BC1E6DA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ECC1F-1069-4EAC-B184-FAA15446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97D0A-76CA-47A2-B8F9-27B9A7AC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A7CCA-9119-40F9-9A4B-894E54F0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4014-D95F-445C-AC1A-B02312A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4B6CA-2B6A-4AE4-90C9-62EA55C8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300F-18D4-4EA7-8985-ACA80FB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309AC-E047-4D9D-8B40-D76C3EFC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945C1-434A-4115-8B0A-407EFEC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4CAB5-7016-4381-9B96-97FB7F4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96863-4A14-4320-B12B-A7617B63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504B0-D301-4209-8043-E6B5CD3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22DC8-84A1-4504-A992-9BFF6C34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D79DB-888F-459D-ABC6-3D53F4DB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C0A695-1643-4460-97CE-554A690A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AD733D-5244-4C17-8586-D4A78DFB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5925E8-033B-4315-9F82-9B9A2808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B23A-E586-41A1-A8AC-2A10002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0A1499-C6E1-485D-8AB6-6E5CEE19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9904B1-C1BB-4BC5-95E2-7F89EBC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CE1C72-D896-4ED1-86A8-1734D4E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E113CD-F34C-47AC-A958-3497D24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9048C-367D-4162-8FAB-D035D00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AEFDEF-5872-4902-B5F4-F19F7D0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7A9904-8FB1-43F6-9652-E9CCA39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EDA410-461C-40E5-B7C1-DE6C8A58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99480B-3B92-42AD-A65D-A99F652C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F9182-6FA1-4C72-96C9-0B100574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7864-29DA-498F-A282-AD513A1A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FA34F-47DE-4215-A4C1-9CD9257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7A4D9-BE24-4E50-8227-A6B87D4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F977B-F937-41D3-8EB3-620B7D1D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31561-CDB6-4DEA-97D9-4125D2B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C765B-7336-4411-87C7-4E05C4A9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F51FE-D242-438D-8B59-A43B303D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6EEF4-609D-44B6-9C17-0D024A6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DB6BC-311E-42BD-8F84-0C56CC8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E69A7-3F6B-4B58-A8C3-79E9F068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F89AF-897C-4D03-868B-9D2C6DB9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EBDD-697F-43E8-B73C-A4C512D2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CAD7A-4E49-45EC-B89D-E51C8227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64A1B-2643-4651-AC1E-87D05AD2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5332B-ED74-47BB-926A-B347E009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DCCF4-888C-4467-A253-E0CFC8E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B1B10-08AF-4A0D-95FE-8BDA1E96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6D13D-27D2-4235-BB54-94522AF2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18359-EAD0-46D9-8899-D7B05182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8963B-3E48-4421-8164-D110DD3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B9004-14A0-40E7-AF3B-EB7D86E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EB557-3255-471C-BA7F-85405A9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DFE1-A61A-4EED-952C-350F68D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E8235-EB89-466A-9244-02333C9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D7E26-683B-4D72-A581-20827A8C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F74B6-8F2E-48C4-8C9A-A6F5EF31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9C11B-6838-40BB-AAB2-3A4092BD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CF77D-E4CC-4A94-8018-5215C05A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4DB23-0FF6-466B-9236-02B1777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F6AB6-A695-4F9A-A68B-0EF3A14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67C2E-6539-40FA-90D0-F1A6446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D7015-5A51-4028-BC17-274EC07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90559-0AB9-4824-A8A6-BE84148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9E6-2304-4079-A353-11C8FCC5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5AE-3729-456E-9F65-DDC2DF4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8D11F-D3FB-4864-B425-8579CCA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D5AB8-5E67-4439-93F8-91C5CE4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E13A6-CAB3-4626-BF80-9BBBF706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2B349-1319-482B-9C0A-710760AC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E7B67-6D67-49DD-B380-1AAFF6DE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40819-A261-4281-B785-DEA6223A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D281B-CF65-4714-9F96-B3BD24D0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0F2EB-F7F2-424D-9825-529D811F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81FD3-9CD9-455D-A12C-29D638B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9917C-953B-40EB-8D9E-61B3051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FF2D-76EA-4211-84B7-25750CC7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201C5-7C99-4909-BFC9-FFCE5452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DED96-6874-4331-96BC-83A6E235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C6795-EC8B-43E1-AA64-21F6B71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8EAE2B-F20D-4CFF-84A0-9C4E318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C526A-0D80-4148-B959-764E1BB3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E99C4-923C-4102-9081-7E754928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2157B-C30F-4D69-9B25-074BA04F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AA69A-842C-4251-A336-FF6763C0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1F92D-CFCF-4CC6-BFF3-62A00FAF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F602F-80CD-4581-9A63-DACB8C1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293-4B57-479B-9F1B-E8E9AB3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81F22-EB6A-4BC7-8BF7-A751CDB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EB7DC-8855-49C5-A8ED-B90CBC18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23474-834E-4C07-98E6-559EC14D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B738B-9F48-4B04-A955-A1A6F79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F3D79-9D28-46D2-A186-B2E0410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9FCA9-387C-4511-887D-BEBFFBA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2884F-F66B-459E-AC36-8D110D7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F77E6-39CE-49DC-8F20-25D5683E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2AB85-D714-4C87-AE3B-3113EB46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BE6F5-82C0-407C-9683-24797355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7312-62E4-4D77-A7D1-DE7238AC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1881A-863E-4A7C-9BE0-2FB9C9D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51AAA-55D6-4F6E-9611-6568FD4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99D29-EC74-4B25-8293-65BEA503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52BE3-8E30-48A1-99FE-546DBC79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D58EC-4199-49BB-B3BB-F7DCEADF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8ECA0-A4BD-433B-BDD7-1E8E4BA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4D153-86F8-4F19-BCF3-523E982E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EF075-A224-4089-BF45-3A95F79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1D421-BE52-4742-B896-76608A21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0AF72-629A-4AFA-8D01-D2B3CA8B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7FF8-8DA7-476C-8D75-F3C47AD8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95610-D3E3-4815-83EC-C18FF655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1B3F6-77CE-4513-9263-B843782E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40A88C-7200-414B-812F-8FDABE9E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CD8AD-3A0D-4C9C-9759-846F818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5B8A5-5813-483F-89C2-6400690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6D9CA-E3FB-4CAC-A104-653708D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4EB2FA-2884-48F5-A605-58F7506B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988B0-53E3-4D74-AB03-55B970B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797C0-9AF8-47CC-87A8-5DE729C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6B2B0-CA7E-4AC9-9CF5-C1CE6F2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1540-C190-4E45-8CE7-39C3A1A8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14199-1DFA-4494-A8B6-D14A49D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58FFC-55E1-4225-A44B-FF98BE4B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400A9-B025-4E7A-9FEC-D59D6B6F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01080-0378-4F66-9FAE-4DF15092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063F4-FD6A-4801-8F24-E19527A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C8043-A964-46D2-BA72-C9C41696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BE3FCA-E17F-4ACA-BE8A-351E3D2B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9A546B-FFDC-420F-A65D-3C4DB5C1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363E0-B39D-4F28-9114-0A513FF2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BD4FB7-37B1-45B7-B38E-D132ED0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AF87-3662-4817-A420-BEB8EC50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C81F5-D95F-48EB-A97D-C1EA3A7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D1E4FC-6F05-40E4-A2A8-44528A4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9C2CE-6D51-4AAE-803A-4DDE66D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626053-0497-4122-BCF9-5857F2D5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14479-57B2-423C-B13D-103430FC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7EFA74-C36C-4E16-881E-6AAB8561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A1E73-77B0-4BBF-8F84-769B5A2C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84229-3DFE-4D26-98EB-122D1E1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2995C3-B0E8-454F-B9EA-68F080C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35EBC-9E7B-4B48-A4E3-E2FA41A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80E5-6E72-49A9-827A-6C9679BF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9C5AC1-D96F-4D97-A76F-9053DFA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1814DA-6046-4391-BCCF-B0FE413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F9510-B711-42A8-A5A4-4FD0BD43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5A3C27-5117-449E-B3CD-D34D2AB5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EF372C-ADC0-47E7-BFA7-54FB2380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7446CD-403D-4598-A025-E0AE79CA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B774DC-B4CC-4963-889A-79BF3730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5685AB-B248-4AB6-930F-6CF35278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BACB99-4414-4873-9D9F-E6480EE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70884-0122-4C64-AC7C-E94F2A5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4FA8-E72D-47AB-B595-966159D1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0FD119-8E63-4C05-A4A7-A968A2E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627416-0F07-481D-BFDA-6597828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630BEE-67B8-4F1A-9A02-8C61758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279497-0812-49B2-93E8-A75F959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6B29BB-084F-486E-9793-6806B4F3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CE4AFB-D819-46ED-B6FE-089F698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4284CF-1D56-4A22-BE5A-BFED7E65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716198-BABE-4A65-9F1A-77E0E463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AEA20-6530-46C7-96BF-C007D591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482E26-F9D9-48F0-8700-33EB2CEF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6CD7-4EFF-412D-AF9C-3E1FF8AB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22A748-A52D-41D2-95DD-9B581F4C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FC7182-02BA-428F-A999-79C217F7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63981D-2911-495D-BAF6-AD0D7790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48F72F-28D4-4802-94BF-2CE703F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CC3E7E-BE4B-4666-B559-CE51911B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583D2-97F8-4DCF-A62B-52554491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5EEA3A-D764-42F7-B4ED-A800390B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0648B7-480D-46D7-BB34-C1426D9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FE387E-44AD-4D44-A668-3F9A944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8B943D-4AC6-4CAC-A6F6-7361012A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E4F-FCE2-4866-A12D-2B4F57E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EF2C-0065-4253-BF37-5288BF4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1B037E-75D0-4658-A76C-69224154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210A-D1FB-4B1F-9AFE-CA1993E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5D9F-3225-4FE9-829F-35A2D5A9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E58D-F04E-4C9E-89AE-3025E674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39B2-1BB7-4A75-9F2A-45E0067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AF07-B4C8-4627-B35C-E61DE2B5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5866-B98D-4940-81F5-3F9A3940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B722-449A-44DD-B8D0-3C528046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6DCD-FA8F-46C5-9E94-8A98F7E1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F01C-D805-402A-9D43-BAE467A1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B25-434B-455C-843F-6CC7E013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CB4E-C77F-4839-8CB1-9873F24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8107-C7F7-4444-8E07-272774B4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4BBB-0C74-4DF5-88AF-1528E3C5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B394-3903-4EAC-A73E-DE71E33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6D18-FC81-4F4C-A38C-7193E2F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64C5-F6E0-4953-B7A1-7D5C15A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8BA1-5213-41DB-9BF6-EE58E6A4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8120-822D-4728-9287-86C4E7D4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6178-65CD-4347-9C52-27A5BAA3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11E6-2968-493D-AE67-FE829A3E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522-C849-40D6-ABD9-488AEB8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B3487-9AB9-401B-BDA0-CD7EF34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2D87-E6A3-4EA5-9F60-E514519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46AB-23FC-49E3-B991-490E9F4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CE30-6126-4572-86F9-CBE85BEC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32A7-3EC6-41AC-8041-9F035CB6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1798-9B75-40C3-9994-C0104108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37F16-9357-49E4-8CAF-4FBE26C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40C5-4820-4AE7-A546-6C350AA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BE94-796B-4346-8580-3A42C5C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9A79-18AC-41BF-B004-3017645C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044-E81F-4C46-A7CA-E5CE3913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0FB72-CB1B-48B6-BE91-BD631B2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A4917-2288-44E5-A5F1-9E30C371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EC38-584E-493F-8A00-7C7F35AE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3BB9-9D0B-4219-92E7-3A69708B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54CDC-09CA-4BAD-A1D5-9B199CE1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E354-5203-477F-9219-A0956F04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6736-D8C2-40FA-B9ED-B307AEF6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6ADF-E52C-453A-9BEE-50039E6C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98B9-FAEB-4F2D-9FB9-BDDDA16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F0ED3-896D-4113-B205-E3F995A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81F-E118-4E0C-8DFD-74751E4A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8E864-AEEB-413A-8D4C-1EB4DF0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01AD-2E09-494B-B25C-85661EFA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A2707-7D07-4123-A2F2-9AD274D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41C45-0BCE-44D2-A0AB-8FC6FD47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78983-4CB6-4404-A040-AF844DDA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D7CA6-ED8A-4F9C-9E71-D1AF82B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B4708-2C87-414C-B034-76EBD39F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A4E4-B056-4D45-82FA-39A433D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CD50-5823-4A38-A6B2-41CC471F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6EAF-62D9-453D-98D6-7370472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498-5649-4F72-9EBC-CFD09A5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62FC9-25DE-478F-A8BC-E2C82AE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1701-39C3-4480-8F38-C835C33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174E-27FE-4B1C-8F91-A8CBC21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1614-DBA0-4965-91DC-56B61239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C0C4-6C2A-4E59-ABB2-EA6D63BB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4528-9942-49CD-AEBF-DB8B7064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4D75-6D4A-4F9A-B308-D23E2D2C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7B216-DBF5-42A1-863F-0464D602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579E3-2DAF-4870-846A-E2B2AF0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AE0D7-30F3-4609-A7F0-6821353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FF4-875B-4FCE-B32C-41B9AC15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F3E7F-11EA-4E33-9700-4C9469D7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0F781-F1BC-4EFC-AE75-F9510A0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0652-3E67-4C64-B1B1-FB73CEA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C90B5-2856-4CC9-A032-C7C89A7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EA4C-1B7C-4157-A3C9-94BFF74B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A5EE-697A-42FD-92B2-21630FA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AF67-861D-4007-83CF-026B880B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E7466-340D-457F-A2B1-0C42BF6B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F2627-6FCE-4690-8928-F1176FC4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ECA0A-36F2-47FC-9158-0847AC27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929-70CB-4483-B9A5-F940482FF6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424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427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5D88-72BD-4281-B98C-0BF9C0C0B1D5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477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B2C-3717-4EAD-BB41-CC0831AED37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FB29-86A0-4F95-9192-5EA8CDBB244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569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CAE4-9521-4D64-AB8B-D9DA21F9C0C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616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B912-4856-4249-9E29-C67FAEBDE16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843-E4A6-476D-979F-F31F4579EF8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6482-5345-4CB9-A508-717BC36E4A7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75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160C-9D0E-4E52-93DC-5CF76BF63D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515-BA1A-42D7-BAE3-EFCC79B9DA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A9D9-69B7-44FA-84B9-8EA6138F5A5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5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30B-6875-42BE-8F95-31A6EB80F2EA}" type="slidenum"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9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89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82E-F70D-4D1D-803C-A25ED96F0A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94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A3E-64E0-436A-A60B-B0A695D1F2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7A5-B0AA-441A-A418-5B0B06CB40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BDA1-9FB4-46DC-9846-A3426E20A6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FC1E-FBDD-424B-BA6B-5E02DE4720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11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D9BD-1427-4722-87E6-C9354F749B8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C37-0433-447E-85A0-941FDF90C6A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01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702-BA25-4350-9CD6-301BFD08CD8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A7B6-AB9D-488E-A643-6D139A7965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5BF-13F5-4700-A3C1-0970CB80AFA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D1BC-AAB6-42F5-8251-E23FE455A73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3EFF-B44F-42D5-9C6F-2D0BC829833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378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4708-B05B-416A-80F0-735374F82B29}" type="slidenum"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7164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1258920" y="400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Труд и право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. Право граждан на труд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4" name="Rectangle 4"/>
          <p:cNvSpPr/>
          <p:nvPr/>
        </p:nvSpPr>
        <p:spPr>
          <a:xfrm>
            <a:off x="1042920" y="981000"/>
            <a:ext cx="7705800" cy="50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во на тр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дно из экономических прав челов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4859280" y="148428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6"/>
          <p:cNvSpPr/>
          <p:nvPr/>
        </p:nvSpPr>
        <p:spPr>
          <a:xfrm>
            <a:off x="1042920" y="1844640"/>
            <a:ext cx="7705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татье 37 Конституции России закреплено «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во на труд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словиях, отвечающих требованиям безопасности и гиги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1042920" y="2708280"/>
            <a:ext cx="3529080" cy="649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бода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9"/>
          <p:cNvSpPr/>
          <p:nvPr/>
        </p:nvSpPr>
        <p:spPr>
          <a:xfrm>
            <a:off x="5219640" y="2708280"/>
            <a:ext cx="3529080" cy="649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рещение принуди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0"/>
          <p:cNvSpPr/>
          <p:nvPr/>
        </p:nvSpPr>
        <p:spPr>
          <a:xfrm>
            <a:off x="1042920" y="3500280"/>
            <a:ext cx="3529080" cy="649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рещение дискрими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фер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1"/>
          <p:cNvSpPr/>
          <p:nvPr/>
        </p:nvSpPr>
        <p:spPr>
          <a:xfrm>
            <a:off x="5219640" y="3500280"/>
            <a:ext cx="3529080" cy="649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раведливые условия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2"/>
          <p:cNvSpPr/>
          <p:nvPr/>
        </p:nvSpPr>
        <p:spPr>
          <a:xfrm>
            <a:off x="1042920" y="4292640"/>
            <a:ext cx="7777080" cy="43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щита от безработицы и содействие в трудоустройст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1042920" y="4869000"/>
            <a:ext cx="7777080" cy="64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рава каждого работника на своев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в полном размере выплату справедливой заработной пла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4"/>
          <p:cNvSpPr/>
          <p:nvPr/>
        </p:nvSpPr>
        <p:spPr>
          <a:xfrm>
            <a:off x="1042920" y="5661000"/>
            <a:ext cx="7777080" cy="649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рава работников и работодателе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динение для защиты своих прав и законных интере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2.Трудовые правоотношен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1042920" y="1052640"/>
            <a:ext cx="770580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рудовые прав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это отношения, осно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оглашении меж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аботник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аботодател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 лич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ении работником за плату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6"/>
          <p:cNvSpPr/>
          <p:nvPr/>
        </p:nvSpPr>
        <p:spPr>
          <a:xfrm>
            <a:off x="1042920" y="2349360"/>
            <a:ext cx="2305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7"/>
          <p:cNvSpPr/>
          <p:nvPr/>
        </p:nvSpPr>
        <p:spPr>
          <a:xfrm>
            <a:off x="1042920" y="4076640"/>
            <a:ext cx="2305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8"/>
          <p:cNvSpPr/>
          <p:nvPr/>
        </p:nvSpPr>
        <p:spPr>
          <a:xfrm>
            <a:off x="1042920" y="3213000"/>
            <a:ext cx="2305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9"/>
          <p:cNvSpPr/>
          <p:nvPr/>
        </p:nvSpPr>
        <p:spPr>
          <a:xfrm>
            <a:off x="3419640" y="2349360"/>
            <a:ext cx="5329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НИК и РАБОТОД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0"/>
          <p:cNvSpPr/>
          <p:nvPr/>
        </p:nvSpPr>
        <p:spPr>
          <a:xfrm>
            <a:off x="3419640" y="3213000"/>
            <a:ext cx="5329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ЗУЛЬТАТЫ ТРУ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1"/>
          <p:cNvSpPr/>
          <p:nvPr/>
        </p:nvSpPr>
        <p:spPr>
          <a:xfrm>
            <a:off x="3419640" y="4076640"/>
            <a:ext cx="5329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АИМНЫ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2"/>
          <p:cNvSpPr/>
          <p:nvPr/>
        </p:nvSpPr>
        <p:spPr>
          <a:xfrm>
            <a:off x="1042920" y="4941720"/>
            <a:ext cx="7705800" cy="136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снованием возникновения трудового правоотнош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ется такой юридический факт,  как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клю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рудового догово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фактический допуск к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3. Трудовой договор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4" name="Rectangle 4"/>
          <p:cNvSpPr/>
          <p:nvPr/>
        </p:nvSpPr>
        <p:spPr>
          <a:xfrm>
            <a:off x="1042920" y="907920"/>
            <a:ext cx="7777080" cy="64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Times New Roman"/>
              </a:rPr>
              <a:t>Трудовой договор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- соглашение между работодателем и работником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анавливающее их взаимные права и обяз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168720" cy="2246400"/>
          </a:xfrm>
          <a:prstGeom prst="rect">
            <a:avLst/>
          </a:prstGeom>
          <a:ln w="0">
            <a:noFill/>
          </a:ln>
        </p:spPr>
      </p:pic>
      <p:sp>
        <p:nvSpPr>
          <p:cNvPr id="1216" name="Rectangle 6"/>
          <p:cNvSpPr/>
          <p:nvPr/>
        </p:nvSpPr>
        <p:spPr>
          <a:xfrm>
            <a:off x="4211640" y="1773360"/>
            <a:ext cx="4608360" cy="1295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Трудовой договор заключается 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пределенный срок (бессроч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рок до 5 лет (сроч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ремя выполнения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7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3093840" cy="237960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8"/>
          <p:cNvSpPr/>
          <p:nvPr/>
        </p:nvSpPr>
        <p:spPr>
          <a:xfrm>
            <a:off x="1042920" y="3933720"/>
            <a:ext cx="4537080" cy="64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овой договор заключается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-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экземпля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9"/>
          <p:cNvSpPr/>
          <p:nvPr/>
        </p:nvSpPr>
        <p:spPr>
          <a:xfrm>
            <a:off x="4211640" y="3141720"/>
            <a:ext cx="460836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пытательный сро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- до 3 месяцев,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месяцев – для руководящих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10"/>
          <p:cNvSpPr/>
          <p:nvPr/>
        </p:nvSpPr>
        <p:spPr>
          <a:xfrm>
            <a:off x="1042920" y="4653000"/>
            <a:ext cx="4537080" cy="1655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словиями трудового договора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и дата начала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а и обязанности работник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одателя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жим труда и отдыха, условия оплаты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4. Рабочее врем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2" name="Rectangle 3"/>
          <p:cNvSpPr/>
          <p:nvPr/>
        </p:nvSpPr>
        <p:spPr>
          <a:xfrm>
            <a:off x="1042920" y="907920"/>
            <a:ext cx="770580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Рабочее врем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время,  в течение которого работник обяз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ять свои трудовые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1042920" y="1628640"/>
            <a:ext cx="2376720" cy="1079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орма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5"/>
          <p:cNvSpPr/>
          <p:nvPr/>
        </p:nvSpPr>
        <p:spPr>
          <a:xfrm>
            <a:off x="1042920" y="2852640"/>
            <a:ext cx="2376720" cy="1728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кращ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олная опл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6"/>
          <p:cNvSpPr/>
          <p:nvPr/>
        </p:nvSpPr>
        <p:spPr>
          <a:xfrm>
            <a:off x="1042920" y="4653000"/>
            <a:ext cx="2376720" cy="1655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пол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еполная опл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3564000" y="1628640"/>
            <a:ext cx="5184720" cy="1079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0 ча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3564000" y="2852640"/>
            <a:ext cx="5184720" cy="1728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Менее нормального, но с полной оплат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16 лет – не боле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а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6-18 лет - не более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3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валиды 1-й и 2-й групп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не более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3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работах с вредными и (или) опас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ми труда – не боле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9"/>
          <p:cNvSpPr/>
          <p:nvPr/>
        </p:nvSpPr>
        <p:spPr>
          <a:xfrm>
            <a:off x="3564000" y="4653000"/>
            <a:ext cx="5184720" cy="1655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еполное рабочее время вводится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оглашению между работодателем и работн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 беременные женщины, один из родител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еющий ребенка в возрасте до 14 лет, л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уществляющего уход за больным чле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мь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5. Время отдых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0" name="Rectangle 4"/>
          <p:cNvSpPr/>
          <p:nvPr/>
        </p:nvSpPr>
        <p:spPr>
          <a:xfrm>
            <a:off x="971640" y="836640"/>
            <a:ext cx="784836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емя отдых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это часть свободного от работы времени, в т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торого работник освобождается от выполнения своих труд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5"/>
          <p:cNvSpPr/>
          <p:nvPr/>
        </p:nvSpPr>
        <p:spPr>
          <a:xfrm>
            <a:off x="971640" y="1916280"/>
            <a:ext cx="2089080" cy="649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рер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132000" y="1916280"/>
            <a:ext cx="5688000" cy="649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денный перерыв от 1 до 2 часов в день и 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7"/>
          <p:cNvSpPr/>
          <p:nvPr/>
        </p:nvSpPr>
        <p:spPr>
          <a:xfrm>
            <a:off x="971640" y="2637000"/>
            <a:ext cx="208764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8"/>
          <p:cNvSpPr/>
          <p:nvPr/>
        </p:nvSpPr>
        <p:spPr>
          <a:xfrm>
            <a:off x="3132000" y="2637000"/>
            <a:ext cx="56880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ни еженедельного отды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уббота, воскресень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9"/>
          <p:cNvSpPr/>
          <p:nvPr/>
        </p:nvSpPr>
        <p:spPr>
          <a:xfrm>
            <a:off x="971640" y="3429000"/>
            <a:ext cx="208764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здн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"/>
          <p:cNvSpPr/>
          <p:nvPr/>
        </p:nvSpPr>
        <p:spPr>
          <a:xfrm>
            <a:off x="3132000" y="3429000"/>
            <a:ext cx="56880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чень праздничных дней дан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К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1"/>
          <p:cNvSpPr/>
          <p:nvPr/>
        </p:nvSpPr>
        <p:spPr>
          <a:xfrm>
            <a:off x="971640" y="4221000"/>
            <a:ext cx="208764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т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2"/>
          <p:cNvSpPr/>
          <p:nvPr/>
        </p:nvSpPr>
        <p:spPr>
          <a:xfrm>
            <a:off x="3132000" y="4221000"/>
            <a:ext cx="56880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годный оплачиваемый отпус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имальная продолжительность - 28 д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3"/>
          <p:cNvSpPr/>
          <p:nvPr/>
        </p:nvSpPr>
        <p:spPr>
          <a:xfrm>
            <a:off x="3132000" y="5084640"/>
            <a:ext cx="568800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пуск по беременности и род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декретный отпуск) – 7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4"/>
          <p:cNvSpPr/>
          <p:nvPr/>
        </p:nvSpPr>
        <p:spPr>
          <a:xfrm>
            <a:off x="3132000" y="5734080"/>
            <a:ext cx="5688000" cy="574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пуск по уходу за ребёнк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0 дней и д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6. Дисциплинарная ответственность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2" name="Rectangle 4"/>
          <p:cNvSpPr/>
          <p:nvPr/>
        </p:nvSpPr>
        <p:spPr>
          <a:xfrm>
            <a:off x="1042920" y="981000"/>
            <a:ext cx="7705800" cy="1511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исциплинарная ответствен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- вид юридической ответствен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м содержанием которой выступают меры (дисциплина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ыскание), применяемые администрацией учреждения, предпри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отруднику (работнику) в связи с совершением им дисциплина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туп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"/>
          <p:cNvSpPr/>
          <p:nvPr/>
        </p:nvSpPr>
        <p:spPr>
          <a:xfrm>
            <a:off x="1042920" y="2637000"/>
            <a:ext cx="2808360" cy="36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татьёй 192 Трудовог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кодекса предусмотрен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ледующие ви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дисциплинарны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взыск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меч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гово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вольн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6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778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ГРАЖДАНСКИЕ ПРАВООТНОШЕН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1247" name="Picture 2" descr="https://autogear.ru/misc/i/gallery/19663/602308.jpg"/>
          <p:cNvPicPr/>
          <p:nvPr/>
        </p:nvPicPr>
        <p:blipFill>
          <a:blip r:embed="rId1"/>
          <a:stretch/>
        </p:blipFill>
        <p:spPr>
          <a:xfrm>
            <a:off x="3132000" y="189000"/>
            <a:ext cx="2687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СУЩНОСТЬ ГРАЖДАНСКОГО ПРАВ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539280" y="1752480"/>
            <a:ext cx="814716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Гражданское право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— отрасль права, объединяющая правовые нормы, регулирующие имущественные, а также связанные и несвязанные с ними личные неимущественные отношен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ВИДЫ ГРАЖДАНСКИХ ПРАВООТНОШЕНИЙ </a:t>
            </a:r>
            <a:r>
              <a:rPr b="0" lang="ru-RU" sz="2000" spc="-1" strike="noStrike">
                <a:solidFill>
                  <a:srgbClr val="6b7d72"/>
                </a:solidFill>
                <a:latin typeface="Book Antiqua"/>
              </a:rPr>
              <a:t>УЧЕБНИК СТР. 124 ПРИВЕДИТЕ ПРИМЕРЫ.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1" name="Прямоугольник 8"/>
          <p:cNvSpPr/>
          <p:nvPr/>
        </p:nvSpPr>
        <p:spPr>
          <a:xfrm>
            <a:off x="539640" y="1773360"/>
            <a:ext cx="3527640" cy="93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9"/>
          <p:cNvSpPr/>
          <p:nvPr/>
        </p:nvSpPr>
        <p:spPr>
          <a:xfrm>
            <a:off x="5148360" y="1773360"/>
            <a:ext cx="3240000" cy="93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Личные неимущ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10"/>
          <p:cNvSpPr/>
          <p:nvPr/>
        </p:nvSpPr>
        <p:spPr>
          <a:xfrm>
            <a:off x="0" y="2924280"/>
            <a:ext cx="1944720" cy="17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Вещ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по поводу вещей, ценных бум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11"/>
          <p:cNvSpPr/>
          <p:nvPr/>
        </p:nvSpPr>
        <p:spPr>
          <a:xfrm>
            <a:off x="2124000" y="2924280"/>
            <a:ext cx="2519280" cy="20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язатель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по поводу передачи имущества, выполнения работ, оказания услу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оугольник 12"/>
          <p:cNvSpPr/>
          <p:nvPr/>
        </p:nvSpPr>
        <p:spPr>
          <a:xfrm>
            <a:off x="4859280" y="2924280"/>
            <a:ext cx="2233800" cy="26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аво на интеллектуальную собственность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 в том числе на результ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втоном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атент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13"/>
          <p:cNvSpPr/>
          <p:nvPr/>
        </p:nvSpPr>
        <p:spPr>
          <a:xfrm>
            <a:off x="7236000" y="2924280"/>
            <a:ext cx="1800000" cy="20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Лич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жизнь, здоровье, честь, достоинство, им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Скругленный прямоугольник 14"/>
          <p:cNvSpPr/>
          <p:nvPr/>
        </p:nvSpPr>
        <p:spPr>
          <a:xfrm>
            <a:off x="0" y="5084640"/>
            <a:ext cx="2700360" cy="177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Недвижимые и движимые (делимые и неделим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Скругленный прямоугольник 15"/>
          <p:cNvSpPr/>
          <p:nvPr/>
        </p:nvSpPr>
        <p:spPr>
          <a:xfrm>
            <a:off x="2808360" y="5732640"/>
            <a:ext cx="6335640" cy="112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Обязательства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– один из участников обязан совершать в пользу другого определенные действия (работа, передать имущество)или воздержаться от тако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ейное право - эт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85840" y="2143080"/>
            <a:ext cx="88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а  правовых норм, регулирующих личные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изводные от них  имущественные отношения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никающие из брака, кровного родства, принятия детей в семью на воспит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УЧАСТНИКИ (СУБЬЕКТЫ) ГРАЖДАНСКОГО ПРАВ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Физические лиц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еловек как субъект права (носитель прав и обязанностей) – 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правосубъектность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(может стать участником правоотношения)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Граждане РФ, иностранные граждане, лица без гражданств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Юридические лиц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это субъект права, созданная и зарегистрированная в установленном законом порядке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организац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1264" name="Picture 2" descr=""/>
          <p:cNvPicPr/>
          <p:nvPr/>
        </p:nvPicPr>
        <p:blipFill>
          <a:blip r:embed="rId1"/>
          <a:stretch/>
        </p:blipFill>
        <p:spPr>
          <a:xfrm>
            <a:off x="5661000" y="4797360"/>
            <a:ext cx="2232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Прямоугольник 6"/>
          <p:cNvSpPr/>
          <p:nvPr/>
        </p:nvSpPr>
        <p:spPr>
          <a:xfrm>
            <a:off x="179280" y="47628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де́лк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— действия физических и юридических лиц, направленные на установление, изменение или прекращение гражданских прав и обязан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4" descr="https://newfranchise.ru/wp-content/uploads/2018/06/12.png"/>
          <p:cNvPicPr/>
          <p:nvPr/>
        </p:nvPicPr>
        <p:blipFill>
          <a:blip r:embed="rId1"/>
          <a:stretch/>
        </p:blipFill>
        <p:spPr>
          <a:xfrm>
            <a:off x="179280" y="4797360"/>
            <a:ext cx="2686320" cy="1785960"/>
          </a:xfrm>
          <a:prstGeom prst="rect">
            <a:avLst/>
          </a:prstGeom>
          <a:ln w="0">
            <a:noFill/>
          </a:ln>
        </p:spPr>
      </p:pic>
      <p:sp>
        <p:nvSpPr>
          <p:cNvPr id="1267" name="Прямоугольник 7"/>
          <p:cNvSpPr/>
          <p:nvPr/>
        </p:nvSpPr>
        <p:spPr>
          <a:xfrm>
            <a:off x="3780000" y="2292480"/>
            <a:ext cx="4824360" cy="401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изнаки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делка — всегда волевой акт, то есть действи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то правомерн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делка специально направлена на возникновение, прекращение или изменение гражданских правоотношений, таким образом сделка это юридический ф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делка порождает гражданские правоотношения (не только для её участников, но иногда — «сделки в пользу третьего лиц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ВИДЫ ДОГОВОРОВ И ГРАЖДАНСКАЯ ДЕЕСПОСОБНОСТЬ НЕСОВЕРШЕННОЛЕТНИХ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9" name="Прямоугольник 2"/>
          <p:cNvSpPr/>
          <p:nvPr/>
        </p:nvSpPr>
        <p:spPr>
          <a:xfrm>
            <a:off x="250920" y="1773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гово́р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— «соглашение двух или более лиц об установлении, изменении или прекращении гражданских прав и обязанностей» (ст. 420 Гражданского кодекса Российской Федер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"/>
          <p:cNvPicPr/>
          <p:nvPr/>
        </p:nvPicPr>
        <p:blipFill>
          <a:blip r:embed="rId1"/>
          <a:stretch/>
        </p:blipFill>
        <p:spPr>
          <a:xfrm>
            <a:off x="274680" y="3500280"/>
            <a:ext cx="8510400" cy="32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дминистративные правоотношения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273" name="Picture 2" descr="C:\Users\Виктор\Desktop\09.jpg"/>
          <p:cNvPicPr/>
          <p:nvPr/>
        </p:nvPicPr>
        <p:blipFill>
          <a:blip r:embed="rId1"/>
          <a:stretch/>
        </p:blipFill>
        <p:spPr>
          <a:xfrm>
            <a:off x="3635280" y="3284640"/>
            <a:ext cx="540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министративное право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179280" y="1447920"/>
            <a:ext cx="633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отрасль права, которая регулирует общественные отношения с сфере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государственного управлени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те общественные отношения, которые складываются в процессе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осуществления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исполнительной власт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76" name="Picture 2" descr="C:\Users\Виктор\Desktop\75675-1-326x235.jpg"/>
          <p:cNvPicPr/>
          <p:nvPr/>
        </p:nvPicPr>
        <p:blipFill>
          <a:blip r:embed="rId1"/>
          <a:stretch/>
        </p:blipFill>
        <p:spPr>
          <a:xfrm>
            <a:off x="5940360" y="2492280"/>
            <a:ext cx="3105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Особенности административного права в сравнении с другими отраслями права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68000" y="1447560"/>
            <a:ext cx="8218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Распространяются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на все сферы жизни людей, так как во всех сферах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осуществляется функция управл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Поэтому нормы административного права связаны с другими отраслями пра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. Предписания (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лавные юридические обязанности)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которые содержат нормы административного права всегда носят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ластный, императивный характер(строго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язательный характер), т.к. исходят от представителей власт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Субъекты административных правоотношений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осударственные органы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сполнительной власт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правительство, правоохранительные органы, министерства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органы местного самоуправл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оммерческие и некоммерческие организац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в том числе общественные объединения, религиозные организации (имеют регистрацию и  лицензию и вступают в административные правоотношения с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сполнительной властью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должностные л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отдельные граждане(вступаю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 правоотношения, осуществляя свои административные права (медицинской помощи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ормы административного права регулируют общественные отношения и поведение людей в форме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395280" y="170028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Запрет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становление требования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е совершать (воздержаться) от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определённых действ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редписани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главные юридические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бязанност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) – установление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бязанности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овершать определённые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действия,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которые устанавливаются для всех без исключения субъектов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Дозволени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предоставление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ава на совершение определённых положительных действий по своему усмотрению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право на имя, защиту, на разные виды помощ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). Составляют основную часть административного пра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Виды административных правонарушений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отив личност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посягающие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а прав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граждан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нарушение законодательства о труде и правил охраны труда, санитарно-гигиенических норм, проведение агитации в период её запрещения, распространение ложных сведений о кандидате и др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ягающие на собствен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нарушение прав государственной собственности на недра, воды, леса, животный мир, мелкие хищения государственной собственности и общественного имущества, уничтожение и повреждение чужого имуществ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914400" y="333360"/>
            <a:ext cx="77724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ягающие на общественный поряд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законное приобретение и хранение наркотических средств в небольших размерах, мелкое хулиганство, азартные игры, распитие спиртных напитков в общественных местах, не предназначенных для этих целей, появление в общественных местах в пьяном виде, оскорбляющем человеческое достоинство и общественную нравственность, доведение несовершеннолетнего до состояния опьянения, безбилетный проезд на транспорте, действия, угрожающие безопасности движения на транспорте, превышение установленной скорости движения, незаконная продажа товаров, обман потребителей, нарушение таможенных прави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Arial"/>
              </a:rPr>
              <a:t>Принципы семей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837720" y="148392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вноправие гражд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вноправие мужчины и женщи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динобрач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и добровольность заключения бра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и добровольность расторжения бра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ная забота членов семь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щита семьи со стороны государ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дебная защита прав членов семь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граничение прав членов семьи только на основании федерального закона (лишение родительских прав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 области охраны окружающей среды и памятников культу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незаконная порубка и повреждение деревьев, самовольный сбор дикорастущих плодов, орехов, грибов, ягод в запрещённых местах; засорение лесов бытовыми отходами и отбросами; нарушение правил охоты, рыбной ловли, пожарной безопасности в лесах и др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Меры административной ответственности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914400" y="144756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348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редупреждение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письменное постановление, в котором выносится официальное порицание должностным лицом или государственным органом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348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Административный 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штраф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денежное взыскание, назначаемое чаще всего в размере, кратном МРОТ). Штраф и предупреждение являются наиболее часто применяемыми видами наказаний за административные правонаруш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348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Лишение 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специального права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напр., права управления транспортным средством, права охоты и т.д. на срок от 1 месяца до 2 лет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348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Конфискация орудия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 совершения административного правонарушения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без возврата его стоимости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3484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91440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Возмездное изъятие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рудия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совершения административного правонарушения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(напр., нарушение правил приобретения или хранения охотничьего ружья влечет его изъятие, продажу и возвращение части его стоимости бывшему владельцу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mbria"/>
              </a:rPr>
              <a:t>Административный 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арест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лишение свободы на срок до 15 суток). Может быть применен за мелкое хулиганство, неповиновение сотруднику полиции и другие правонаруш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mbria"/>
              </a:rPr>
              <a:t>Административное 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выдворение</a:t>
            </a:r>
            <a:r>
              <a:rPr b="1" lang="ru-RU" sz="2200" spc="-1" strike="noStrike">
                <a:solidFill>
                  <a:srgbClr val="ff0000"/>
                </a:solidFill>
                <a:latin typeface="Cambria"/>
              </a:rPr>
              <a:t> за пределы РФ иностранного гражданина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принудительное перемещение иностранцев за пределы России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Дисквалификация</a:t>
            </a:r>
            <a:r>
              <a:rPr b="1" lang="ru-RU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(лишение физического лица права занимать руководящие должности в управлении юридического лица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3394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Text Box 9" descr=""/>
          <p:cNvPicPr/>
          <p:nvPr/>
        </p:nvPicPr>
        <p:blipFill>
          <a:blip r:embed="rId1"/>
          <a:stretch/>
        </p:blipFill>
        <p:spPr>
          <a:xfrm>
            <a:off x="1096920" y="463680"/>
            <a:ext cx="7467480" cy="332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Уголовное пра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отрасль представляет собой совокупность юридических норм, определяющих преступность и наказуемость деяни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ормы уголовного права сосредоточены в Уголовном кодексе Российской Федерации (УК РФ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6" name="Picture 2" descr="http://mba-bp.ru/images/kodeks.jpg"/>
          <p:cNvPicPr/>
          <p:nvPr/>
        </p:nvPicPr>
        <p:blipFill>
          <a:blip r:embed="rId1"/>
          <a:stretch/>
        </p:blipFill>
        <p:spPr>
          <a:xfrm>
            <a:off x="5435640" y="1484280"/>
            <a:ext cx="33386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понятия уголовного права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ступ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ст.14 УК РФ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иновное, общественно опасное деяние (действие или бездействие), запрещенное уголовным кодексом под угрозой применения уголовного наказ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азани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мера, применяемая от имени государства по приговору суда к лицу, признанному виновным в совершении преступл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9" name="Picture 72" descr="iекне"/>
          <p:cNvPicPr/>
          <p:nvPr/>
        </p:nvPicPr>
        <p:blipFill>
          <a:blip r:embed="rId1"/>
          <a:stretch/>
        </p:blipFill>
        <p:spPr>
          <a:xfrm>
            <a:off x="6072120" y="5499000"/>
            <a:ext cx="271800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Преступлени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м уголовной ответственности является совершение деяния, содержащего все признак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а преступл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2" name="Picture 2" descr="http://static.newsland.com/news_images/1046/big_1046184.jpg"/>
          <p:cNvPicPr/>
          <p:nvPr/>
        </p:nvPicPr>
        <p:blipFill>
          <a:blip r:embed="rId1"/>
          <a:stretch/>
        </p:blipFill>
        <p:spPr>
          <a:xfrm>
            <a:off x="6227640" y="3933720"/>
            <a:ext cx="2592360" cy="19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Виды преступлений: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преступления в зависимости от степени и характера общественной опасности подразделяются на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тупления небольшой тяжести (до 2-х лет лишения свободы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тупления средней тяжести (до 5 лет лишения свободы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яжкие преступления (до 10 лет лишения свободы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о тяжкие преступления (более 10 лет лишения свободы или более строгое наказание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Обстоятельства, исключающие преступность дея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ним относя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ая оборон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ение вреда при задержании лица, совершившего преступ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ое или психическое принужд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ный рис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нение приказ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распоряж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7" name="Picture 2" descr="http://i.obozrevatel.ua/4/1032556/645121.jpg"/>
          <p:cNvPicPr/>
          <p:nvPr/>
        </p:nvPicPr>
        <p:blipFill>
          <a:blip r:embed="rId1"/>
          <a:stretch/>
        </p:blipFill>
        <p:spPr>
          <a:xfrm>
            <a:off x="5796000" y="400536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Уголовная ответственность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 разновидность юридической ответственности как обязанности лица отвечать за совершенное преступ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лагаетс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на лиц, совершивших преступле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судом и только вступившим в законную силу приговоро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на физическое лицо (носит личный характер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Arial"/>
              </a:rPr>
              <a:t>Брак - эт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Юридически оформленный , свободный, добровольный союз мужчины и женщины, направленный на создание семьи и порождающий для них взаимные права и обязан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</a:rPr>
              <a:t>Видами наказания являютс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971280" y="134100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раф (от 2500 до 1000000 рублей, либо в размере зарплаты или иного дохода осужденного за период от 2 недель до 5лет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ение права занимать определенные должности или заниматься определенной деятельностью на срок от одного года до 5 ле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ение специального, воинского или почетного звания, классного чина или государственных наград за совершение тяжкого или особо тяжкого преступл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ые работы (от 60-240 час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равительные работы (от 2 месяцев до 2 лет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ение свободы (от 2-20лет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изненное лишение свободы, назначаемое за совершение особо тяжких преступле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обвиняемый в совершении преступления считается невиновным, пока его виновность не будет доказа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яемый не обязан доказывать свою невино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ранимые сомнения  в виновности лица толкуются в пользу обвиняемог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Arial"/>
              </a:rPr>
              <a:t>Признаки брак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юз мужчины и женщин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вободный сою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динобрачный сою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вноправный сою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юз, зарегистрированный в органах ЗАГ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юз, который порождает между супругами юридические права и обязан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Arial"/>
              </a:rPr>
              <a:t>Условия вступления в бра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заимное добровольное согласие мужчины и женщины, вступающих в бр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стижение брачного возра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сутствие обстоятельств, препятствующих заключению брака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не должны состоять в зарегистрированном брак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) не должны быть близкими родственник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) недееспособность, признанное по суд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2428"/>
                </a:solidFill>
                <a:latin typeface="Arial"/>
              </a:rPr>
              <a:t>Условия </a:t>
            </a:r>
            <a:br>
              <a:rPr sz="3600"/>
            </a:br>
            <a:r>
              <a:rPr b="0" lang="ru-RU" sz="3600" spc="-1" strike="noStrike">
                <a:solidFill>
                  <a:srgbClr val="072428"/>
                </a:solidFill>
                <a:latin typeface="Arial"/>
              </a:rPr>
              <a:t>недействительности бра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одно из лиц, вступающих в брак, скрыло от другого наличие других зарегистрированных бра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брак зарегистрирован без намерения создать семь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брак зарегистрирован между близкими родственни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одно из лиц скрыло ВИЧ- заболе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Arial"/>
              </a:rPr>
              <a:t>Супруг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5" name="Line 4"/>
          <p:cNvSpPr/>
          <p:nvPr/>
        </p:nvSpPr>
        <p:spPr>
          <a:xfrm flipH="1">
            <a:off x="2916360" y="1341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5"/>
          <p:cNvSpPr/>
          <p:nvPr/>
        </p:nvSpPr>
        <p:spPr>
          <a:xfrm>
            <a:off x="5580000" y="1341360"/>
            <a:ext cx="115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39640" y="1844640"/>
            <a:ext cx="35276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9"/>
          <p:cNvSpPr/>
          <p:nvPr/>
        </p:nvSpPr>
        <p:spPr>
          <a:xfrm>
            <a:off x="4788000" y="1844640"/>
            <a:ext cx="396072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2"/>
          <p:cNvSpPr/>
          <p:nvPr/>
        </p:nvSpPr>
        <p:spPr>
          <a:xfrm>
            <a:off x="2484360" y="26370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3"/>
          <p:cNvSpPr/>
          <p:nvPr/>
        </p:nvSpPr>
        <p:spPr>
          <a:xfrm>
            <a:off x="2771640" y="263700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6"/>
          <p:cNvSpPr/>
          <p:nvPr/>
        </p:nvSpPr>
        <p:spPr>
          <a:xfrm flipH="1">
            <a:off x="1187280" y="2637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395280" y="3357720"/>
            <a:ext cx="1440000" cy="2160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ми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>
            <a:off x="2195640" y="3357720"/>
            <a:ext cx="1439640" cy="2158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>
            <a:off x="3995640" y="3357720"/>
            <a:ext cx="1440000" cy="2160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>
            <a:off x="5867280" y="3357720"/>
            <a:ext cx="1368720" cy="2232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>
            <a:off x="7524720" y="3357720"/>
            <a:ext cx="1368360" cy="2232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28"/>
          <p:cNvSpPr/>
          <p:nvPr/>
        </p:nvSpPr>
        <p:spPr>
          <a:xfrm>
            <a:off x="630072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29"/>
          <p:cNvSpPr/>
          <p:nvPr/>
        </p:nvSpPr>
        <p:spPr>
          <a:xfrm>
            <a:off x="795672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2428"/>
                </a:solidFill>
                <a:latin typeface="Arial"/>
              </a:rPr>
              <a:t>Договорной режим </a:t>
            </a:r>
            <a:br>
              <a:rPr sz="3600"/>
            </a:br>
            <a:r>
              <a:rPr b="0" lang="ru-RU" sz="3600" spc="-1" strike="noStrike">
                <a:solidFill>
                  <a:srgbClr val="072428"/>
                </a:solidFill>
                <a:latin typeface="Arial"/>
              </a:rPr>
              <a:t>имущества супругов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рачный договор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– соглашение лиц, вступающих в брак, или соглашение супругов, определяющее имущественные права и обязанности супругов в браке в случае его расторжен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права и обязанности по взаимному содержани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способы участия в доходах друг дру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порядок несения каждым из них семейных расход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) имущество, которое будет передано каждому из супругов в случае расторжения бра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7:40:29Z</dcterms:created>
  <dc:creator>Gazinyr</dc:creator>
  <dc:description/>
  <dc:language>en-US</dc:language>
  <cp:lastModifiedBy>Пользователь Windows</cp:lastModifiedBy>
  <dcterms:modified xsi:type="dcterms:W3CDTF">2020-05-19T18:27:38Z</dcterms:modified>
  <cp:revision>25</cp:revision>
  <dc:subject/>
  <dc:title>Слайд 1</dc:title>
</cp:coreProperties>
</file>