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951-2345-4519-B0E6-869BB488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82B-BE6B-4847-8AAA-F2179A6A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05C22-C64B-4A25-9DF7-E2814B2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1D06E-45C9-4B27-9D32-6FAAC6FF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C51E8-8F85-4E4A-BA4B-29AE6BEC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FA975-AD72-4349-987D-AC9EF6DF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E3C74-7563-4C9B-8502-079CC09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3047C-75A0-48C3-97CD-429C1B01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4F761-5729-414C-94E2-648D60D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17719-2368-4877-8B4C-DCC7B04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063F-A493-4A74-808D-D661D22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F295C-74C3-4877-99B2-6A2EE5DD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302-CA53-4E83-94D0-D3352F2E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B5296-78C9-48C0-8B79-47EC878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3BB90-384D-4FDF-9031-25177C37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4A6DC-6927-495F-A789-CDD8FE2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17DE-FFF5-420D-8394-B3E0A15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2DC75-FFFB-4206-9023-10567BF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D5B74-3A34-41C3-ADBD-2CF83B4D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69137-5D32-47F8-95D3-A890EDF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D91BB-AA79-40C4-8377-63A80F4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1CE68-98BB-40F7-9D5B-9483B0BD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B3AB1-8E54-48C7-968B-20F58120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D03-EF01-44CD-B804-6F3316CC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442CA-35C7-4145-871A-A0174846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E959D-2BDF-433A-A3E5-6359E925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7A187-484A-44BE-8600-3D035F6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D00C2-7C4C-418D-BF64-A449663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7F4D6-1C3D-4AB3-A6FB-50E833F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695C-D333-4B24-ACF2-3C1CCA6E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C7619-DEBD-4E25-BCDF-4306B3A8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45FA-1EDF-4FAE-9BA2-B66A923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DABB8-BF09-4DCE-9555-37E3183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82A2C-FC7A-4506-8244-BCA8BA6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B4B6-B09E-4FCD-AD7E-9D93D028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46D25-2316-4DBC-9080-642CDB46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892EA-AB17-4D28-A4D7-81E34EED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B2296-07D7-477D-B402-2FD10DD0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6A482-4668-436D-A6B8-DF175ED8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0DA29-9E05-4A0D-9B4C-4434A35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68071-A787-42C4-85D8-EEDB0D01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829E3-09CE-4557-8D77-4E9E04A4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8FD8E-2309-47B0-B827-80A35C8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9E46-84CA-4AA7-90AC-A693AC27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E9191-3B68-419C-B7F0-19214418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AC88-7EBA-4359-8396-C7CBFACD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A36EB-5382-4021-978F-5262D9C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18248-CD75-4052-B837-1577792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DA781-F29A-4DF1-BC09-25733B4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69A0F-FE24-472A-A6F1-44946130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C94EA-D4CB-4B73-8465-35D34145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79DFB-3DB4-4FAE-AF25-41B20F4E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2996C-EBBF-4F7D-A1DD-D5C79BC7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FE5E1-46DB-495C-9E53-3FBA82FC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376C1-BBFA-4302-B7CA-80D84757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09750-7783-4DD1-B629-5080C25C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F49-9FB1-4024-9C29-3A83CEF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4B3D6-EC34-4608-AF60-60E4008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FAD5C-6023-42D4-9C17-E9A685F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48FE3-4542-42EF-9BCB-663E5DC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41D43-64AF-4CB5-A407-396A625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DC76E-11A5-4A5A-9456-C7AA5761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42E62-2CBA-4335-88FB-3074983F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48EA1-2E55-4F3A-8891-6DE35918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172-6316-4070-97D6-561B9C20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C032-7B28-44DA-8889-1D9412F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A93-D7EF-4244-822E-7E0ACD00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A062-3494-483D-9019-9F598AC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D96-2173-4246-AF79-7364F9C8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7432-1186-4A37-AA73-80DB097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D039-7C5E-4CAA-8C85-79C62CF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8466-5D28-4C5A-81CC-78BDE80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2149-F0FF-40AD-971B-85B1BCFB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5D51-D22D-4956-BD72-90EA4F63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DB4C-40DE-453F-BD42-463B0964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848D-78E4-44A4-82E2-257687A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336D-925E-4BAD-AE16-ABEA63F6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9115-6C72-4D2C-A005-3A7EEBA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DC32-406E-4693-88FF-E3007A7F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1EC-92E2-4EB2-A9B5-75CD5BB8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B9AE-836F-4C1B-B02D-E3049F89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27C5-5ACC-4B06-BDC4-EF1A253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0988-7B55-45B6-8074-6DB8905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B41E-5F90-4684-90A4-FB5E322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075E-CDF1-4F1B-9286-F8A7DC58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7F1B-72FC-4334-A400-A623C75D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7156-FE0A-4F6A-9A98-F7824396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37D2-09A9-444F-ABB4-053C70BF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1391-A921-4AE9-BF87-6DF0294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0BE6-2029-4E9A-956D-317A62A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EB6-F506-49FB-BC94-6096438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E7C1-EE8A-4647-B4B1-C792B4CE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C7D7-1B9B-4621-8946-600DEDC6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493B-F725-4700-9614-CBB31118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139F-0C18-4DBA-982E-0D5F9DF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DB0A-18B8-4AB8-9449-48694FF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DB01-023C-41B4-8940-8FAEB24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6FC6-EDF3-4579-A952-E7534EC5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652A-B1AB-41CB-90E5-7C9729BE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55F1-2672-406E-AAE8-683154CC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4051C-E62F-48DB-B85A-879F1B02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619-88D3-4A36-8603-56AF2228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2259-A14F-4E63-8EBA-FF073444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8F545-E7F8-4D02-94EF-4D4E4CE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CAA1-68BA-43DA-A8D3-0E14234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29A6-4823-434D-96C6-36C1744F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EB151-1E4B-4DB8-A663-9510AD6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A742-23DE-47C6-8ED3-F570B703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328A7-6FF2-43DA-9FF9-0127EAA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4EEE1-0774-4780-8440-5CCA38C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B880-E068-4A93-8EE9-5F9A1C5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A3A1-76C5-4AD1-866D-9036BB5D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1A2-3B97-49C9-AC31-872BB54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777D-6A51-4B23-B1A7-03E47014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80FE1-6532-4E7D-8D0C-4DAF6F89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9529B-8D1C-4A33-9562-79220456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583EA-E3C4-47DB-94B0-FC28529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24AEC-779F-43C9-8560-1B8FF59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78969-75CF-4B36-896E-A1A6D76D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F6EB6-F6A3-4495-AA97-DF20EC5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076C-28B9-4182-AB2A-AAF91752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F6C1C-FA9D-465B-BC1C-8E4F5C30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002C3-207A-4F0E-82C6-2007BFC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54F-A32F-4746-BCEF-CFD4D51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526C-541E-4DB2-BDE3-4A57DC9B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D6BF6-BF18-4546-9F23-0C3BF7DB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A2BA-7B1C-4514-9F2D-1DCA71B2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D7C4-EBF5-42CD-AA5F-72384348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7181C-813B-4FB3-8E37-0DD45046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4BA0-AD3B-46FB-BC76-33AE8B5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2E7B-4543-4E5F-8A73-2F1691CB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B788-1148-4561-94EC-06E50BEF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E5F0-CF99-4255-8C6C-FFD0E49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B2BC6-6053-43FB-94CC-4AF159B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C6E-F119-4664-A47F-B73EA8B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48E90-4ABA-442E-BCCB-A1C7B39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D9A76-AECC-471E-8EE4-B6DFC6F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93EF-55CD-498D-BA30-7423BB37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5798-357B-4315-A0D4-0255DDDB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C1570-AF02-4D21-8BB3-B0BDECC6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2EB4-CA1A-4B99-BA7C-7604E6F2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7AE7-BDF5-4538-86AD-AC765268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0C53-C80C-43D0-8BB2-747C9AA2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866FA-7345-4597-95B8-B3737D89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59421-59BD-4126-98C3-8D38C827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5F5-6B4E-4C47-B054-A5052C5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A88D-B8B9-4C26-8E72-7261201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A02A5-BBA0-4AD7-B7D6-44FBA8C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A57CA-2DCE-477D-884E-EC03444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EA57-7FA2-4A09-AB34-4615F98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8CC47-01FC-4782-8F7F-EA2B84F5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7A7B-A1DF-4E95-A7E9-FAB4BD7D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EE73E-56F1-472D-933D-33262091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69BF1-DBDF-4F7C-B36E-BFFFF51B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8D85B-44B0-4596-8A41-1C0C347A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03DFD-1644-4A2D-8180-D05D1F2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C2B-B246-4576-BB80-2818029C4D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39E-F435-4106-B15B-527CC7F02D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9CEA-7E29-48D8-84CA-E006E20B69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E238-6C66-47CA-8D6E-BB4DCAB1EA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DDE9-B0FC-4179-97AC-1B73C41F50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E279-40CF-4B1F-8427-AA58FDB24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DB76-4ADA-4AAB-A425-8A134A1119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B21-5BC5-42F0-AB5C-FB7C22E16E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F31-6D9A-4C62-897A-F50DCE8BFA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37A7-42A9-42DD-BC59-E9283B943D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2B0D-11F3-44CA-AAD6-B500D52853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AC1-CD6E-4467-B448-DF909F2E25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B5FF-5B42-49EC-B0B5-3B6B8985D7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1\Pictures\sun094.png"/>
          <p:cNvPicPr/>
          <p:nvPr/>
        </p:nvPicPr>
        <p:blipFill>
          <a:blip r:embed="rId1"/>
          <a:stretch/>
        </p:blipFill>
        <p:spPr>
          <a:xfrm>
            <a:off x="642960" y="-57240"/>
            <a:ext cx="7572240" cy="691524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1"/>
          <p:cNvSpPr/>
          <p:nvPr/>
        </p:nvSpPr>
        <p:spPr>
          <a:xfrm>
            <a:off x="609480" y="10746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С малой удачи начинаетс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ольшой успех»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Bookman Old Style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Ю</a:t>
            </a: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М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         </a:t>
            </a: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Р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Д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Ё          </a:t>
            </a: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В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2286000" y="1905120"/>
            <a:ext cx="1828800" cy="17524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6781680" y="1905120"/>
            <a:ext cx="1828800" cy="16002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2133720" y="4495680"/>
            <a:ext cx="1752480" cy="1371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6629400" y="4343400"/>
            <a:ext cx="1981080" cy="14479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5638680" y="0"/>
            <a:ext cx="1524240" cy="18288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Bookman Old Style"/>
              </a:rPr>
              <a:t>Н 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БУКВЫ, КОТОРЫЕ ПОКАЗЫВАЮТ НА ТВЁРДОСТЬ ВПЕРЕДИ СТОЯЩЕГО СОГЛА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А     О       У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Ы      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Messaging"/>
          <p:cNvPicPr/>
          <p:nvPr/>
        </p:nvPicPr>
        <p:blipFill>
          <a:blip r:embed="rId1"/>
          <a:stretch/>
        </p:blipFill>
        <p:spPr>
          <a:xfrm>
            <a:off x="7518240" y="10666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13(2)"/>
          <p:cNvPicPr/>
          <p:nvPr/>
        </p:nvPicPr>
        <p:blipFill>
          <a:blip r:embed="rId2"/>
          <a:stretch/>
        </p:blipFill>
        <p:spPr>
          <a:xfrm>
            <a:off x="457200" y="4495680"/>
            <a:ext cx="1676520" cy="2057400"/>
          </a:xfrm>
          <a:prstGeom prst="rect">
            <a:avLst/>
          </a:prstGeom>
          <a:ln w="9360">
            <a:solidFill>
              <a:srgbClr val="99ff99"/>
            </a:solidFill>
            <a:miter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С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О         </a:t>
            </a: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К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Ы</a:t>
            </a:r>
            <a:r>
              <a:rPr b="1" lang="ru-RU" sz="8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562720" y="304920"/>
            <a:ext cx="1981080" cy="11430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2362320" y="1447920"/>
            <a:ext cx="1676160" cy="144756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6858000" y="1600200"/>
            <a:ext cx="1828800" cy="15238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19520" y="4419720"/>
            <a:ext cx="1904760" cy="12952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7238880" y="4495680"/>
            <a:ext cx="1600200" cy="14479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9" descr="Messaging"/>
          <p:cNvPicPr/>
          <p:nvPr/>
        </p:nvPicPr>
        <p:blipFill>
          <a:blip r:embed="rId1"/>
          <a:stretch/>
        </p:blipFill>
        <p:spPr>
          <a:xfrm>
            <a:off x="4191120" y="274320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фонетического разбор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  Произнеси те слов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Разбейте слово на слоги, укажите количество с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   Поставьте ударение в слове, укажите ударный с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   Запишите фонетическую транскрипцию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Охарактеризуйте звук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: ударные — безудар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буквой обозначе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ые: парные, непарные звонкие - глухие, твёрдые -             мягки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буквой обозна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Укажите количество звуков и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ец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ковь – 2 слога, 4 согл., 2 г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-  м  - согл., зв. непарн., тв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-  а  - гласн., безуд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 -  р  - согл., зв. непарн.,  тв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 -  к  - согл., глух. парн.,  тв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-  о – гласн., уд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-  ф – согл., глух. парн.,  мягк. па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ь 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букв, 6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457200" y="457200"/>
            <a:ext cx="5943600" cy="27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ом – 1 слог, 4 буквы, 4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., звонк. 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огл., звонк. не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огл., звонк. непарн., 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б.,4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60948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3200400" y="3505320"/>
            <a:ext cx="5486400" cy="27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а – 2 слога, 4 буквы, 4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огл., звонк. не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без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огл., звонк. непарн., 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б.,4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3886200" y="3429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3352680" y="5715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2524320" cy="24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3" name="Picture 13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709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reb11a"/>
          <p:cNvPicPr/>
          <p:nvPr/>
        </p:nvPicPr>
        <p:blipFill>
          <a:blip r:embed="rId2"/>
          <a:stretch/>
        </p:blipFill>
        <p:spPr>
          <a:xfrm>
            <a:off x="380880" y="1676520"/>
            <a:ext cx="2667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9" name="Rectangle 7"/>
          <p:cNvSpPr/>
          <p:nvPr/>
        </p:nvSpPr>
        <p:spPr>
          <a:xfrm>
            <a:off x="3352680" y="1523880"/>
            <a:ext cx="52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ота – 3 слога, 6 букв, 6 звук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., звонк. парн., 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гласн., без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согл., звонк. непарн.,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огл., глух. парн.,твёрд. пар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гласн., безударн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б.,6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 flipH="1">
            <a:off x="403848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>
            <a:off x="350532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304920" y="304920"/>
            <a:ext cx="8839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6" descr="reb14a"/>
          <p:cNvPicPr/>
          <p:nvPr/>
        </p:nvPicPr>
        <p:blipFill>
          <a:blip r:embed="rId2"/>
          <a:stretch/>
        </p:blipFill>
        <p:spPr>
          <a:xfrm>
            <a:off x="0" y="2362320"/>
            <a:ext cx="281952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tangle 7"/>
          <p:cNvSpPr/>
          <p:nvPr/>
        </p:nvSpPr>
        <p:spPr>
          <a:xfrm>
            <a:off x="2819520" y="129528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бка – 2 слога, 5 букв, 5 зву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., звонк. непарн.,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гласн., 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огл., звонк.парн.,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огласн., глух. парн.,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гласн., без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б.,5з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297180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 flipH="1">
            <a:off x="3200400" y="1295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6" descr="reb11c"/>
          <p:cNvPicPr/>
          <p:nvPr/>
        </p:nvPicPr>
        <p:blipFill>
          <a:blip r:embed="rId2"/>
          <a:stretch/>
        </p:blipFill>
        <p:spPr>
          <a:xfrm>
            <a:off x="5029200" y="3505320"/>
            <a:ext cx="38196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5" name="Rectangle 7"/>
          <p:cNvSpPr/>
          <p:nvPr/>
        </p:nvSpPr>
        <p:spPr>
          <a:xfrm>
            <a:off x="1371600" y="10666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ква – 2 слога, 5 букв, 5 зву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., глух. парн., 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гласн., 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огл., глух.парн.,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огл., звонк. парн.,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гласн., без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б.,5з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1600200" y="3429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 flipH="1">
            <a:off x="1752480" y="914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гадай ребус. Выполни фонетический разбор сло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6" descr="reb12b"/>
          <p:cNvPicPr/>
          <p:nvPr/>
        </p:nvPicPr>
        <p:blipFill>
          <a:blip r:embed="rId2"/>
          <a:stretch/>
        </p:blipFill>
        <p:spPr>
          <a:xfrm>
            <a:off x="3429000" y="3657600"/>
            <a:ext cx="28954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3" name="Rectangle 7"/>
          <p:cNvSpPr/>
          <p:nvPr/>
        </p:nvSpPr>
        <p:spPr>
          <a:xfrm>
            <a:off x="2133720" y="12193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ыш – 2 слога, 5 букв, 5 зву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., глух. парн., 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гласн., без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огл., звонк. непарн., 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гласн., уд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согл.,глух. парн., твёрд. пар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б.,5з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 flipH="1">
            <a:off x="2971800" y="1143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228600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вуко –буквенный анализ слова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(фонетичес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9900"/>
                </a:solidFill>
                <a:latin typeface="Arial Rounded MT Bold"/>
              </a:rPr>
              <a:t>!!!МЫ ПИШЕМ БУК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 Rounded MT Bold"/>
              </a:rPr>
              <a:t>                                   </a:t>
            </a:r>
            <a:r>
              <a:rPr b="1" lang="ru-RU" sz="2800" spc="-1" strike="noStrike">
                <a:solidFill>
                  <a:srgbClr val="669900"/>
                </a:solidFill>
                <a:latin typeface="Arial Rounded MT Bold"/>
              </a:rPr>
              <a:t>А СЛЫШИМ ЗВУ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ГЛАСНЫХ –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Music"/>
          <p:cNvSpPr/>
          <p:nvPr/>
        </p:nvSpPr>
        <p:spPr>
          <a:xfrm>
            <a:off x="7162920" y="2209680"/>
            <a:ext cx="1809720" cy="1809720"/>
          </a:xfrm>
          <a:custGeom>
            <a:avLst/>
            <a:gdLst>
              <a:gd name="textAreaLeft" fmla="*/ 668160 w 1809720"/>
              <a:gd name="textAreaRight" fmla="*/ 1754280 w 1809720"/>
              <a:gd name="textAreaTop" fmla="*/ 77040 h 1809720"/>
              <a:gd name="textAreaBottom" fmla="*/ 448560 h 180972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ound"/>
          <p:cNvSpPr/>
          <p:nvPr/>
        </p:nvSpPr>
        <p:spPr>
          <a:xfrm>
            <a:off x="91440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ound"/>
          <p:cNvSpPr/>
          <p:nvPr/>
        </p:nvSpPr>
        <p:spPr>
          <a:xfrm>
            <a:off x="213372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ound"/>
          <p:cNvSpPr/>
          <p:nvPr/>
        </p:nvSpPr>
        <p:spPr>
          <a:xfrm>
            <a:off x="342900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ound"/>
          <p:cNvSpPr/>
          <p:nvPr/>
        </p:nvSpPr>
        <p:spPr>
          <a:xfrm>
            <a:off x="464832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ound"/>
          <p:cNvSpPr/>
          <p:nvPr/>
        </p:nvSpPr>
        <p:spPr>
          <a:xfrm>
            <a:off x="5867280" y="4343400"/>
            <a:ext cx="83844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ound"/>
          <p:cNvSpPr/>
          <p:nvPr/>
        </p:nvSpPr>
        <p:spPr>
          <a:xfrm>
            <a:off x="7391520" y="4343400"/>
            <a:ext cx="838080" cy="10476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Буквы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торые обозначают два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е       ё        ю        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ётированные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начал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сле гл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 После –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 или –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ъ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1371600" y="53352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1295280" y="160020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1600200" y="3429000"/>
            <a:ext cx="83808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1447920" y="4876920"/>
            <a:ext cx="99036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7"/>
          <p:cNvSpPr/>
          <p:nvPr/>
        </p:nvSpPr>
        <p:spPr>
          <a:xfrm>
            <a:off x="6248520" y="53352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8"/>
          <p:cNvSpPr/>
          <p:nvPr/>
        </p:nvSpPr>
        <p:spPr>
          <a:xfrm>
            <a:off x="6324480" y="1676520"/>
            <a:ext cx="914400" cy="99036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9"/>
          <p:cNvSpPr/>
          <p:nvPr/>
        </p:nvSpPr>
        <p:spPr>
          <a:xfrm>
            <a:off x="6248520" y="3048120"/>
            <a:ext cx="914400" cy="10666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/>
          <p:cNvSpPr/>
          <p:nvPr/>
        </p:nvSpPr>
        <p:spPr>
          <a:xfrm>
            <a:off x="6248520" y="4343400"/>
            <a:ext cx="914400" cy="990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1"/>
          <p:cNvSpPr/>
          <p:nvPr/>
        </p:nvSpPr>
        <p:spPr>
          <a:xfrm flipV="1">
            <a:off x="1066680" y="106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10666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3"/>
          <p:cNvSpPr/>
          <p:nvPr/>
        </p:nvSpPr>
        <p:spPr>
          <a:xfrm flipV="1">
            <a:off x="990720" y="40381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1066680" y="46483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5"/>
          <p:cNvSpPr/>
          <p:nvPr/>
        </p:nvSpPr>
        <p:spPr>
          <a:xfrm flipV="1">
            <a:off x="5638680" y="9907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638680" y="1447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7"/>
          <p:cNvSpPr/>
          <p:nvPr/>
        </p:nvSpPr>
        <p:spPr>
          <a:xfrm flipV="1">
            <a:off x="548640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5562720" y="40384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ВСЕГДА МЯГКИ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838080" y="2362320"/>
            <a:ext cx="144792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3429000" y="3505320"/>
            <a:ext cx="144792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6553080" y="2590920"/>
            <a:ext cx="1524240" cy="1600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838080" y="2362320"/>
            <a:ext cx="144792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934320" y="1143000"/>
            <a:ext cx="914400" cy="174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solidFill>
            <a:srgbClr val="ffff66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ость согласного звука обозначае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,               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,            Щ            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6699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5"/>
          <p:cNvSpPr/>
          <p:nvPr/>
        </p:nvSpPr>
        <p:spPr>
          <a:xfrm>
            <a:off x="533520" y="3809880"/>
            <a:ext cx="144756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6"/>
          <p:cNvSpPr/>
          <p:nvPr/>
        </p:nvSpPr>
        <p:spPr>
          <a:xfrm>
            <a:off x="3809880" y="2743200"/>
            <a:ext cx="182880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7"/>
          <p:cNvSpPr/>
          <p:nvPr/>
        </p:nvSpPr>
        <p:spPr>
          <a:xfrm>
            <a:off x="7086600" y="2819520"/>
            <a:ext cx="144792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ВСЕГДА ТВЁРД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Ц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Ж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1219320" y="2666880"/>
            <a:ext cx="1371600" cy="1295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3962520" y="2743200"/>
            <a:ext cx="129528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7010280" y="2666880"/>
            <a:ext cx="1219320" cy="1295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ound"/>
          <p:cNvSpPr/>
          <p:nvPr/>
        </p:nvSpPr>
        <p:spPr>
          <a:xfrm>
            <a:off x="762120" y="434340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Пар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685800" y="205740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6"/>
          <p:cNvSpPr/>
          <p:nvPr/>
        </p:nvSpPr>
        <p:spPr>
          <a:xfrm>
            <a:off x="685800" y="3429000"/>
            <a:ext cx="1066680" cy="990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2057400" y="2057400"/>
            <a:ext cx="99072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2057400" y="342900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3352680" y="205740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1"/>
          <p:cNvSpPr/>
          <p:nvPr/>
        </p:nvSpPr>
        <p:spPr>
          <a:xfrm>
            <a:off x="3352680" y="3429000"/>
            <a:ext cx="990720" cy="990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2"/>
          <p:cNvSpPr/>
          <p:nvPr/>
        </p:nvSpPr>
        <p:spPr>
          <a:xfrm>
            <a:off x="4572000" y="205740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>
            <a:off x="4648320" y="350532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4"/>
          <p:cNvSpPr/>
          <p:nvPr/>
        </p:nvSpPr>
        <p:spPr>
          <a:xfrm>
            <a:off x="5791320" y="2057400"/>
            <a:ext cx="83808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5"/>
          <p:cNvSpPr/>
          <p:nvPr/>
        </p:nvSpPr>
        <p:spPr>
          <a:xfrm>
            <a:off x="5867280" y="3505320"/>
            <a:ext cx="83844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6"/>
          <p:cNvSpPr/>
          <p:nvPr/>
        </p:nvSpPr>
        <p:spPr>
          <a:xfrm>
            <a:off x="7086600" y="2133720"/>
            <a:ext cx="914400" cy="83808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7"/>
          <p:cNvSpPr/>
          <p:nvPr/>
        </p:nvSpPr>
        <p:spPr>
          <a:xfrm>
            <a:off x="7162920" y="3505320"/>
            <a:ext cx="914400" cy="91440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Verdana"/>
              </a:rPr>
              <a:t>НЕ ОБОЗНАЧАЮТ ЗВУ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МЯГКИЙ З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ТВЁРДЫЙ З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БУКВЫ, КОТОРЫЕ ПОКАЗЫВАЮТ НА МЯГКОСТЬ ВПЕРЕДИ СТОЯЩЕГО СОГЛА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Я    Ё    Ю    И     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13(2)"/>
          <p:cNvPicPr/>
          <p:nvPr/>
        </p:nvPicPr>
        <p:blipFill>
          <a:blip r:embed="rId1"/>
          <a:stretch/>
        </p:blipFill>
        <p:spPr>
          <a:xfrm>
            <a:off x="7467480" y="4572000"/>
            <a:ext cx="1676520" cy="2057400"/>
          </a:xfrm>
          <a:prstGeom prst="rect">
            <a:avLst/>
          </a:prstGeom>
          <a:ln w="9360">
            <a:solidFill>
              <a:srgbClr val="99ff99"/>
            </a:solidFill>
            <a:miter/>
          </a:ln>
        </p:spPr>
      </p:pic>
      <p:pic>
        <p:nvPicPr>
          <p:cNvPr id="600" name="Picture 8" descr="down3"/>
          <p:cNvPicPr/>
          <p:nvPr/>
        </p:nvPicPr>
        <p:blipFill>
          <a:blip r:embed="rId2"/>
          <a:stretch/>
        </p:blipFill>
        <p:spPr>
          <a:xfrm>
            <a:off x="7620120" y="1219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слан4ик</dc:creator>
  <dc:description/>
  <dc:language>en-US</dc:language>
  <cp:lastModifiedBy>Dasha</cp:lastModifiedBy>
  <dcterms:modified xsi:type="dcterms:W3CDTF">2019-09-10T15:5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