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1A8-41C7-49AE-850C-3D595128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145-B947-48F6-BBD0-377B1574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27F-1C1D-4F15-B013-3F3A83EA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22F-D031-41B1-9F1B-9751C77E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321-40FF-4E8D-B04D-F2A65484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77B-C647-43A3-9286-3A305ADD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E98-524E-4579-A7B0-C7EEB334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266-5387-430B-B7F6-8F82F811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ACD-2858-481B-81AD-AD1859AD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50B-AA4B-4752-9E02-EA289FDF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F90-40C2-42C9-90F5-8CFD1434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63F-570B-48A7-93F2-D2108E0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1549-BC5D-41EA-AD7A-E0522C62E43F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Алёна\Desktop\Безымянный.png"/>
          <p:cNvPicPr/>
          <p:nvPr/>
        </p:nvPicPr>
        <p:blipFill>
          <a:blip r:embed="rId1"/>
          <a:srcRect l="142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50104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ПОЛЬЗОВАНИЯ СОВРЕМЕННЫХ ЭЛЕКТРОННЫХ ОБРАЗОВАТЕЛЬНЫХ РЕСУРСОВ НА УРОКАХ В НАЧАЛЬНОЙ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476360" y="90792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сонова Евг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групп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735280" y="5589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Ларионова В.В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" name="Picture 5" descr="E:\Служба маркетинга\podkova-novaja.jpg"/>
          <p:cNvPicPr/>
          <p:nvPr/>
        </p:nvPicPr>
        <p:blipFill>
          <a:blip r:embed="rId2"/>
          <a:stretch/>
        </p:blipFill>
        <p:spPr>
          <a:xfrm>
            <a:off x="214200" y="214200"/>
            <a:ext cx="12114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ребования, предъявляемые к электронным образовательным ресурсам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требо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хнические требова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ргономические требова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стетические треб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8920" y="-171360"/>
            <a:ext cx="8589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уроки с использованием ЭОР – это один из самых важных результатов инновационной работы в школе. Использование ЭОР позволяет осуществить задуманное, сделать урок более результативным, чем при использовании традиционных метод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8074080" cy="26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ЕТОДИКА ИСПОЛЬЗОВАНИЯ ЭЛЕКТРОННЫХ ОБРАЗОВАТЕЛЬНЫХ РЕСУРСОВ В ОБУЧЕНИИ МЛАДШИХ 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уроков на основе использования электронных образовательных ресурс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учителя и обучающихся при использовании электронных образовательных ресурсов в учебном процес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образовательные ресурсы для начальной школы как учебные ресурсы нового поко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использованию электронно-образовательных ресурсов на уроках в начальной шко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95280" y="382680"/>
            <a:ext cx="8424720" cy="62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уроков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- введение нового материала с использованием ЭОР  при ведущей роли учител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рок - введение нового материала с использованием ЭОР  и самостоятельной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рок - обучающий семинар с использованием ЭОР. Самостоятельная деятельность учащихся по подготовке уро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рок - виртуальная лабораторная работа на основе использования ЭОР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рок - лабораторная работа, целью которой является введение нового материала, предполагает деятельность учащегося по изучению реальных объектов, проведение виртуального эксперимента, самостоятельной формулировке выводов и проверке их справедлив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Интернет-технологий на уроках существенно меняется роль учителя. Теперь он не является единственным источником учебной информации. Педагог становится тьютором, который координирует учебный процесс, решает творческие и управленческие задачи. Часто, для проведения урока необходимо подготовить много теоретического материала, в том числе и исторические справки. Ученики сами подбирают теоретический материал под руководством учителя. Вниманию ребят открываются книги, газеты, журналы, электронные библиотеки, базы данных, информационные системы, словари и справочник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формы обуч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ое 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ое 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е 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номное 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ое 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обу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 основным инновационным качествам ЭОР относятс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еспечение всех компонентов образовательного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терактивность, которая обеспечивает резкое расширение возможностей самостоятельной учебной работы за счет использования активно-деятельностных форм обу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зможность более полноценного обучения вне аудит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образовательные ресурс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материалы на электронных носителях в цифровом формате, обеспечивающие в совокупности создание инфокоммуникационной образовательной среды электронного обучения как дистанционного взаимодействия субъектов образовательного процесса между собой и интерактивного взаимодействия с учебным материал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из всего выше написанного можно отметить, что в современный учебный процесс внедряются новые методы обучения, которые возрождают достижения экспериментальной педагогики прошедшего столетия, которые построены на принципе саморазвития, активности личности. К одному из важнейших методов относится внедрение электронных ресурсов в обучении младших школьников и использование их на .учебных предмет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8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спективе в выпускной квалификационной работе мы планируем разработать сборник электронных образовательных ресурсов который будет содержать презентации к урокам, обучающие видео, интерактивные тес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:\Users\Алёна\Desktop\Безымянный.png"/>
          <p:cNvPicPr/>
          <p:nvPr/>
        </p:nvPicPr>
        <p:blipFill>
          <a:blip r:embed="rId1"/>
          <a:srcRect l="142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96472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ПОЛЬЗОВАНИЯ СОВРЕМЕННЫХ ЭЛЕКТРОННЫХ ОБРАЗОВАТЕЛЬНЫХ РЕСУРСОВ НА УРОКАХ В НАЧАЛЬНОЙ ШКОЛ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7640" y="3077640"/>
            <a:ext cx="8948520" cy="9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отовы ответить на ваши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E:\Служба маркетинга\podkova-novaja.jpg"/>
          <p:cNvPicPr/>
          <p:nvPr/>
        </p:nvPicPr>
        <p:blipFill>
          <a:blip r:embed="rId1"/>
          <a:stretch/>
        </p:blipFill>
        <p:spPr>
          <a:xfrm>
            <a:off x="214200" y="214200"/>
            <a:ext cx="12114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75760" y="1557000"/>
            <a:ext cx="8589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 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именения электронных образовательных ресурсов в школьном образовательном проце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560" y="907920"/>
            <a:ext cx="8589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 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цесс в нача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электронных образовательных ресурсов в образовательном процессе в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95280" y="476280"/>
            <a:ext cx="8280360" cy="25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оретическ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, обобщение, систематизация материал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8000" y="333360"/>
            <a:ext cx="8840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 исследован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еть определение электро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использование электронных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модели уроков на основе использования электронных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560" y="333360"/>
            <a:ext cx="8589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ОРЕТИЧЕСКИЕ ОСНОВЫ ИСПОЛЬЗОВАНИЯ ЭЛЕКТРОННЫХ РЕСУРСОВ В НАЧАЛЬНОЙ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Понятие электронного образовательного ресурса в педагогической и методическ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Возможности использования электронных образовательных ресурсов в начальной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Требования к созданию и применению электронных образовательных ресур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560" y="333360"/>
            <a:ext cx="85899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образовательные ресурс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ый ресурс, представленный в электронно-цифровой форме и включающий в себя структуру, предметное содержание и метаданные о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с использованием ЭОР – это один из самых важных результатов инновационной работы в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я в начальной школе все виды электронных образовательных ресурсов (ЭОР) – электронные учебники и учебные пособия, мультимедиакурсы, интерактивные тренажеры и тестирующие системы и др. – учитель начальных классов использует систему заданий, ориентированных на три уровня познавательной деятельности: воспроизводящий, преобразующий, творческо-поисковы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6T18:56:11Z</dcterms:created>
  <dc:creator>Omega Electronics</dc:creator>
  <dc:description/>
  <dc:language>en-US</dc:language>
  <cp:lastModifiedBy>Adm</cp:lastModifiedBy>
  <dcterms:modified xsi:type="dcterms:W3CDTF">2018-12-26T03:38:45Z</dcterms:modified>
  <cp:revision>76</cp:revision>
  <dc:subject/>
  <dc:title>«Методика организации внутришкольного сбора  для формирования ученического коллектива»</dc:title>
</cp:coreProperties>
</file>