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gif" ContentType="image/gif"/>
  <Override PartName="/ppt/media/image9.wmf" ContentType="image/x-wmf"/>
  <Override PartName="/ppt/media/image8.gif" ContentType="image/gif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7.wmf" ContentType="image/x-wmf"/>
  <Override PartName="/ppt/media/image12.png" ContentType="image/png"/>
  <Override PartName="/ppt/media/image20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4.png" ContentType="image/pn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817F-F1FA-4990-AB94-39060EC8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4FF-0AB9-4C51-B945-AF480CF0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56DD-48B6-4E3C-8218-89DF71A2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6A33-C59E-461A-8F8C-614B2F0F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8203-0588-492D-9B84-8BCEE745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D61E-3DA5-47EB-AD83-4DA724AB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FF20-7220-49E4-B273-1E492E40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45E9-D6ED-4B5E-BBBD-8D2BC1D8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4ACF-880B-4F9A-AF01-FA8130FE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80B7-263C-4E75-A705-FE8F9ABA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A6C0-34B2-483B-8E63-A2384FF1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3F62-27F2-400A-B718-0EA81AF2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FBC8-63D2-4035-BA41-7A1F40EF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6201-3E2A-449A-BDA9-E455AE23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6AB4-11AD-40FA-A3F0-CBCF6F3C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1243-0E06-4D4E-AACF-F494C2B6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E61B-C80F-479C-AAB8-8EAABCE2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2E6D-1861-4636-9260-004A1188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F142-37AB-4617-BE6E-B0A11735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DEB0-759A-4945-B055-2FB860D7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B5EB-A365-4A4B-82EF-777A1598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3D30-ED31-4841-BD0D-9F429FA1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9B3A-D05E-4D99-A42B-D89D54A7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B744-872D-46C7-AAEB-E2843B4A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02ca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99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99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1A17-4B82-44F1-91A4-4F9F5BA8E791}" type="slidenum">
              <a:rPr b="0" lang="en-US" sz="1400" spc="-1" strike="noStrike">
                <a:solidFill>
                  <a:srgbClr val="99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02ca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54CD-351A-45A2-94C3-14D1E2ED0E69}" type="slidenum">
              <a:rPr b="0" lang="en-US" sz="1400" spc="-1" strike="noStrike">
                <a:solidFill>
                  <a:srgbClr val="99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9900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99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99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16000" y="908640"/>
            <a:ext cx="709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Человек – высшее творение природы. </a:t>
            </a:r>
            <a:endParaRPr b="0" lang="en-US" sz="2800" spc="-1" strike="noStrike">
              <a:solidFill>
                <a:srgbClr val="99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Но для того, чтобы наслаждаться её сокровищами, он должен по крайней мере отвечать одному требованию: быть здоровым.”</a:t>
            </a:r>
            <a:endParaRPr b="0" lang="en-US" sz="28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4720" y="465300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d02ca"/>
                </a:solidFill>
                <a:latin typeface="Times New Roman"/>
              </a:rPr>
              <a:t>А.А.</a:t>
            </a:r>
            <a:r>
              <a:rPr b="1" i="1" lang="en-US" sz="1600" spc="-1" strike="noStrike">
                <a:solidFill>
                  <a:srgbClr val="2d02ca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2d02ca"/>
                </a:solidFill>
                <a:latin typeface="Times New Roman"/>
              </a:rPr>
              <a:t>Леонов</a:t>
            </a:r>
            <a:r>
              <a:rPr b="1" i="1" lang="en-US" sz="1600" spc="-1" strike="noStrike">
                <a:solidFill>
                  <a:srgbClr val="2d02ca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105080" cy="3672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187560" y="691920"/>
            <a:ext cx="445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Georgia"/>
              </a:rPr>
              <a:t>Почаще убирай и </a:t>
            </a:r>
            <a:endParaRPr b="0" lang="en-US" sz="2800" spc="-1" strike="noStrike">
              <a:solidFill>
                <a:srgbClr val="99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Georgia"/>
              </a:rPr>
              <a:t>проветривай комнату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0" t="0" r="958" b="475"/>
          <a:stretch/>
        </p:blipFill>
        <p:spPr>
          <a:xfrm>
            <a:off x="4788000" y="1989000"/>
            <a:ext cx="4105080" cy="34038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0" t="0" r="22793" b="0"/>
          <a:stretch/>
        </p:blipFill>
        <p:spPr>
          <a:xfrm>
            <a:off x="6084720" y="0"/>
            <a:ext cx="1567080" cy="186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4626000" y="5733720"/>
            <a:ext cx="425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Georgia"/>
              </a:rPr>
              <a:t>Читай и пиши при </a:t>
            </a:r>
            <a:endParaRPr b="0" lang="en-US" sz="2800" spc="-1" strike="noStrike">
              <a:solidFill>
                <a:srgbClr val="99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Georgia"/>
              </a:rPr>
              <a:t>хорошем освещении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879440" y="5589360"/>
            <a:ext cx="396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Georgia"/>
              </a:rPr>
              <a:t>Занимайся спортом</a:t>
            </a:r>
            <a:endParaRPr b="0" lang="en-US" sz="2800" spc="-1" strike="noStrike">
              <a:solidFill>
                <a:srgbClr val="99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Georgia"/>
              </a:rPr>
              <a:t>и делай зарядку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6392" t="14857" r="0" b="9905"/>
          <a:stretch/>
        </p:blipFill>
        <p:spPr>
          <a:xfrm>
            <a:off x="250920" y="2997360"/>
            <a:ext cx="3887640" cy="3593880"/>
          </a:xfrm>
          <a:prstGeom prst="rect">
            <a:avLst/>
          </a:prstGeom>
          <a:ln w="9360">
            <a:solidFill>
              <a:srgbClr val="2d02ca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2"/>
          <a:srcRect l="10278" t="16339" r="10067" b="40096"/>
          <a:stretch/>
        </p:blipFill>
        <p:spPr>
          <a:xfrm>
            <a:off x="4643280" y="476280"/>
            <a:ext cx="3167280" cy="2451240"/>
          </a:xfrm>
          <a:prstGeom prst="rect">
            <a:avLst/>
          </a:prstGeom>
          <a:ln w="9360">
            <a:solidFill>
              <a:srgbClr val="2d02ca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1211040" y="1904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Georgia"/>
              </a:rPr>
              <a:t>Закаляйся</a:t>
            </a:r>
            <a:endParaRPr b="0" lang="en-US" sz="28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1557360"/>
            <a:ext cx="443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Georgia"/>
              </a:rPr>
              <a:t>Мой руки перед едой,</a:t>
            </a:r>
            <a:endParaRPr b="0" lang="en-US" sz="2800" spc="-1" strike="noStrike">
              <a:solidFill>
                <a:srgbClr val="99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Georgia"/>
              </a:rPr>
              <a:t>после улицы и </a:t>
            </a:r>
            <a:endParaRPr b="0" lang="en-US" sz="2800" spc="-1" strike="noStrike">
              <a:solidFill>
                <a:srgbClr val="99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Georgia"/>
              </a:rPr>
              <a:t>общения с животными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16480" y="3789000"/>
            <a:ext cx="307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Georgia"/>
              </a:rPr>
              <a:t>Гуляй на улице</a:t>
            </a:r>
            <a:endParaRPr b="0" lang="en-US" sz="2800" spc="-1" strike="noStrike">
              <a:solidFill>
                <a:srgbClr val="99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Georgia"/>
              </a:rPr>
              <a:t>каждый день</a:t>
            </a:r>
            <a:r>
              <a:rPr b="1" lang="en-US" sz="2800" spc="-1" strike="noStrike">
                <a:solidFill>
                  <a:srgbClr val="990099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25992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eorgia"/>
              </a:rPr>
              <a:t>Следи за осанкой</a:t>
            </a:r>
            <a:endParaRPr b="0" lang="en-US" sz="2800" spc="-1" strike="noStrike">
              <a:solidFill>
                <a:srgbClr val="99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eorgia"/>
              </a:rPr>
              <a:t>Держи спину ровно</a:t>
            </a:r>
            <a:r>
              <a:rPr b="1" lang="en-US" sz="2800" spc="-1" strike="noStrike">
                <a:solidFill>
                  <a:srgbClr val="990099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149360"/>
            <a:ext cx="50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Georgia"/>
              </a:rPr>
              <a:t>Ешь здоровую</a:t>
            </a:r>
            <a:endParaRPr b="0" lang="en-US" sz="2800" spc="-1" strike="noStrike">
              <a:solidFill>
                <a:srgbClr val="99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Georgia"/>
              </a:rPr>
              <a:t>пищу</a:t>
            </a:r>
            <a:endParaRPr b="0" lang="en-US" sz="28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3280" y="1413000"/>
            <a:ext cx="387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Georgia"/>
              </a:rPr>
              <a:t>Занимайся на компьютере и </a:t>
            </a:r>
            <a:endParaRPr b="0" lang="en-US" sz="2800" spc="-1" strike="noStrike">
              <a:solidFill>
                <a:srgbClr val="99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990099"/>
                </a:solidFill>
                <a:latin typeface="Georgia"/>
              </a:rPr>
              <a:t>смотри телевизор </a:t>
            </a:r>
            <a:endParaRPr b="0" lang="en-US" sz="2800" spc="-1" strike="noStrike">
              <a:solidFill>
                <a:srgbClr val="99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Georgia"/>
              </a:rPr>
              <a:t>полчаса в день</a:t>
            </a:r>
            <a:endParaRPr b="0" lang="en-US" sz="28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92360" y="5516280"/>
            <a:ext cx="387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Georgia"/>
              </a:rPr>
              <a:t>Ложись спать</a:t>
            </a:r>
            <a:endParaRPr b="0" lang="en-US" sz="2800" spc="-1" strike="noStrike">
              <a:solidFill>
                <a:srgbClr val="99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Georgia"/>
              </a:rPr>
              <a:t>вовремя</a:t>
            </a:r>
            <a:endParaRPr b="0" lang="en-US" sz="28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26369" t="29940" r="25503" b="21066"/>
          <a:stretch/>
        </p:blipFill>
        <p:spPr>
          <a:xfrm>
            <a:off x="0" y="692280"/>
            <a:ext cx="9144000" cy="5256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Перечисли свои привычки</a:t>
            </a:r>
            <a:endParaRPr b="0" lang="en-US" sz="36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6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Мои вредные привычки……………………..</a:t>
            </a:r>
            <a:endParaRPr b="0" lang="en-US" sz="2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Мои полезные привычки……………………</a:t>
            </a:r>
            <a:endParaRPr b="0" lang="en-US" sz="2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Меня хвалят за……………………………………</a:t>
            </a:r>
            <a:endParaRPr b="0" lang="en-US" sz="2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Меня ругают за…………………………………..</a:t>
            </a:r>
            <a:endParaRPr b="0" lang="en-US" sz="2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Я хотел/а бы иметь (укажи привычку)………………………………………..</a:t>
            </a:r>
            <a:endParaRPr b="0" lang="en-US" sz="2800" spc="-1" strike="noStrike">
              <a:solidFill>
                <a:srgbClr val="990099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971640" y="3716280"/>
            <a:ext cx="7632720" cy="18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Мы за здоровый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образ жизни!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slow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03280" y="407664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02ca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Georgia"/>
              </a:rPr>
              <a:t>Береги здоровье смолоду</a:t>
            </a: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58560" y="907920"/>
            <a:ext cx="8785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Здоровье - это бесценное достояние не только каждого человека, но и всего общества. При встречах, расставаниях с близкими и дорогими людьми мы желаем им доброго и крепкого здоровья, так как это - основное условие и залог полноценной и счастливой жизни. 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5719" t="5711" r="5719" b="29531"/>
          <a:stretch/>
        </p:blipFill>
        <p:spPr>
          <a:xfrm>
            <a:off x="1258920" y="2708280"/>
            <a:ext cx="6985080" cy="3444840"/>
          </a:xfrm>
          <a:prstGeom prst="rect">
            <a:avLst/>
          </a:prstGeom>
          <a:ln w="57240">
            <a:solidFill>
              <a:srgbClr val="2d02ca"/>
            </a:solidFill>
            <a:miter/>
          </a:ln>
        </p:spPr>
      </p:pic>
    </p:spTree>
  </p:cSld>
  <p:transition spd="slow">
    <p:wheel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156360" y="476280"/>
            <a:ext cx="2987640" cy="59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Georgia"/>
              </a:rPr>
              <a:t>Здоровье зависит:</a:t>
            </a: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на 20% - от окружающей среды,</a:t>
            </a:r>
            <a:endParaRPr b="0" lang="en-US" sz="2800" spc="-1" strike="noStrike">
              <a:solidFill>
                <a:srgbClr val="99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на 20% - от наследственных факторов,</a:t>
            </a:r>
            <a:endParaRPr b="0" lang="en-US" sz="2800" spc="-1" strike="noStrike">
              <a:solidFill>
                <a:srgbClr val="99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на 10% - от медицинского обслуживания,</a:t>
            </a:r>
            <a:endParaRPr b="0" lang="en-US" sz="2800" spc="-1" strike="noStrike">
              <a:solidFill>
                <a:srgbClr val="99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на 50% - от образа жизни.</a:t>
            </a:r>
            <a:endParaRPr b="0" lang="en-US" sz="28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5327640" cy="52959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380880"/>
            <a:ext cx="807552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Привычка </a:t>
            </a:r>
            <a:br>
              <a:rPr sz="3600"/>
            </a:b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– это то, что делаешь постоянно</a:t>
            </a:r>
            <a:r>
              <a:rPr b="0" lang="en-US" sz="4000" spc="-1" strike="noStrike">
                <a:solidFill>
                  <a:srgbClr val="2d02ca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94" name="Line 4"/>
          <p:cNvSpPr/>
          <p:nvPr/>
        </p:nvSpPr>
        <p:spPr>
          <a:xfrm flipH="1">
            <a:off x="1619280" y="1700280"/>
            <a:ext cx="574560" cy="86364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7236000" y="1700280"/>
            <a:ext cx="431640" cy="86508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0" y="2637000"/>
            <a:ext cx="3024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полезными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9900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привычки, способствующие сохранению здоровья </a:t>
            </a:r>
            <a:endParaRPr b="0" lang="en-US" sz="2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551640" y="2708280"/>
            <a:ext cx="2592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вредными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9900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привычки, наносящие вред здоровью </a:t>
            </a:r>
            <a:endParaRPr b="0" lang="en-US" sz="24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6707" r="0" b="0"/>
          <a:stretch/>
        </p:blipFill>
        <p:spPr>
          <a:xfrm>
            <a:off x="2987640" y="1773360"/>
            <a:ext cx="3889440" cy="4174920"/>
          </a:xfrm>
          <a:prstGeom prst="rect">
            <a:avLst/>
          </a:prstGeom>
          <a:ln w="9360">
            <a:solidFill>
              <a:srgbClr val="2d02ca"/>
            </a:solidFill>
            <a:miter/>
          </a:ln>
        </p:spPr>
      </p:pic>
    </p:spTree>
  </p:cSld>
  <p:transition>
    <p:split dir="in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03640" y="907920"/>
            <a:ext cx="3181680" cy="38894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Georgia"/>
              </a:rPr>
              <a:t>Знаете ли Вы, что…</a:t>
            </a:r>
            <a:endParaRPr b="0" lang="en-US" sz="40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9280" y="1773000"/>
            <a:ext cx="410544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02ca"/>
                </a:solidFill>
                <a:latin typeface="Georgia"/>
              </a:rPr>
              <a:t>Максимальная продолжительность просмотра телепередач: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Для дошкольников и младших школьников – 1 час,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Для школьников среднего возраста – 1,5 часа,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Для старшего возраста -2часа.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067280" y="4797360"/>
            <a:ext cx="2168280" cy="1881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877080" y="4941720"/>
            <a:ext cx="2089080" cy="17542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2" dur="indefinite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3" dur="indefinite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Знаете ли Вы, что… </a:t>
            </a:r>
            <a:endParaRPr b="0" lang="en-US" sz="3600" spc="-1" strike="noStrike">
              <a:solidFill>
                <a:srgbClr val="2d02ca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4360" y="5229360"/>
            <a:ext cx="1143000" cy="107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539640" y="2276640"/>
          <a:ext cx="403884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276640"/>
                    <a:ext cx="40388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56000" y="1484280"/>
            <a:ext cx="4608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Ограничение подвижности приводит к снижению и нарушению жизненно важных функций.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Детскому организму необходимо от 6 до 13 тысяч движений в день.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У малоподвижных детей очень слабые мышцы.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В целях профилактики заболеваний  большое значение имеет 1,5-2 часовое пребывание на открытом воздухе.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332000" y="2637000"/>
            <a:ext cx="3456000" cy="1152360"/>
          </a:xfrm>
          <a:prstGeom prst="cloudCallout">
            <a:avLst>
              <a:gd name="adj1" fmla="val -42097"/>
              <a:gd name="adj2" fmla="val 169699"/>
            </a:avLst>
          </a:prstGeom>
          <a:solidFill>
            <a:srgbClr val="00cc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5280" y="2997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Tahoma"/>
              </a:rPr>
              <a:t>Слабеет тело без дела.</a:t>
            </a:r>
            <a:endParaRPr b="0" lang="en-US" sz="18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203640" y="5516640"/>
            <a:ext cx="1085760" cy="7430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6" dur="indefinite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7" dur="indefinite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6" dur="indefinite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7" dur="indefinite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indefinite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indefinite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Georgia"/>
              </a:rPr>
              <a:t>Продолжить пословицы</a:t>
            </a:r>
            <a:endParaRPr b="0" lang="en-US" sz="40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1628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Чистота…</a:t>
            </a: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234936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Здоровье в порядке…</a:t>
            </a: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314172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Если хочешь быть здоров…</a:t>
            </a: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59280" y="3807000"/>
            <a:ext cx="2679480" cy="3051000"/>
          </a:xfrm>
          <a:prstGeom prst="rect">
            <a:avLst/>
          </a:prstGeom>
          <a:ln w="9360">
            <a:solidFill>
              <a:srgbClr val="2d02ca"/>
            </a:solidFill>
            <a:miter/>
          </a:ln>
        </p:spPr>
      </p:pic>
    </p:spTree>
  </p:cSld>
  <p:transition spd="slow">
    <p:wheel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Georgia"/>
              </a:rPr>
              <a:t>Загадки</a:t>
            </a:r>
            <a:endParaRPr b="0" lang="en-US" sz="40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125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Белое корыто  к полу прибито </a:t>
            </a: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213000"/>
            <a:ext cx="630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Ускользает, как живое, </a:t>
            </a: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Но не выпущу его я. </a:t>
            </a: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Дело ясное вполне -</a:t>
            </a: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Пусть отмоет руки мне </a:t>
            </a: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7:59:30Z</dcterms:created>
  <dc:creator>я</dc:creator>
  <dc:description/>
  <dc:language>en-US</dc:language>
  <cp:lastModifiedBy>aser</cp:lastModifiedBy>
  <dcterms:modified xsi:type="dcterms:W3CDTF">2020-05-20T07:27:16Z</dcterms:modified>
  <cp:revision>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