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1.jpeg" ContentType="image/jpeg"/>
  <Override PartName="/ppt/media/image8.png" ContentType="image/png"/>
  <Override PartName="/ppt/media/image6.jpeg" ContentType="image/jpeg"/>
  <Override PartName="/ppt/media/image10.png" ContentType="image/png"/>
  <Override PartName="/ppt/media/image5.jpeg" ContentType="image/jpeg"/>
  <Override PartName="/ppt/media/image24.png" ContentType="image/png"/>
  <Override PartName="/ppt/media/image21.jpeg" ContentType="image/jpeg"/>
  <Override PartName="/ppt/media/image16.jpeg" ContentType="image/jpeg"/>
  <Override PartName="/ppt/media/image19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23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2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2EAF8-01C4-43B1-8586-916B583994B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16D65-115E-42CC-806C-363D4A6E5AA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3223C-C950-442A-8508-BA34A478F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AF8E9-C606-4655-AC0C-1918EBCD5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1FA53-2ED1-441F-88F8-DD24A57C7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E3E2F-12C1-4860-9818-84BBDB439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376BE-3B81-4814-8E9B-3E364BA69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F50D7-921A-4DFB-9258-D089D7E8F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9718B-D74F-4639-83F4-71345861B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2C5C3-9616-4BA0-A938-F61636163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30512-3B61-4EB3-BBC1-7C343981B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EC5B0-AFE0-42C7-8980-ED0D84CE7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55AFA-3519-4967-9855-C7FE37814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D3E40-925F-4206-A195-2B13CF66E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E014E-6BE8-4128-8082-F9334515F97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Наши великие соотечественни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323880" y="6079680"/>
            <a:ext cx="6172200" cy="3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ыполнили: Пермякова, Попко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7" descr="i?id=3a0c81b28db9ec2d80a867aedc1a0c0a-l&amp;n=13"/>
          <p:cNvPicPr/>
          <p:nvPr/>
        </p:nvPicPr>
        <p:blipFill>
          <a:blip r:embed="rId1"/>
          <a:stretch/>
        </p:blipFill>
        <p:spPr>
          <a:xfrm>
            <a:off x="1981080" y="1447920"/>
            <a:ext cx="2057400" cy="13222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9" descr="i?id=eb251c3a08f354f31a351bc8b785777e-srl&amp;n=13"/>
          <p:cNvPicPr/>
          <p:nvPr/>
        </p:nvPicPr>
        <p:blipFill>
          <a:blip r:embed="rId2"/>
          <a:stretch/>
        </p:blipFill>
        <p:spPr>
          <a:xfrm>
            <a:off x="0" y="304920"/>
            <a:ext cx="1905120" cy="19047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1" descr="604507-20cbd36ed53b5baa99df8defc821b449"/>
          <p:cNvPicPr/>
          <p:nvPr/>
        </p:nvPicPr>
        <p:blipFill>
          <a:blip r:embed="rId3"/>
          <a:stretch/>
        </p:blipFill>
        <p:spPr>
          <a:xfrm>
            <a:off x="7296120" y="565200"/>
            <a:ext cx="1425600" cy="22762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7" descr="ÐÐ°ÑÑÑÑÐ¾Ð² Ð.Ð.jpg"/>
          <p:cNvPicPr/>
          <p:nvPr/>
        </p:nvPicPr>
        <p:blipFill>
          <a:blip r:embed="rId4"/>
          <a:stretch/>
        </p:blipFill>
        <p:spPr>
          <a:xfrm>
            <a:off x="380880" y="2514600"/>
            <a:ext cx="1184400" cy="17524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9" descr="i?id=8927fb93680115917ee89ab4871f58c0-l&amp;n=13"/>
          <p:cNvPicPr/>
          <p:nvPr/>
        </p:nvPicPr>
        <p:blipFill>
          <a:blip r:embed="rId5"/>
          <a:stretch/>
        </p:blipFill>
        <p:spPr>
          <a:xfrm>
            <a:off x="1905120" y="3048120"/>
            <a:ext cx="2209680" cy="15206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1" descr="i?id=57141c0ac5f6baacac32467148570fcd-sr&amp;n=13"/>
          <p:cNvPicPr/>
          <p:nvPr/>
        </p:nvPicPr>
        <p:blipFill>
          <a:blip r:embed="rId6"/>
          <a:stretch/>
        </p:blipFill>
        <p:spPr>
          <a:xfrm>
            <a:off x="4343400" y="1447920"/>
            <a:ext cx="2286000" cy="134784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1" descr=""/>
          <p:cNvPicPr/>
          <p:nvPr/>
        </p:nvPicPr>
        <p:blipFill>
          <a:blip r:embed="rId7"/>
          <a:stretch/>
        </p:blipFill>
        <p:spPr>
          <a:xfrm>
            <a:off x="6840360" y="2973240"/>
            <a:ext cx="2017800" cy="2587680"/>
          </a:xfrm>
          <a:prstGeom prst="rect">
            <a:avLst/>
          </a:prstGeom>
          <a:ln w="0">
            <a:noFill/>
          </a:ln>
        </p:spPr>
      </p:pic>
      <p:pic>
        <p:nvPicPr>
          <p:cNvPr id="57" name="Рисунок 2" descr=""/>
          <p:cNvPicPr/>
          <p:nvPr/>
        </p:nvPicPr>
        <p:blipFill>
          <a:blip r:embed="rId8"/>
          <a:stretch/>
        </p:blipFill>
        <p:spPr>
          <a:xfrm>
            <a:off x="4492800" y="3252960"/>
            <a:ext cx="1863720" cy="228600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3" descr=""/>
          <p:cNvPicPr/>
          <p:nvPr/>
        </p:nvPicPr>
        <p:blipFill>
          <a:blip r:embed="rId9"/>
          <a:stretch/>
        </p:blipFill>
        <p:spPr>
          <a:xfrm>
            <a:off x="146160" y="4568760"/>
            <a:ext cx="1606320" cy="226548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4" descr=""/>
          <p:cNvPicPr/>
          <p:nvPr/>
        </p:nvPicPr>
        <p:blipFill>
          <a:blip r:embed="rId10"/>
          <a:stretch/>
        </p:blipFill>
        <p:spPr>
          <a:xfrm>
            <a:off x="2097000" y="4827600"/>
            <a:ext cx="1825560" cy="18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«Солдат сделал оружие для солдата. Я сам был рядовым и хорошо знаю трудности, с которыми сталкиваются в солдатской жизни… Когда дорабатывалась его конструкция, я бывал в военных частях, консультировался со специалистами. И солдаты говорили мне, что их устраивает, а что нужно доработать. Получилось простое, надёжное и эффективное оружие. АК работает в любых условиях, безотказно стреляет после того, как побывает в земле, болоте, упадёт с высоты на твёрдую поверхность. Он очень простой, этот автомат. Но хочу сказать, что сделать простое иногда во много раз сложнее.»</a:t>
            </a:r>
            <a:br>
              <a:rPr sz="1600"/>
            </a:br>
            <a:br>
              <a:rPr sz="1600"/>
            </a:b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«Во всём мире знают Россию по четырём символам: водка, матрёшка, икра и Калашников… Он живёт очень скромно, на третьем этаже без лифта, с женщиной, которая за ним ухаживает. Но сама страна тоже недополучила, потому что за бесценок продавала лицензии на изготовление автомата Калашникова.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6" descr="CuEwmANWIAAS1lu"/>
          <p:cNvPicPr/>
          <p:nvPr/>
        </p:nvPicPr>
        <p:blipFill>
          <a:blip r:embed="rId1"/>
          <a:stretch/>
        </p:blipFill>
        <p:spPr>
          <a:xfrm>
            <a:off x="4191120" y="4343400"/>
            <a:ext cx="3352680" cy="206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-360" y="274320"/>
            <a:ext cx="89154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Бабушкин Александр Семенович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-360" y="1143000"/>
            <a:ext cx="61722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оды жизн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1897-1918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г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ольшевик, рабочий Ижевского завода, борец за Советскую власть, первый председатель ЧК Ижевс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августе 1917 года был избран депутатом Ижевского Сове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мае 1918 года назначен начальником штаба советской милиции, а позднее — председателем чрезвычайной комиссии Ижевска. ЧК выявила попытку организации восстания на Ижевском заводе, и арестовала несколько десятков заговорщиков. Во время антибольшевистского восстания рабочих Ижевска Бабушкину с группой красноармейцев удалось вырваться из окружения и уйти, но вскоре Бабушкин был захвачен в плен, заключён в заводскую башню и там казнё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6 октября 1937 года по решению исполкома горсовета имя Бабушкина получила одна из улиц Ижевс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Рисунок 3" descr=""/>
          <p:cNvPicPr/>
          <p:nvPr/>
        </p:nvPicPr>
        <p:blipFill>
          <a:blip r:embed="rId1"/>
          <a:stretch/>
        </p:blipFill>
        <p:spPr>
          <a:xfrm>
            <a:off x="6019920" y="1444680"/>
            <a:ext cx="2625480" cy="39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ндрей Фёдорович Деряби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7242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оды жизни: 1770-18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уководитель Департамента горных и соляных дел и Горного кадетского корпуса, один из крупнейших специалистов горнозаводского дела в России своего време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1807 году — основатель Ижевского оружейного завода (в 1808 году завод был передан в Военное ведомство).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7" descr="i?id=8f9f5860dcddccf485359ceaf85a7bbd-l&amp;n=13"/>
          <p:cNvPicPr/>
          <p:nvPr/>
        </p:nvPicPr>
        <p:blipFill>
          <a:blip r:embed="rId1"/>
          <a:stretch/>
        </p:blipFill>
        <p:spPr>
          <a:xfrm>
            <a:off x="5181480" y="1219320"/>
            <a:ext cx="3164040" cy="47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улакова Галина Алексеев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1920" y="1066320"/>
            <a:ext cx="529596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одилась в 1942 году в дер. Логачи, Воткинский рай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ветская лыжница, 4-кратная олимпийская чемпионка, 9-кратная чемпионка мира, обладательница Кубка мира, 39-кратная чемпионка СССР. Заслуженный мастер спорта СССР (1970), заслуженный тренер Росс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осударственные награ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рден «За заслуги перед Отечеством» IV степени (199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рден Ленина (197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 ордена «Знак Почёта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даль «За трудовое отличие» (24.07.196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служенный тренер Росс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вание Заслуженный работник физической культуры Российской Федерации (200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Рисунок 3" descr=""/>
          <p:cNvPicPr/>
          <p:nvPr/>
        </p:nvPicPr>
        <p:blipFill>
          <a:blip r:embed="rId1"/>
          <a:stretch/>
        </p:blipFill>
        <p:spPr>
          <a:xfrm>
            <a:off x="6324480" y="1214280"/>
            <a:ext cx="2362320" cy="3110040"/>
          </a:xfrm>
          <a:prstGeom prst="rect">
            <a:avLst/>
          </a:prstGeom>
          <a:ln w="0">
            <a:noFill/>
          </a:ln>
        </p:spPr>
      </p:pic>
      <p:pic>
        <p:nvPicPr>
          <p:cNvPr id="97" name="Рисунок 4" descr=""/>
          <p:cNvPicPr/>
          <p:nvPr/>
        </p:nvPicPr>
        <p:blipFill>
          <a:blip r:embed="rId2"/>
          <a:stretch/>
        </p:blipFill>
        <p:spPr>
          <a:xfrm>
            <a:off x="6210360" y="3611520"/>
            <a:ext cx="2476440" cy="2322720"/>
          </a:xfrm>
          <a:prstGeom prst="rect">
            <a:avLst/>
          </a:prstGeom>
          <a:ln w="0">
            <a:noFill/>
          </a:ln>
        </p:spPr>
      </p:pic>
      <p:sp>
        <p:nvSpPr>
          <p:cNvPr id="98" name="TextBox 5"/>
          <p:cNvSpPr/>
          <p:nvPr/>
        </p:nvSpPr>
        <p:spPr>
          <a:xfrm>
            <a:off x="5410080" y="5867280"/>
            <a:ext cx="3733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амятная монета Банка России с портретом Галины Кулаковой. 2 рубля, 2013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адежда Андреевна Дуров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4800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оды жизни: 1783-1866 гг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усская кавалеристка, офицер Русской императорской армии, участница Отечественной войны 1812 года; писатель. 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1806 года Надежда Дурова убежала из родительского дома (Елабуга), обрезала свои косы, переоделась в мужской костюм и под именем Александра Соколова стала солдатом действующей русской арми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течении 10 лет служила в русской 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рмии, дослужившись до чина штаб-ротмистра. Награждена Георгиевским 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рестом. О своих приключениях написала книгу «Записки кавалерист-девицы».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6" descr="i?id=702209316ce723fc5bd347c935122281-l&amp;n=13"/>
          <p:cNvPicPr/>
          <p:nvPr/>
        </p:nvPicPr>
        <p:blipFill>
          <a:blip r:embed="rId1"/>
          <a:stretch/>
        </p:blipFill>
        <p:spPr>
          <a:xfrm>
            <a:off x="4952880" y="1295280"/>
            <a:ext cx="36007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етр Ильич Чайковский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0" y="837720"/>
            <a:ext cx="54388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Годы жизни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1840-1893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г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Русский композитор, педагог, дирижёр и музыкальный крити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Наследие Чайковского представлено разными жанрами: десять опер, три балета, семь симфоний (шесть пронумерованных и симфония «Манфред»), 104 романса, ряд программных симфонических произведений, концерты и камерно-инструментальные ансамбли, хоровые сочинения, фортепианные миниатюры и фортепианные цикл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«Времена года» (1875-187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«Танец маленьких лебедей» (187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"Евгений Онегин" (187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"Спящая красавица" (188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«Танец Феи Драже» (1892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«Вальс цветов» (1892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"Пиковая дама" (189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Рисунок 5" descr=""/>
          <p:cNvPicPr/>
          <p:nvPr/>
        </p:nvPicPr>
        <p:blipFill>
          <a:blip r:embed="rId1"/>
          <a:stretch/>
        </p:blipFill>
        <p:spPr>
          <a:xfrm>
            <a:off x="5487840" y="1417680"/>
            <a:ext cx="351792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Антонина Пальшина-Придатко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оды жизни: 1897—1992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астница Первой Мировой войны, кавалер двух Георгиевских крестов и двух Георгиевских медалей.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 время войны пыталась стать добровольцем, но её отправляли обратно в Сарапул. Так она стала «солдатом Антоном», взяв форму у умершего товарищ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уж погиб на фронте ВОВ, Антонина Тихоновна просилась добровольцем на фронт, но ей было вновь отказано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5" descr="i?id=e2ef6e825e874c700ba0cdcbb6df02bd-l&amp;n=13"/>
          <p:cNvPicPr/>
          <p:nvPr/>
        </p:nvPicPr>
        <p:blipFill>
          <a:blip r:embed="rId1"/>
          <a:stretch/>
        </p:blipFill>
        <p:spPr>
          <a:xfrm>
            <a:off x="4876920" y="3352680"/>
            <a:ext cx="3905280" cy="28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86104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Евгений Максимович Кунгурце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0" y="914400"/>
            <a:ext cx="63244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ambria Mat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 Math"/>
              </a:rPr>
              <a:t>Годы жизни</a:t>
            </a:r>
            <a:r>
              <a:rPr b="0" lang="en-US" sz="1800" spc="-1" strike="noStrike">
                <a:solidFill>
                  <a:srgbClr val="000000"/>
                </a:solidFill>
                <a:latin typeface="Cambria Math"/>
              </a:rPr>
              <a:t>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mbria Math"/>
              </a:rPr>
              <a:t>1921-200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г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ru-RU" sz="1800" spc="-1" strike="noStrike">
                <a:solidFill>
                  <a:srgbClr val="000000"/>
                </a:solidFill>
                <a:latin typeface="Cambria Math"/>
              </a:rPr>
              <a:t>частник Великой Отечественной войны, генерал-майор авиации, Герой Советского Союз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ambria Mat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 Math"/>
              </a:rPr>
              <a:t>Воевал на Ленинградском и 3-м Белорусском фронтах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ambria Mat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 Math"/>
              </a:rPr>
              <a:t>За годы войны совершил 210 боевых вылетов, сбил лично 1 и в группе 6 самолётов противни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ambria Mat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 Math"/>
              </a:rPr>
              <a:t>Указом Президиума Верховного Совета СССР от 23 февраля 1945 года за боевые подвиги лейтенанту присвоено звание Героя Советского Союза с вручением ордена Ленина и медали «Золотая Звезд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ambria Mat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 Math"/>
              </a:rPr>
              <a:t>Бронзовый бюст дважды Героя Советского Союза установлен в 1950 году в Ижевске (скульптор И. И. Козловский, архитектор Л. М. Поляков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ambria Mat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 Math"/>
              </a:rPr>
              <a:t>Именем Героя названа улица в городе Воткинске  и Ижевск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Рисунок 4" descr=""/>
          <p:cNvPicPr/>
          <p:nvPr/>
        </p:nvPicPr>
        <p:blipFill>
          <a:blip r:embed="rId1"/>
          <a:stretch/>
        </p:blipFill>
        <p:spPr>
          <a:xfrm>
            <a:off x="6553080" y="4032360"/>
            <a:ext cx="2362320" cy="2790720"/>
          </a:xfrm>
          <a:prstGeom prst="rect">
            <a:avLst/>
          </a:prstGeom>
          <a:ln w="0">
            <a:noFill/>
          </a:ln>
        </p:spPr>
      </p:pic>
      <p:pic>
        <p:nvPicPr>
          <p:cNvPr id="73" name="Рисунок 5" descr=""/>
          <p:cNvPicPr/>
          <p:nvPr/>
        </p:nvPicPr>
        <p:blipFill>
          <a:blip r:embed="rId2"/>
          <a:stretch/>
        </p:blipFill>
        <p:spPr>
          <a:xfrm>
            <a:off x="6705720" y="1219320"/>
            <a:ext cx="2133360" cy="27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Иван Дмитриевич Пастухов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оды жизни: 1887-1918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бочий Ижевского оружейного завода, революционер-большевик, депутат Учредительного собрания, борец за установление Советской власти на Урале, один из её руководителе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исал корреспонденции в большевистскую газету «Правда», не раз попадал под арес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д его руководством произошла большевизация Ижевского Совет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5" descr="i?id=d69fec7c09ea5263fca10cb3509e6a3e-l&amp;n=13"/>
          <p:cNvPicPr/>
          <p:nvPr/>
        </p:nvPicPr>
        <p:blipFill>
          <a:blip r:embed="rId1"/>
          <a:stretch/>
        </p:blipFill>
        <p:spPr>
          <a:xfrm>
            <a:off x="4876920" y="3886200"/>
            <a:ext cx="350496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5960" y="274320"/>
            <a:ext cx="8762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Татьяна Николаевна Барамзин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228240" y="1219320"/>
            <a:ext cx="51814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ambria Mat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 Math"/>
              </a:rPr>
              <a:t>Годы жизни</a:t>
            </a:r>
            <a:r>
              <a:rPr b="0" lang="en-US" sz="1800" spc="-1" strike="noStrike">
                <a:solidFill>
                  <a:srgbClr val="000000"/>
                </a:solidFill>
                <a:latin typeface="Cambria Math"/>
              </a:rPr>
              <a:t>: 1919-1944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г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ambria Mat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ru-RU" sz="1800" spc="-1" strike="noStrike">
                <a:solidFill>
                  <a:srgbClr val="000000"/>
                </a:solidFill>
                <a:latin typeface="Cambria Math"/>
              </a:rPr>
              <a:t>оветский снайпер и телефонистка, участница Великой Отечественной войны, Герой Советского Сою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ambria Mat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ambria Mat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 Math"/>
              </a:rPr>
              <a:t>В годы Великой Отечественной войны окончила Центральную женскую школу снайперов и с апреля 1944 года воевала на 3-м Белорусском фронте, уничтожив 16 солдат противника. Из-за проблем со зрением переучилась на телефонистк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ambria Mat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ambria Mat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 Math"/>
              </a:rPr>
              <a:t>22 и 23 июня 1944 года в боях у деревни Малое Морозово под сильным артиллерийским огнём она 14 раз исправляла порванную телефонную связ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ambria Mat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Рисунок 3" descr=""/>
          <p:cNvPicPr/>
          <p:nvPr/>
        </p:nvPicPr>
        <p:blipFill>
          <a:blip r:embed="rId1"/>
          <a:stretch/>
        </p:blipFill>
        <p:spPr>
          <a:xfrm>
            <a:off x="5791320" y="1752480"/>
            <a:ext cx="2895480" cy="39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457200" y="533160"/>
            <a:ext cx="4952880" cy="55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ambria Mat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 Math"/>
              </a:rPr>
              <a:t>5 июля 1944 года Татьяна Барамзина в составе 3-го стрелкового батальона была направлена в тыл противника для захвата узла дорог и удержания его до прибытия основных си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ambria Mat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 Math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mbria Math"/>
              </a:rPr>
              <a:t>8 мая 1946 года улица Пролетарская в городе Глазов, где выросла Татьяна, была названа её имене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ambria Mat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 Math"/>
              </a:rPr>
              <a:t>В Глазове, Ижевске и Перми  установлены памятни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ambria Mat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 Math"/>
              </a:rPr>
              <a:t>Именем Татьяны названы улицы в Минске, Глазове, Ижевске, Перми, Подольск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Рисунок 3" descr=""/>
          <p:cNvPicPr/>
          <p:nvPr/>
        </p:nvPicPr>
        <p:blipFill>
          <a:blip r:embed="rId1"/>
          <a:stretch/>
        </p:blipFill>
        <p:spPr>
          <a:xfrm>
            <a:off x="6164280" y="701640"/>
            <a:ext cx="2298600" cy="3070440"/>
          </a:xfrm>
          <a:prstGeom prst="rect">
            <a:avLst/>
          </a:prstGeom>
          <a:ln w="0">
            <a:noFill/>
          </a:ln>
        </p:spPr>
      </p:pic>
      <p:pic>
        <p:nvPicPr>
          <p:cNvPr id="82" name="Рисунок 4" descr=""/>
          <p:cNvPicPr/>
          <p:nvPr/>
        </p:nvPicPr>
        <p:blipFill>
          <a:blip r:embed="rId2"/>
          <a:stretch/>
        </p:blipFill>
        <p:spPr>
          <a:xfrm>
            <a:off x="4800600" y="3990960"/>
            <a:ext cx="367668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ихаил Тимофеевич Калашников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990360"/>
            <a:ext cx="44197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оды жизни: 1919-20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дающийся конструктор стрелкового оружия в СССР и России, доктор технических наук, генерал-лейтенант, изобрёл всемирно 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вестный автомат Калашникова (АК). Герой Российской Федерации. Дважды Герой Социалистического Труда. Лауреат Ленинской премии и Сталинской премии первой степени. Кавалер ордена Святого апостола Андрея Первозванного. Член Союза писателей Росс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вооружении также стоят пулемёты, пистолеты, охотничьи караби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5" descr="i?id=791d5c7dc5ed5a3ee7d9805fd4db988e-l&amp;n=13"/>
          <p:cNvPicPr/>
          <p:nvPr/>
        </p:nvPicPr>
        <p:blipFill>
          <a:blip r:embed="rId1"/>
          <a:stretch/>
        </p:blipFill>
        <p:spPr>
          <a:xfrm>
            <a:off x="5029200" y="1219320"/>
            <a:ext cx="3592440" cy="47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4-16T15:43:31Z</dcterms:created>
  <dc:creator>связной</dc:creator>
  <dc:description/>
  <dc:language>en-US</dc:language>
  <cp:lastModifiedBy>pav_2</cp:lastModifiedBy>
  <dcterms:modified xsi:type="dcterms:W3CDTF">2019-04-18T06:29:57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