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220-E22F-4675-93BF-BC1960F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FDD-1805-4F71-B95C-FEC7C6B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4B7-331C-40DA-8FE4-044D154E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E58-268E-49BC-8931-D9243F4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0CA-8B16-4AC7-ADBC-01C1CA42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FB5-2705-48D8-9AE3-5128BFF2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AC6-F9D3-4721-B78D-5E7C3E2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608-449D-4EE1-82B9-6E7EC59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A8B-C66B-4A39-B918-6DCC06C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EC7-64C3-4657-84EA-FD7A194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E3B-B7A8-4B2D-8F11-4D3779D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277-866D-4236-85CB-BF3DA8D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983-6003-444F-8AA6-656AE7736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676440" y="633240"/>
            <a:ext cx="7748280" cy="32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Ирина</cp:lastModifiedBy>
  <dcterms:modified xsi:type="dcterms:W3CDTF">2020-05-02T15:30:55Z</dcterms:modified>
  <cp:revision>120</cp:revision>
  <dc:subject/>
  <dc:title>Презентация PowerPoint</dc:title>
</cp:coreProperties>
</file>