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8F17-612A-48DB-A8CC-EFA8FD279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903F-37BA-4027-AB30-E45287AF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D7AC-BD58-4349-A70D-EA704A060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104C-F2A5-442D-9994-2FBC25F27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80EF-14FC-49CA-A4BD-62DA9A75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1A28-A4EE-43D4-B400-DC2E3967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EF1B-6144-4760-B425-0E6DCEF1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E908-139B-4342-9D3D-91A703EA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E483-055B-4880-BE6B-0CE0B7C6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0A0A-FBC4-4269-81CA-78D098C6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C597-9B1F-4D41-B086-9B9D148A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A08B-EC9F-4079-A08F-AB37C22C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6DDA-34E2-4508-AE6E-9818C7AE6D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hyperlink" Target="http://www.70mb.ru/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hyperlink" Target="http://www.1gb.ru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hyperlink" Target="http://guru-host.ru/free_hosting.php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hyperlink" Target="http://www.ascont.ru/constructor-and-hosting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" descr=""/>
          <p:cNvPicPr/>
          <p:nvPr/>
        </p:nvPicPr>
        <p:blipFill>
          <a:blip r:embed="rId1"/>
          <a:stretch/>
        </p:blipFill>
        <p:spPr>
          <a:xfrm>
            <a:off x="676440" y="633240"/>
            <a:ext cx="7748280" cy="3249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8504280" cy="5502600"/>
          </a:xfrm>
          <a:prstGeom prst="rect">
            <a:avLst/>
          </a:prstGeom>
          <a:ln w="0">
            <a:noFill/>
          </a:ln>
        </p:spPr>
      </p:pic>
      <p:sp>
        <p:nvSpPr>
          <p:cNvPr id="141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мещение сайта в Интерн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684360" y="76500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70mb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сайт «Бесплатный хостинг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8351640" cy="4591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611280" y="907920"/>
            <a:ext cx="79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1gb.ru/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айт платный хостинг «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b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мещение сайта в Интерн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501480" y="2205000"/>
            <a:ext cx="8391600" cy="39592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684360" y="98100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guru-host.ru/free_hosting.php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айт «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uru-host.ru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мещение сайта в Интерн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8282160" cy="46893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539640" y="76500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ascont.ru/constructor-and-hostin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айт платны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остинг «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CON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мещение сайта в Интерн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Что выбра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468360" y="765000"/>
            <a:ext cx="8424720" cy="35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латным хостингом пользуются крупные компании. Они получают удобное для прочтения и запоминания доменное имя второго уровня, которое может совпадать с названием компан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астные лица и небольшие компании пользуются бесплатным хостингом. Ограничения: небольшое дисковое пространство, ограничение размера отдельного файла, доменное имя только третьего уровня и т. д. Главный недостаток -  на страницы вашего сайта без вашего согласия добавляется коммерческая рекла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http://gbook.ru/sites/default/files/imagecache/body/11.jpg"/>
          <p:cNvPicPr/>
          <p:nvPr/>
        </p:nvPicPr>
        <p:blipFill>
          <a:blip r:embed="rId2"/>
          <a:stretch/>
        </p:blipFill>
        <p:spPr>
          <a:xfrm>
            <a:off x="5572080" y="4143240"/>
            <a:ext cx="2857680" cy="23529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4"/>
          <p:cNvSpPr/>
          <p:nvPr/>
        </p:nvSpPr>
        <p:spPr>
          <a:xfrm>
            <a:off x="500040" y="4429080"/>
            <a:ext cx="48578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исок серверов, предоставляющих бесплатный хостинг, можно получить поиском по запросу «бесплатный хостинг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468360" y="1700280"/>
            <a:ext cx="3527280" cy="649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пособы создания сай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5003640" y="981000"/>
            <a:ext cx="36738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зык разме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пертекст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5003640" y="1773360"/>
            <a:ext cx="367380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кстовый ред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oft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5003640" y="2565360"/>
            <a:ext cx="36738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ML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дакто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структор сай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 flipH="1">
            <a:off x="3995640" y="1989000"/>
            <a:ext cx="100800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 flipH="1">
            <a:off x="3995640" y="1341360"/>
            <a:ext cx="93672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8"/>
          <p:cNvSpPr/>
          <p:nvPr/>
        </p:nvSpPr>
        <p:spPr>
          <a:xfrm flipH="1" flipV="1">
            <a:off x="3995640" y="2133360"/>
            <a:ext cx="1008000" cy="647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8"/>
          <p:cNvSpPr/>
          <p:nvPr/>
        </p:nvSpPr>
        <p:spPr>
          <a:xfrm>
            <a:off x="539640" y="3284640"/>
            <a:ext cx="8280360" cy="76428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воначально следует продумать содержание и структуру сай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539640" y="5589720"/>
            <a:ext cx="8282160" cy="76428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д размещением сайта в сети Интернет следует провести его тестирова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539640" y="4292640"/>
            <a:ext cx="8280360" cy="109944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наполнении страниц сайта информационными материалами следует придерживаться определённых рекоменд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Технология создания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7"/>
          <p:cNvSpPr/>
          <p:nvPr/>
        </p:nvSpPr>
        <p:spPr>
          <a:xfrm>
            <a:off x="468360" y="2833560"/>
            <a:ext cx="2951280" cy="115272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Язык размет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ипертекст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Hyper Text Markup Language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8"/>
          <p:cNvSpPr/>
          <p:nvPr/>
        </p:nvSpPr>
        <p:spPr>
          <a:xfrm>
            <a:off x="3635280" y="2833560"/>
            <a:ext cx="2162160" cy="115272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кстовы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дакт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9"/>
          <p:cNvSpPr/>
          <p:nvPr/>
        </p:nvSpPr>
        <p:spPr>
          <a:xfrm>
            <a:off x="6156360" y="2833560"/>
            <a:ext cx="2736720" cy="115272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изуаль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ML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дактор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структор сай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1"/>
          <p:cNvSpPr/>
          <p:nvPr/>
        </p:nvSpPr>
        <p:spPr>
          <a:xfrm>
            <a:off x="611280" y="4562640"/>
            <a:ext cx="2592360" cy="1152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кст размечаю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ециальны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тками – тег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2"/>
          <p:cNvSpPr/>
          <p:nvPr/>
        </p:nvSpPr>
        <p:spPr>
          <a:xfrm>
            <a:off x="3421080" y="4562640"/>
            <a:ext cx="2592360" cy="1152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кумен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храняют ка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аниц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3"/>
          <p:cNvSpPr/>
          <p:nvPr/>
        </p:nvSpPr>
        <p:spPr>
          <a:xfrm>
            <a:off x="6227640" y="4562640"/>
            <a:ext cx="2737080" cy="1152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Microsoft FrontP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uCoz, Сайткрафт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5"/>
          <p:cNvSpPr/>
          <p:nvPr/>
        </p:nvSpPr>
        <p:spPr>
          <a:xfrm flipH="1">
            <a:off x="2700000" y="2112840"/>
            <a:ext cx="1871640" cy="64944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6"/>
          <p:cNvSpPr/>
          <p:nvPr/>
        </p:nvSpPr>
        <p:spPr>
          <a:xfrm>
            <a:off x="4716360" y="2112840"/>
            <a:ext cx="0" cy="72072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7"/>
          <p:cNvSpPr/>
          <p:nvPr/>
        </p:nvSpPr>
        <p:spPr>
          <a:xfrm>
            <a:off x="4932360" y="2112840"/>
            <a:ext cx="1800360" cy="72072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8"/>
          <p:cNvSpPr/>
          <p:nvPr/>
        </p:nvSpPr>
        <p:spPr>
          <a:xfrm>
            <a:off x="1835280" y="3986280"/>
            <a:ext cx="215640" cy="503280"/>
          </a:xfrm>
          <a:prstGeom prst="downArrow">
            <a:avLst>
              <a:gd name="adj1" fmla="val 50000"/>
              <a:gd name="adj2" fmla="val 58347"/>
            </a:avLst>
          </a:pr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4643280" y="3986280"/>
            <a:ext cx="216000" cy="503280"/>
          </a:xfrm>
          <a:prstGeom prst="downArrow">
            <a:avLst>
              <a:gd name="adj1" fmla="val 50000"/>
              <a:gd name="adj2" fmla="val 58250"/>
            </a:avLst>
          </a:pr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0"/>
          <p:cNvSpPr/>
          <p:nvPr/>
        </p:nvSpPr>
        <p:spPr>
          <a:xfrm>
            <a:off x="7451640" y="3986280"/>
            <a:ext cx="216000" cy="503280"/>
          </a:xfrm>
          <a:prstGeom prst="downArrow">
            <a:avLst>
              <a:gd name="adj1" fmla="val 50000"/>
              <a:gd name="adj2" fmla="val 58250"/>
            </a:avLst>
          </a:pr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1835280" y="1465200"/>
            <a:ext cx="5689440" cy="64764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собы создания сай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озда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4357800" y="1357200"/>
            <a:ext cx="4317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Web-дизайнер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ециалист, проектирующий структуру Web-сайта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бирающий способы подачи информации и выполняющий художественное оформление Web-проек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://legonko.ru/wp-content/uploads/2010/08/web-design.jpg"/>
          <p:cNvPicPr/>
          <p:nvPr/>
        </p:nvPicPr>
        <p:blipFill>
          <a:blip r:embed="rId2"/>
          <a:stretch/>
        </p:blipFill>
        <p:spPr>
          <a:xfrm>
            <a:off x="571680" y="92880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"/>
          <p:cNvSpPr/>
          <p:nvPr/>
        </p:nvSpPr>
        <p:spPr>
          <a:xfrm>
            <a:off x="928800" y="3714840"/>
            <a:ext cx="792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здадим сайт школьного творческого объединения «Компьютерная графика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4 правила, которые должен помнить web дизайнер"/>
          <p:cNvPicPr/>
          <p:nvPr/>
        </p:nvPicPr>
        <p:blipFill>
          <a:blip r:embed="rId3"/>
          <a:stretch/>
        </p:blipFill>
        <p:spPr>
          <a:xfrm>
            <a:off x="5286240" y="4162320"/>
            <a:ext cx="3191040" cy="2695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одержание и структура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539640" y="765000"/>
            <a:ext cx="835344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одержание сайт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олжно отражать творческую жизнь участников объединения, привлекать внимание единомышленни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539640" y="1700280"/>
            <a:ext cx="835344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план)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айт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разбиение общего содержания на смысловые разделы и отдельные страницы с указанием связей между ни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541440" y="3862440"/>
            <a:ext cx="180000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ости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я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7"/>
          <p:cNvSpPr/>
          <p:nvPr/>
        </p:nvSpPr>
        <p:spPr>
          <a:xfrm>
            <a:off x="2629080" y="3862440"/>
            <a:ext cx="180000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алере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8"/>
          <p:cNvSpPr/>
          <p:nvPr/>
        </p:nvSpPr>
        <p:spPr>
          <a:xfrm>
            <a:off x="4718160" y="3862440"/>
            <a:ext cx="180000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ч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9"/>
          <p:cNvSpPr/>
          <p:nvPr/>
        </p:nvSpPr>
        <p:spPr>
          <a:xfrm>
            <a:off x="6805440" y="3862440"/>
            <a:ext cx="180036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ез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сыл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1476360" y="4654440"/>
            <a:ext cx="180036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р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1"/>
          <p:cNvSpPr/>
          <p:nvPr/>
        </p:nvSpPr>
        <p:spPr>
          <a:xfrm>
            <a:off x="1476360" y="5446800"/>
            <a:ext cx="180036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кто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4"/>
          <p:cNvSpPr/>
          <p:nvPr/>
        </p:nvSpPr>
        <p:spPr>
          <a:xfrm>
            <a:off x="1476360" y="6238800"/>
            <a:ext cx="1800360" cy="43200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аногра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5"/>
          <p:cNvSpPr/>
          <p:nvPr/>
        </p:nvSpPr>
        <p:spPr>
          <a:xfrm>
            <a:off x="5724360" y="4654440"/>
            <a:ext cx="180036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6"/>
          <p:cNvSpPr/>
          <p:nvPr/>
        </p:nvSpPr>
        <p:spPr>
          <a:xfrm>
            <a:off x="5724360" y="5519880"/>
            <a:ext cx="1800360" cy="50148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к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7"/>
          <p:cNvSpPr/>
          <p:nvPr/>
        </p:nvSpPr>
        <p:spPr>
          <a:xfrm>
            <a:off x="5724360" y="6238800"/>
            <a:ext cx="1800360" cy="43200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к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8"/>
          <p:cNvSpPr/>
          <p:nvPr/>
        </p:nvSpPr>
        <p:spPr>
          <a:xfrm>
            <a:off x="1476360" y="3646440"/>
            <a:ext cx="612144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9"/>
          <p:cNvSpPr/>
          <p:nvPr/>
        </p:nvSpPr>
        <p:spPr>
          <a:xfrm>
            <a:off x="1476360" y="3646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0"/>
          <p:cNvSpPr/>
          <p:nvPr/>
        </p:nvSpPr>
        <p:spPr>
          <a:xfrm>
            <a:off x="3492360" y="3646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1"/>
          <p:cNvSpPr/>
          <p:nvPr/>
        </p:nvSpPr>
        <p:spPr>
          <a:xfrm>
            <a:off x="5653080" y="3646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2"/>
          <p:cNvSpPr/>
          <p:nvPr/>
        </p:nvSpPr>
        <p:spPr>
          <a:xfrm>
            <a:off x="7597800" y="3646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3"/>
          <p:cNvSpPr/>
          <p:nvPr/>
        </p:nvSpPr>
        <p:spPr>
          <a:xfrm>
            <a:off x="4573440" y="3430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4"/>
          <p:cNvSpPr/>
          <p:nvPr/>
        </p:nvSpPr>
        <p:spPr>
          <a:xfrm>
            <a:off x="3997440" y="4510080"/>
            <a:ext cx="0" cy="20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5"/>
          <p:cNvSpPr/>
          <p:nvPr/>
        </p:nvSpPr>
        <p:spPr>
          <a:xfrm>
            <a:off x="5005440" y="4510080"/>
            <a:ext cx="0" cy="20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3276720" y="3141720"/>
            <a:ext cx="2520720" cy="35856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ная стра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6"/>
          <p:cNvSpPr/>
          <p:nvPr/>
        </p:nvSpPr>
        <p:spPr>
          <a:xfrm flipH="1">
            <a:off x="3276720" y="494172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7"/>
          <p:cNvSpPr/>
          <p:nvPr/>
        </p:nvSpPr>
        <p:spPr>
          <a:xfrm flipH="1">
            <a:off x="3276720" y="566244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8"/>
          <p:cNvSpPr/>
          <p:nvPr/>
        </p:nvSpPr>
        <p:spPr>
          <a:xfrm flipH="1">
            <a:off x="3276720" y="652608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9"/>
          <p:cNvSpPr/>
          <p:nvPr/>
        </p:nvSpPr>
        <p:spPr>
          <a:xfrm flipH="1">
            <a:off x="5005440" y="494172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0"/>
          <p:cNvSpPr/>
          <p:nvPr/>
        </p:nvSpPr>
        <p:spPr>
          <a:xfrm flipH="1">
            <a:off x="5005440" y="566244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1"/>
          <p:cNvSpPr/>
          <p:nvPr/>
        </p:nvSpPr>
        <p:spPr>
          <a:xfrm flipH="1">
            <a:off x="5005440" y="652608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2"/>
          <p:cNvSpPr/>
          <p:nvPr/>
        </p:nvSpPr>
        <p:spPr>
          <a:xfrm>
            <a:off x="1547640" y="2637000"/>
            <a:ext cx="59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ab4"/>
                </a:solidFill>
                <a:latin typeface="Arial"/>
              </a:rPr>
              <a:t>Иерархическая структура сай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формле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39640" y="62064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главной странице размещают название сайта, тематическое графическое изображение, короткий текст с описанием содержания сайта, главное меню - ссылки на основные разделы сай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"/>
          <p:cNvPicPr/>
          <p:nvPr/>
        </p:nvPicPr>
        <p:blipFill>
          <a:blip r:embed="rId2"/>
          <a:stretch/>
        </p:blipFill>
        <p:spPr>
          <a:xfrm>
            <a:off x="1619280" y="2133720"/>
            <a:ext cx="6408720" cy="4397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3"/>
          <a:stretch/>
        </p:blipFill>
        <p:spPr>
          <a:xfrm>
            <a:off x="2050920" y="2143080"/>
            <a:ext cx="5786640" cy="47149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94" name="Picture 11" descr=""/>
          <p:cNvPicPr/>
          <p:nvPr/>
        </p:nvPicPr>
        <p:blipFill>
          <a:blip r:embed="rId4"/>
          <a:stretch/>
        </p:blipFill>
        <p:spPr>
          <a:xfrm>
            <a:off x="1403280" y="2133720"/>
            <a:ext cx="6962760" cy="451476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формле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539640" y="620640"/>
            <a:ext cx="820908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ждая страница сайта, как правило, имеет несколько постоянных элементов, которые всегда находятся на одних и тех же местах. Эт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468360" y="1557360"/>
            <a:ext cx="820908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19044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головок сайта, расположенный в самом верх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indent="-1904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аниц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indent="-19044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лавное меню, как правило, размещаемое в левой ча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indent="-1904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аниц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2771640" y="3068640"/>
            <a:ext cx="5616720" cy="3168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2987640" y="3213000"/>
            <a:ext cx="5256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4714920" y="3284640"/>
            <a:ext cx="3384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сай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4282920" y="3932280"/>
            <a:ext cx="3961080" cy="18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5435640" y="4005360"/>
            <a:ext cx="2663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4356000" y="5013360"/>
            <a:ext cx="36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оле ввода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4859280" y="5877000"/>
            <a:ext cx="2879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2843280" y="4076640"/>
            <a:ext cx="1295280" cy="2160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2843280" y="4363920"/>
            <a:ext cx="1295280" cy="2160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2843280" y="4653000"/>
            <a:ext cx="1295280" cy="2160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898560" y="2997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898560" y="3789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ен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898560" y="4581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Ф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2"/>
          <p:cNvSpPr/>
          <p:nvPr/>
        </p:nvSpPr>
        <p:spPr>
          <a:xfrm>
            <a:off x="755640" y="537372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ордин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3"/>
          <p:cNvSpPr/>
          <p:nvPr/>
        </p:nvSpPr>
        <p:spPr>
          <a:xfrm>
            <a:off x="2266920" y="3213000"/>
            <a:ext cx="1081080" cy="28728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4"/>
          <p:cNvSpPr/>
          <p:nvPr/>
        </p:nvSpPr>
        <p:spPr>
          <a:xfrm>
            <a:off x="2411280" y="4005360"/>
            <a:ext cx="863640" cy="21564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5"/>
          <p:cNvSpPr/>
          <p:nvPr/>
        </p:nvSpPr>
        <p:spPr>
          <a:xfrm>
            <a:off x="2195640" y="4940280"/>
            <a:ext cx="1079280" cy="43344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>
            <a:off x="2411280" y="5516640"/>
            <a:ext cx="2592360" cy="50472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7"/>
          <p:cNvSpPr/>
          <p:nvPr/>
        </p:nvSpPr>
        <p:spPr>
          <a:xfrm>
            <a:off x="2843280" y="4940280"/>
            <a:ext cx="1295280" cy="2160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2771640" y="6461280"/>
            <a:ext cx="55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ный шаблон страниц сай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9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формле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2195640" y="1844640"/>
            <a:ext cx="6622920" cy="649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ставьте точку в названиях сайта и страниц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они состоят из одного предлож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2195640" y="2637000"/>
            <a:ext cx="6622920" cy="576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я пунктов меню делайте кратк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2195640" y="3357720"/>
            <a:ext cx="6622920" cy="502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выбирайте для страниц пёстрый ф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2195640" y="4005360"/>
            <a:ext cx="6622920" cy="792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размещайте на странице слишком м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онных и художественных бло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1"/>
          <p:cNvSpPr/>
          <p:nvPr/>
        </p:nvSpPr>
        <p:spPr>
          <a:xfrm>
            <a:off x="2195640" y="4941720"/>
            <a:ext cx="6622920" cy="576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пишите слишком длинных текс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2"/>
          <p:cNvSpPr/>
          <p:nvPr/>
        </p:nvSpPr>
        <p:spPr>
          <a:xfrm>
            <a:off x="2195640" y="5661000"/>
            <a:ext cx="6624360" cy="720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ждом абзаце используй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и и  те же приёмы форматир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>
            <a:off x="1187280" y="220500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5"/>
          <p:cNvSpPr/>
          <p:nvPr/>
        </p:nvSpPr>
        <p:spPr>
          <a:xfrm>
            <a:off x="1187280" y="292428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"/>
          <p:cNvSpPr/>
          <p:nvPr/>
        </p:nvSpPr>
        <p:spPr>
          <a:xfrm>
            <a:off x="1187280" y="357336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7"/>
          <p:cNvSpPr/>
          <p:nvPr/>
        </p:nvSpPr>
        <p:spPr>
          <a:xfrm>
            <a:off x="1187280" y="436572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1187280" y="522936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1187280" y="609300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0"/>
          <p:cNvSpPr/>
          <p:nvPr/>
        </p:nvSpPr>
        <p:spPr>
          <a:xfrm>
            <a:off x="900000" y="836640"/>
            <a:ext cx="7848720" cy="792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комендации при наполнении страниц сайт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формационными материал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1187280" y="1628640"/>
            <a:ext cx="0" cy="4464360"/>
          </a:xfrm>
          <a:prstGeom prst="line">
            <a:avLst/>
          </a:prstGeom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Тестирова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468360" y="765000"/>
            <a:ext cx="8424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Тестирование сайта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проверка того, что сайт правильно отображается разными браузерами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ксты хорошо читаются на выбранном фоне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исунки расположены на своих местах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иперссылки обеспечивают правильные перехо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стирование проводят перед размещением сайта в сети Интерн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2" descr="http://developerguru.net/wp-content/uploads/2010/08/browsers2.jpg"/>
          <p:cNvPicPr/>
          <p:nvPr/>
        </p:nvPicPr>
        <p:blipFill>
          <a:blip r:embed="rId2"/>
          <a:stretch/>
        </p:blipFill>
        <p:spPr>
          <a:xfrm>
            <a:off x="4643280" y="3786120"/>
            <a:ext cx="4000680" cy="2714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http://www.ligaprint.ru/resources/images/1%20test.jpg"/>
          <p:cNvPicPr/>
          <p:nvPr/>
        </p:nvPicPr>
        <p:blipFill>
          <a:blip r:embed="rId3"/>
          <a:stretch/>
        </p:blipFill>
        <p:spPr>
          <a:xfrm>
            <a:off x="928800" y="3929040"/>
            <a:ext cx="3344760" cy="2508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мещение сайта в Интер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428760" y="100008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Хостинг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услуга по размещению сайта на сервере, постоянно находящемся в сети Интернет; хостинг может быть как платным, так и бесплатны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http://seoart.com.ua/images/Hosting.jpg"/>
          <p:cNvPicPr/>
          <p:nvPr/>
        </p:nvPicPr>
        <p:blipFill>
          <a:blip r:embed="rId2"/>
          <a:stretch/>
        </p:blipFill>
        <p:spPr>
          <a:xfrm>
            <a:off x="2706840" y="2567160"/>
            <a:ext cx="3870000" cy="3389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Ирина</cp:lastModifiedBy>
  <dcterms:modified xsi:type="dcterms:W3CDTF">2020-05-02T15:30:55Z</dcterms:modified>
  <cp:revision>120</cp:revision>
  <dc:subject/>
  <dc:title>Презентация PowerPoint</dc:title>
</cp:coreProperties>
</file>