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6CA-ECD3-4589-96C7-7926D47D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E7A-7092-4767-8FD4-D87D2A71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51D-EE79-4DAE-8F2D-88D80981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FAE-42FF-4C76-B5C9-64B83568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746-1E33-4678-84B6-60EA0499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3BB-AA69-44DE-8651-21811E06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8CA-4856-4346-A569-AED915E1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FA7-A855-4943-BCBF-A13F12D1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F3D-2DB5-48C8-BB89-79DF969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5A6-DC56-4330-9F6C-0DDD9D4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D0D-75C5-46EA-AF73-9E461E39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070-C71F-4C5C-BF7D-EEAB699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D0A6-2469-469E-A4C4-40D1C46D3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278360" y="1042920"/>
            <a:ext cx="720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02840" y="304560"/>
            <a:ext cx="829476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, эскимо, яхта, ручеёк, эхо, якорь, аэропор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02840" y="304560"/>
            <a:ext cx="829476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           Эским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хта            Эх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еёк         Аэропо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р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02840" y="423360"/>
            <a:ext cx="834084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с буквой э, которые пришли в наш язык из других язы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слов с буквой э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особенности слов с буквой э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9720" y="1333440"/>
            <a:ext cx="7886880" cy="40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третье апреля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326880"/>
            <a:ext cx="3450960" cy="653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м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…ц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таж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лектри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…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кра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…на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х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4397400" y="326880"/>
            <a:ext cx="3451320" cy="65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м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ец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ж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ра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а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02840" y="304560"/>
            <a:ext cx="829476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мой,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ди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руди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но с книгою сиди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слово он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ж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400"/>
            </a:b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шелон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рмитаж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 он, если надо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х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страд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ди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лов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лова на букву э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́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 буквы, 4 зву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Пользователь Windows</cp:lastModifiedBy>
  <dcterms:modified xsi:type="dcterms:W3CDTF">2020-05-20T17:11:44Z</dcterms:modified>
  <cp:revision>60</cp:revision>
  <dc:subject/>
  <dc:title>Презентация PowerPoint</dc:title>
</cp:coreProperties>
</file>