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5.png" ContentType="image/png"/>
  <Override PartName="/ppt/media/applause.wav" ContentType="audio/x-wav"/>
  <Override PartName="/ppt/media/image28.wmf" ContentType="image/x-wmf"/>
  <Override PartName="/ppt/media/image12.gif" ContentType="image/gif"/>
  <Override PartName="/ppt/media/image2.wmf" ContentType="image/x-wmf"/>
  <Override PartName="/ppt/media/image1.png" ContentType="image/png"/>
  <Override PartName="/ppt/media/image24.png" ContentType="image/png"/>
  <Override PartName="/ppt/media/image14.gif" ContentType="image/gif"/>
  <Override PartName="/ppt/media/image17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16.gif" ContentType="image/gif"/>
  <Override PartName="/ppt/media/image2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0AA-8DAD-4D8A-962C-C5577D7F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01F-853B-4B5B-939D-318D51BE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607-A626-485C-BF9A-F699051C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33D-25C6-40E4-B2C4-06F28135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402B-3492-4415-8606-31229EC9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AF13-50D5-48CA-B044-02E97B2F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84C5-A1A6-42CE-9F8D-FACD7E34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628C-34A8-4CB2-855D-C434CA6A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30D5-4AC6-496E-B04C-99B9C302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97E8-CAA3-4C80-9C06-79ACD3EF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1819-631D-4274-BC70-C0156592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FB6-0CD8-4CF1-9BD5-07C26E6F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6FA7-2A6D-4CCF-91AC-00E25950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3775-AF4C-4FD7-AA79-F724B255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7321-6D26-4449-B900-E209391C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9FB1-8173-452A-8FD4-D365AC46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40F5-A459-45F2-8ABF-3DA67096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D4C-F1DE-4079-B632-55E96292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8FF-46DF-4464-A0F1-4700832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5DC-FF5D-4794-B3E2-99694C0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ADA-CFA5-435C-A5A0-414CC10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129-AAB9-45AD-85B5-E25D030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C9D-ACF5-45CD-9842-702197B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D56-57A2-49FB-8B13-AD92D514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B461-BD84-4CA7-9121-24460248E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E9A6-47C3-4707-9895-318A71F62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17.png"/><Relationship Id="rId20" Type="http://schemas.openxmlformats.org/officeDocument/2006/relationships/image" Target="../media/image19.png"/><Relationship Id="rId21" Type="http://schemas.openxmlformats.org/officeDocument/2006/relationships/image" Target="../media/image21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wmf"/><Relationship Id="rId4" Type="http://schemas.openxmlformats.org/officeDocument/2006/relationships/image" Target="../media/image29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1268280"/>
            <a:ext cx="8353440" cy="4176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100000">
                <a:srgbClr val="8488c4">
                  <a:alpha val="10196"/>
                </a:srgbClr>
              </a:gs>
            </a:gsLst>
            <a:lin ang="54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униципа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«Средняя общеобразовательная школа №125 с углублённым изучением математики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Урок математики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2 клас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ahoma"/>
              </a:rPr>
              <a:t>Тема: «Делени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Выполнила: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Учаева Марина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Снежин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3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36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72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22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72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72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72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7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Выбери выражения,                                                                 которые могут быть решением этой задач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2654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Tahoma"/>
              </a:rPr>
              <a:t>В огороде 6 грядок.  С  пяти грядок мама собрала по 2 огурца,  а с одной 3. Сколько  всего огурцов она собрал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Script MT Bold"/>
              </a:rPr>
              <a:t>2+2+2+2+2+3=13 (ог.) всего                              2*5+3=13(ог.) вс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43280" y="2128680"/>
            <a:ext cx="4032360" cy="3124440"/>
            <a:chOff x="4643280" y="2128680"/>
            <a:chExt cx="4032360" cy="3124440"/>
          </a:xfrm>
        </p:grpSpPr>
        <p:grpSp>
          <p:nvGrpSpPr>
            <p:cNvPr id="201" name=""/>
            <p:cNvGrpSpPr/>
            <p:nvPr/>
          </p:nvGrpSpPr>
          <p:grpSpPr>
            <a:xfrm>
              <a:off x="4643280" y="2128680"/>
              <a:ext cx="2598480" cy="387360"/>
              <a:chOff x="4643280" y="2128680"/>
              <a:chExt cx="2598480" cy="387360"/>
            </a:xfrm>
          </p:grpSpPr>
          <p:pic>
            <p:nvPicPr>
              <p:cNvPr id="2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43280" y="2128680"/>
                <a:ext cx="1234800" cy="38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06960" y="2128680"/>
                <a:ext cx="12348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4" name=""/>
            <p:cNvGrpSpPr/>
            <p:nvPr/>
          </p:nvGrpSpPr>
          <p:grpSpPr>
            <a:xfrm>
              <a:off x="4643280" y="2581200"/>
              <a:ext cx="2598480" cy="385920"/>
              <a:chOff x="4643280" y="2581200"/>
              <a:chExt cx="2598480" cy="385920"/>
            </a:xfrm>
          </p:grpSpPr>
          <p:pic>
            <p:nvPicPr>
              <p:cNvPr id="2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3280" y="2581200"/>
                <a:ext cx="1234800" cy="3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6960" y="2581200"/>
                <a:ext cx="123480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4643280" y="3032280"/>
              <a:ext cx="2598480" cy="387360"/>
              <a:chOff x="4643280" y="3032280"/>
              <a:chExt cx="2598480" cy="387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43280" y="3032280"/>
                <a:ext cx="1234800" cy="38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06960" y="3032280"/>
                <a:ext cx="12348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"/>
            <p:cNvGrpSpPr/>
            <p:nvPr/>
          </p:nvGrpSpPr>
          <p:grpSpPr>
            <a:xfrm>
              <a:off x="4708440" y="3484440"/>
              <a:ext cx="2598480" cy="385920"/>
              <a:chOff x="4708440" y="3484440"/>
              <a:chExt cx="2598480" cy="385920"/>
            </a:xfrm>
          </p:grpSpPr>
          <p:pic>
            <p:nvPicPr>
              <p:cNvPr id="21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708440" y="3484440"/>
                <a:ext cx="1234800" cy="3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072120" y="3484440"/>
                <a:ext cx="123480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3" name=""/>
            <p:cNvGrpSpPr/>
            <p:nvPr/>
          </p:nvGrpSpPr>
          <p:grpSpPr>
            <a:xfrm>
              <a:off x="4708440" y="3935520"/>
              <a:ext cx="2598480" cy="387360"/>
              <a:chOff x="4708440" y="3935520"/>
              <a:chExt cx="2598480" cy="387360"/>
            </a:xfrm>
          </p:grpSpPr>
          <p:pic>
            <p:nvPicPr>
              <p:cNvPr id="21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708440" y="3935520"/>
                <a:ext cx="1234800" cy="38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72120" y="3935520"/>
                <a:ext cx="12348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4708440" y="4387680"/>
              <a:ext cx="2598480" cy="385920"/>
              <a:chOff x="4708440" y="4387680"/>
              <a:chExt cx="2598480" cy="38592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08440" y="4387680"/>
                <a:ext cx="1234800" cy="3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72120" y="4387680"/>
                <a:ext cx="123480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9" name="" descr=""/>
            <p:cNvPicPr/>
            <p:nvPr/>
          </p:nvPicPr>
          <p:blipFill>
            <a:blip r:embed="rId13"/>
            <a:stretch/>
          </p:blipFill>
          <p:spPr>
            <a:xfrm>
              <a:off x="4714920" y="4865760"/>
              <a:ext cx="12351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4"/>
            <a:stretch/>
          </p:blipFill>
          <p:spPr>
            <a:xfrm>
              <a:off x="6078600" y="4865760"/>
              <a:ext cx="12351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5"/>
            <a:stretch/>
          </p:blipFill>
          <p:spPr>
            <a:xfrm>
              <a:off x="7440480" y="4842000"/>
              <a:ext cx="123516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395280" y="2057400"/>
            <a:ext cx="4572000" cy="2837160"/>
            <a:chOff x="395280" y="2057400"/>
            <a:chExt cx="4572000" cy="2837160"/>
          </a:xfrm>
        </p:grpSpPr>
        <p:sp>
          <p:nvSpPr>
            <p:cNvPr id="223" name=""/>
            <p:cNvSpPr/>
            <p:nvPr/>
          </p:nvSpPr>
          <p:spPr>
            <a:xfrm>
              <a:off x="395280" y="2057400"/>
              <a:ext cx="45720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Script MT Bold"/>
                </a:rPr>
                <a:t>2*6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Script MT Bold"/>
                </a:rPr>
                <a:t>2+2+2+2+2+2+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3320" y="2708280"/>
              <a:ext cx="306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Script MT Bold"/>
                </a:rPr>
                <a:t>2+2+2+2+2+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6480" y="3500280"/>
              <a:ext cx="148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Script MT Bold"/>
                </a:rPr>
                <a:t>2*5+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39640" y="3287880"/>
            <a:ext cx="2880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4145040"/>
            <a:ext cx="12956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 rot="21233400">
            <a:off x="2556000" y="2060280"/>
            <a:ext cx="4572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OldDreadfulNo7 BT"/>
              </a:rPr>
              <a:t>Физминутк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OldDreadfulNo7 BT"/>
              <a:ea typeface="OldDreadfulNo7 BT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47640" y="4724280"/>
            <a:ext cx="2179800" cy="1844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1398600" cy="1943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804000" y="476280"/>
            <a:ext cx="1871640" cy="1814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0" y="5950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6676920" y="4508640"/>
            <a:ext cx="2220840" cy="2349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284720" y="3860640"/>
            <a:ext cx="4610160" cy="890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4716360" y="5084640"/>
            <a:ext cx="1501920" cy="1435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851280" y="268200"/>
            <a:ext cx="1441440" cy="1425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250920" y="33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8360" y="5300640"/>
            <a:ext cx="8280360" cy="1295280"/>
          </a:xfrm>
          <a:prstGeom prst="rect">
            <a:avLst/>
          </a:prstGeom>
          <a:gradFill rotWithShape="0">
            <a:gsLst>
              <a:gs pos="0">
                <a:srgbClr val="ff0000">
                  <a:alpha val="10196"/>
                </a:srgbClr>
              </a:gs>
              <a:gs pos="100000">
                <a:srgbClr val="750000"/>
              </a:gs>
            </a:gsLst>
            <a:lin ang="54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Постановка учебной задач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19760" y="981000"/>
            <a:ext cx="84348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Tahoma"/>
              </a:rPr>
              <a:t>Надо разделить 24 конфеты поровну на четверых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Tahoma"/>
              </a:rPr>
              <a:t>По сколько дать каждому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 rot="4005000">
            <a:off x="1349640" y="2139120"/>
            <a:ext cx="784080" cy="563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rot="3982800">
            <a:off x="2653560" y="2235960"/>
            <a:ext cx="858960" cy="365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 rot="6999600">
            <a:off x="1692000" y="2226960"/>
            <a:ext cx="824040" cy="424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 rot="6520800">
            <a:off x="2947680" y="2226960"/>
            <a:ext cx="793800" cy="457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 rot="18166800">
            <a:off x="573840" y="2230920"/>
            <a:ext cx="931680" cy="457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2540160" y="2082960"/>
            <a:ext cx="374400" cy="774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 rot="3226800">
            <a:off x="2005560" y="2238840"/>
            <a:ext cx="795240" cy="447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 rot="6840000">
            <a:off x="916200" y="2294280"/>
            <a:ext cx="915840" cy="314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9"/>
          <a:stretch/>
        </p:blipFill>
        <p:spPr>
          <a:xfrm rot="8911800">
            <a:off x="379080" y="2182320"/>
            <a:ext cx="822240" cy="433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 rot="4005000">
            <a:off x="4231080" y="2139120"/>
            <a:ext cx="784080" cy="563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1"/>
          <a:stretch/>
        </p:blipFill>
        <p:spPr>
          <a:xfrm rot="3982800">
            <a:off x="5534640" y="2270880"/>
            <a:ext cx="858960" cy="365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2"/>
          <a:stretch/>
        </p:blipFill>
        <p:spPr>
          <a:xfrm rot="6999600">
            <a:off x="4573080" y="2226960"/>
            <a:ext cx="824040" cy="423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3"/>
          <a:stretch/>
        </p:blipFill>
        <p:spPr>
          <a:xfrm rot="6520800">
            <a:off x="5827680" y="2228760"/>
            <a:ext cx="793800" cy="457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4"/>
          <a:stretch/>
        </p:blipFill>
        <p:spPr>
          <a:xfrm rot="18166800">
            <a:off x="3455280" y="2230920"/>
            <a:ext cx="931680" cy="457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5"/>
          <a:stretch/>
        </p:blipFill>
        <p:spPr>
          <a:xfrm>
            <a:off x="5421240" y="2082960"/>
            <a:ext cx="374760" cy="774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6"/>
          <a:stretch/>
        </p:blipFill>
        <p:spPr>
          <a:xfrm rot="3226800">
            <a:off x="4887000" y="2234160"/>
            <a:ext cx="795240" cy="447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7"/>
          <a:stretch/>
        </p:blipFill>
        <p:spPr>
          <a:xfrm rot="6840000">
            <a:off x="3797640" y="2294280"/>
            <a:ext cx="915840" cy="314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8"/>
          <a:stretch/>
        </p:blipFill>
        <p:spPr>
          <a:xfrm rot="8911800">
            <a:off x="3260520" y="2182320"/>
            <a:ext cx="822240" cy="433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9"/>
          <a:stretch/>
        </p:blipFill>
        <p:spPr>
          <a:xfrm rot="4005000">
            <a:off x="7110720" y="2066040"/>
            <a:ext cx="784080" cy="5634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0"/>
          <a:stretch/>
        </p:blipFill>
        <p:spPr>
          <a:xfrm rot="6999600">
            <a:off x="7453080" y="2188800"/>
            <a:ext cx="824040" cy="424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1"/>
          <a:stretch/>
        </p:blipFill>
        <p:spPr>
          <a:xfrm rot="18166800">
            <a:off x="6334920" y="2154600"/>
            <a:ext cx="93168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2"/>
          <a:stretch/>
        </p:blipFill>
        <p:spPr>
          <a:xfrm rot="3226800">
            <a:off x="7766640" y="2165760"/>
            <a:ext cx="795240" cy="447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3"/>
          <a:stretch/>
        </p:blipFill>
        <p:spPr>
          <a:xfrm rot="6840000">
            <a:off x="6702840" y="2217960"/>
            <a:ext cx="915840" cy="314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4"/>
          <a:stretch/>
        </p:blipFill>
        <p:spPr>
          <a:xfrm rot="8911800">
            <a:off x="6140160" y="2109240"/>
            <a:ext cx="822240" cy="433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892440" y="5405400"/>
            <a:ext cx="73832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Tahoma"/>
              </a:rPr>
              <a:t>разделить на равные части – это значи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Tahoma"/>
              </a:rPr>
              <a:t>найти</a:t>
            </a:r>
            <a:r>
              <a:rPr b="1" i="1" lang="en-US" sz="2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2600" spc="-1" strike="noStrike">
                <a:solidFill>
                  <a:srgbClr val="ffff00"/>
                </a:solidFill>
                <a:latin typeface="Tahoma"/>
              </a:rPr>
              <a:t>число </a:t>
            </a:r>
            <a:r>
              <a:rPr b="1" i="1" lang="en-US" sz="2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2600" spc="-1" strike="noStrike">
                <a:solidFill>
                  <a:srgbClr val="ffff00"/>
                </a:solidFill>
                <a:latin typeface="Tahoma"/>
              </a:rPr>
              <a:t>предметов в каждой части</a:t>
            </a:r>
            <a:r>
              <a:rPr b="1" lang="ru-RU" sz="1800" spc="-1" strike="noStrike">
                <a:solidFill>
                  <a:srgbClr val="ffffff"/>
                </a:solidFill>
                <a:latin typeface="Script MT Bol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429264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cript MT Bold"/>
              </a:rPr>
              <a:t>Наши действия можно записать т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cript MT Bold"/>
              </a:rPr>
              <a:t>24 : 4 =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 L 0.08108 0.19236 E">
                                      <p:cBhvr>
                                        <p:cTn id="485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32292 0.1787 E">
                                      <p:cBhvr>
                                        <p:cTn id="48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0.51979 0.18889 E">
                                      <p:cBhvr>
                                        <p:cTn id="491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37 7.40741E-007 L 0.65851 0.2206 E">
                                      <p:cBhvr>
                                        <p:cTn id="494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000"/>
                            </p:stCondLst>
                            <p:childTnLst>
                              <p:par>
                                <p:cTn id="4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0.0467 0.18657 E">
                                      <p:cBhvr>
                                        <p:cTn id="497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14879 0.1831 E">
                                      <p:cBhvr>
                                        <p:cTn id="500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0.34184 0.19236 E">
                                      <p:cBhvr>
                                        <p:cTn id="50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L 0.53299 0.18935 E">
                                      <p:cBhvr>
                                        <p:cTn id="50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7.40741E-006 L -0.15747 0.21019 E">
                                      <p:cBhvr>
                                        <p:cTn id="50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7407E-006 L -0.06302 0.19954 E">
                                      <p:cBhvr>
                                        <p:cTn id="51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6 L 0.2585 0.20439 E">
                                      <p:cBhvr>
                                        <p:cTn id="515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4441 0.2162 E">
                                      <p:cBhvr>
                                        <p:cTn id="51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5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3.33333E-006 L -0.37812 0.19954 E">
                                      <p:cBhvr>
                                        <p:cTn id="521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6000"/>
                            </p:stCondLst>
                            <p:childTnLst>
                              <p:par>
                                <p:cTn id="5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7.03704E-006 L -0.18108 0.20995 E">
                                      <p:cBhvr>
                                        <p:cTn id="524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03142 0.20995 E">
                                      <p:cBhvr>
                                        <p:cTn id="527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81481E-006 L 0.28038 0.18171 E">
                                      <p:cBhvr>
                                        <p:cTn id="53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2000"/>
                            </p:stCondLst>
                            <p:childTnLst>
                              <p:par>
                                <p:cTn id="5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3.7037E-006 L -0.48819 0.23102 E">
                                      <p:cBhvr>
                                        <p:cTn id="533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L -0.28473 0.21528 E">
                                      <p:cBhvr>
                                        <p:cTn id="536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6000"/>
                            </p:stCondLst>
                            <p:childTnLst>
                              <p:par>
                                <p:cTn id="5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92593E-006 L -0.15764 0.23102 E">
                                      <p:cBhvr>
                                        <p:cTn id="53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8000"/>
                            </p:stCondLst>
                            <p:childTnLst>
                              <p:par>
                                <p:cTn id="5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7037E-006 L 0.07917 0.21551 E">
                                      <p:cBhvr>
                                        <p:cTn id="54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0"/>
                            </p:stCondLst>
                            <p:childTnLst>
                              <p:par>
                                <p:cTn id="5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2222E-006 L -0.67066 0.22731 E">
                                      <p:cBhvr>
                                        <p:cTn id="545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20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-0.49601 0.23102 E">
                                      <p:cBhvr>
                                        <p:cTn id="54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4000"/>
                            </p:stCondLst>
                            <p:childTnLst>
                              <p:par>
                                <p:cTn id="5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-0.2184 0.17107 E">
                                      <p:cBhvr>
                                        <p:cTn id="55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6000"/>
                            </p:stCondLst>
                            <p:childTnLst>
                              <p:par>
                                <p:cTn id="5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01493 0.23565 E">
                                      <p:cBhvr>
                                        <p:cTn id="55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6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Помоги Незнайке решить задач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51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6</a:t>
            </a:r>
            <a:r>
              <a:rPr b="0" lang="ru-RU" sz="6000" spc="-1" strike="noStrike">
                <a:solidFill>
                  <a:srgbClr val="000066"/>
                </a:solidFill>
                <a:latin typeface="Script MT Bold"/>
              </a:rPr>
              <a:t>:2 = 3 (р.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82640" y="2997360"/>
            <a:ext cx="1020600" cy="2232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776240" y="2997360"/>
            <a:ext cx="1020960" cy="2233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784600" y="2997360"/>
            <a:ext cx="1020600" cy="2233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5303880" y="2997360"/>
            <a:ext cx="1020600" cy="2233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6286680" y="2997360"/>
            <a:ext cx="1020600" cy="2233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7223040" y="2997360"/>
            <a:ext cx="1020960" cy="2233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17320" y="1268280"/>
            <a:ext cx="816336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Tahoma"/>
              </a:rPr>
              <a:t>Как  разделить  6  роз на два одинаковых букета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Tahoma"/>
              </a:rPr>
              <a:t>Запишите    равенство,   в   котором   знак   « : »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Tahoma"/>
              </a:rPr>
              <a:t>обозначает  дел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5280" y="4581360"/>
            <a:ext cx="8280360" cy="1368720"/>
          </a:xfrm>
          <a:prstGeom prst="rect">
            <a:avLst/>
          </a:prstGeom>
          <a:gradFill rotWithShape="0">
            <a:gsLst>
              <a:gs pos="0">
                <a:srgbClr val="ff0000">
                  <a:alpha val="10196"/>
                </a:srgbClr>
              </a:gs>
              <a:gs pos="100000">
                <a:srgbClr val="750000"/>
              </a:gs>
            </a:gsLst>
            <a:lin ang="54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3*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= 6 (роз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6:2 = 3 (розы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053720" y="4559400"/>
            <a:ext cx="66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операция деления обрат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операции</a:t>
            </a: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умножения</a:t>
            </a:r>
            <a:r>
              <a:rPr b="1" i="1" lang="ru-RU" sz="3600" spc="-1" strike="noStrike">
                <a:solidFill>
                  <a:srgbClr val="ffffcc"/>
                </a:solidFill>
                <a:latin typeface="Script MT Bol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64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5280" y="4581360"/>
            <a:ext cx="8280360" cy="1584360"/>
          </a:xfrm>
          <a:prstGeom prst="rect">
            <a:avLst/>
          </a:prstGeom>
          <a:gradFill rotWithShape="0">
            <a:gsLst>
              <a:gs pos="0">
                <a:srgbClr val="ff0000">
                  <a:alpha val="10196"/>
                </a:srgbClr>
              </a:gs>
              <a:gs pos="100000">
                <a:srgbClr val="750000"/>
              </a:gs>
            </a:gsLst>
            <a:lin ang="54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Буквенные выра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331920" y="1173240"/>
            <a:ext cx="85107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Сможем  ли  мы  записать  наш  способ  дел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буквенным  выражение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560" y="4581360"/>
            <a:ext cx="778716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Tahoma"/>
              </a:rPr>
              <a:t>Вывод: чтобы разделить число а на число </a:t>
            </a:r>
            <a:r>
              <a:rPr b="1" i="1" lang="en-US" sz="26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1" i="1" lang="ru-RU" sz="26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Tahoma"/>
              </a:rPr>
              <a:t>надо подобрать такое число с, которое пр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Tahoma"/>
              </a:rPr>
              <a:t>умножении на </a:t>
            </a:r>
            <a:r>
              <a:rPr b="1" i="1" lang="sq-AL" sz="26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1" i="1" lang="ru-RU" sz="2600" spc="-1" strike="noStrike">
                <a:solidFill>
                  <a:srgbClr val="ffff00"/>
                </a:solidFill>
                <a:latin typeface="Tahoma"/>
              </a:rPr>
              <a:t> даёт 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2349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66"/>
                </a:solidFill>
                <a:latin typeface="Script MT Bold"/>
              </a:rPr>
              <a:t>а : </a:t>
            </a: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b = 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c *b = 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6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380880"/>
            <a:ext cx="8964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ahoma"/>
              </a:rPr>
              <a:t>Самостоятельная работа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    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ahoma"/>
              </a:rPr>
              <a:t>       с провер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360" y="3645000"/>
            <a:ext cx="896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Script MT Bold"/>
              </a:rPr>
              <a:t>12:2        16:8        8:2         18:2          6:2          10:2         14*2          2:2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200" y="5307120"/>
            <a:ext cx="848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Script MT Bold"/>
              </a:rPr>
              <a:t>2              4              6               3             5             9             1              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101600" y="1916280"/>
            <a:ext cx="1094040" cy="1439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182680" y="1916280"/>
            <a:ext cx="1094040" cy="1439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3276720" y="1916280"/>
            <a:ext cx="1093680" cy="1439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5423040" y="1916280"/>
            <a:ext cx="1093680" cy="1439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4341960" y="1916280"/>
            <a:ext cx="1093680" cy="1439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6502320" y="1916280"/>
            <a:ext cx="1094040" cy="1439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7596360" y="1916280"/>
            <a:ext cx="1093680" cy="14396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11280" y="4508640"/>
            <a:ext cx="194472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39280" y="4508640"/>
            <a:ext cx="1079640" cy="79200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618920" y="4508640"/>
            <a:ext cx="108108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5280" y="4508640"/>
            <a:ext cx="230508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924000" y="4508640"/>
            <a:ext cx="934920" cy="79200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932000" y="4508640"/>
            <a:ext cx="1079640" cy="79200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093080" y="4437000"/>
            <a:ext cx="1079280" cy="93672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93080" y="4508640"/>
            <a:ext cx="100800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0" y="1916280"/>
            <a:ext cx="1093680" cy="1439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223040" y="549360"/>
            <a:ext cx="1569960" cy="2087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1552680" cy="21859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6156360" y="4005360"/>
            <a:ext cx="1719360" cy="2628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1403280" y="2708280"/>
            <a:ext cx="597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52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ScriptC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ScriptC"/>
              <a:ea typeface="ScriptC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6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6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6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Итог уро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1773360"/>
            <a:ext cx="8496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Tahoma"/>
              </a:rPr>
              <a:t>Поставьте себе оценку за урок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Tahoma"/>
              </a:rPr>
              <a:t>Оценить свою работу на уроке вам поможет памятк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Tahoma"/>
              </a:rPr>
              <a:t>Своей работой на уроке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Tahoma"/>
              </a:rPr>
              <a:t>а) доволен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Tahoma"/>
              </a:rPr>
              <a:t>б) не совсем доволен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Tahoma"/>
              </a:rPr>
              <a:t>в) не доволен, потому что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6000" y="386244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51280" y="4510080"/>
            <a:ext cx="1079640" cy="10080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03640" y="5229360"/>
            <a:ext cx="1079640" cy="1008000"/>
          </a:xfrm>
          <a:prstGeom prst="smileyFace">
            <a:avLst>
              <a:gd name="adj" fmla="val 866"/>
            </a:avLst>
          </a:prstGeom>
          <a:solidFill>
            <a:srgbClr val="ffff00"/>
          </a:solidFill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10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330560" y="2467080"/>
            <a:ext cx="6418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Придумать свою задачу на дел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сделать к ней рисун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Цел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7120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   Ввести   новое   арифметическое   действие  - деление. Раскрыть  его  смысл и взаимосвязь с   действием     умножения.      Познакомить     с соответствующей математической символи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  Закрепить умение решать  простые  задачи  на умножение.    Закреплять      вычислительные навы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  Развивать   внимание,  логическое  мышление, память, устную  речь, расширить кругоз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4437000"/>
            <a:ext cx="8424720" cy="1871640"/>
          </a:xfrm>
          <a:prstGeom prst="rect">
            <a:avLst/>
          </a:prstGeom>
          <a:gradFill rotWithShape="0">
            <a:gsLst>
              <a:gs pos="0">
                <a:srgbClr val="ff0000">
                  <a:alpha val="10196"/>
                </a:srgbClr>
              </a:gs>
              <a:gs pos="100000">
                <a:srgbClr val="750000"/>
              </a:gs>
            </a:gsLst>
            <a:lin ang="54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Размин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700200" y="134136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сумма,                   сложени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                  </a:t>
            </a: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умножение, слагаемы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числа,              одинаков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189080" y="4762440"/>
            <a:ext cx="979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Умножение – это сумма одинаковых слаг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Умножение – это  сложение  одинаковых чис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1989000"/>
            <a:ext cx="15127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1989000"/>
            <a:ext cx="2232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3141720"/>
            <a:ext cx="23749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3141720"/>
            <a:ext cx="223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1080" y="4221000"/>
            <a:ext cx="2519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4221000"/>
            <a:ext cx="122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13413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разнос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49228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вычитани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24640" y="357336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любы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8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Устный счё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14600" y="977760"/>
            <a:ext cx="75736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Tahoma"/>
              </a:rPr>
              <a:t>Закончи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cc0000"/>
                </a:solidFill>
                <a:latin typeface="Tahoma"/>
              </a:rPr>
              <a:t>запис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Tahoma"/>
              </a:rPr>
              <a:t>чтобы получилось верное равенств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29680" y="2133720"/>
            <a:ext cx="365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7+7+7=7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32120" y="242100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Script MT Bold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25640" y="21351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cript MT Bold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3840" y="3284640"/>
            <a:ext cx="365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12*4=12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76840" y="5445000"/>
            <a:ext cx="278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2*3=2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5760" y="4365720"/>
            <a:ext cx="278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3*2=3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60480" y="350028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Script MT Bold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11400" y="461160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Script MT Bold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11400" y="566100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Script MT Bold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44040" y="3284640"/>
            <a:ext cx="36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cript MT Bold"/>
              </a:rPr>
              <a:t>12+12+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360" y="43657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cript MT Bold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3080" y="544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cript MT Bold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2205000"/>
            <a:ext cx="8424720" cy="1871640"/>
          </a:xfrm>
          <a:prstGeom prst="rect">
            <a:avLst/>
          </a:prstGeom>
          <a:gradFill rotWithShape="0">
            <a:gsLst>
              <a:gs pos="0">
                <a:srgbClr val="ff0000">
                  <a:alpha val="10196"/>
                </a:srgbClr>
              </a:gs>
              <a:gs pos="100000">
                <a:srgbClr val="750000"/>
              </a:gs>
            </a:gsLst>
            <a:lin ang="54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4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Переместительное свойство умн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581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ahoma"/>
              </a:rPr>
              <a:t>От перестановки множителей произведение   не   меняе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9880" y="76500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3*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34960" y="76500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2*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04720" y="76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9,-7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00000" y="198108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Rage Italic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44360" y="3645000"/>
            <a:ext cx="896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Script MT Bold"/>
              </a:rPr>
              <a:t>2*3        4*2         5*2       2*6       8*2         2*9        7*2       2*1         2*2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1093680" cy="143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«Ракеты на старт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2840" y="5307120"/>
            <a:ext cx="907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Script MT Bold"/>
              </a:rPr>
              <a:t>2             4              6            8           10           12          14         16           1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1093680" cy="1439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979640" y="1916280"/>
            <a:ext cx="1093680" cy="143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987640" y="1916280"/>
            <a:ext cx="109368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003640" y="1916280"/>
            <a:ext cx="109404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995640" y="1916280"/>
            <a:ext cx="1094040" cy="1439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012000" y="1916280"/>
            <a:ext cx="1093680" cy="143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7020000" y="1916280"/>
            <a:ext cx="1093680" cy="143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8028000" y="1916280"/>
            <a:ext cx="1093680" cy="143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4508640"/>
            <a:ext cx="194472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4508640"/>
            <a:ext cx="194472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508640"/>
            <a:ext cx="194472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4508640"/>
            <a:ext cx="194472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4508640"/>
            <a:ext cx="287964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508640"/>
            <a:ext cx="2879640" cy="86508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4508640"/>
            <a:ext cx="0" cy="79200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68360" y="4508640"/>
            <a:ext cx="6912000" cy="86364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547640" y="4508640"/>
            <a:ext cx="6912000" cy="86364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679640" cy="6264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74920" y="2637000"/>
            <a:ext cx="93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3171960" cy="3846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720" y="1916280"/>
            <a:ext cx="321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ahoma"/>
              </a:rPr>
              <a:t>Мы в </a:t>
            </a:r>
            <a:br>
              <a:rPr sz="4000"/>
            </a:b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ahoma"/>
              </a:rPr>
              <a:t>открытом </a:t>
            </a:r>
            <a:br>
              <a:rPr sz="4000"/>
            </a:b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ahoma"/>
              </a:rPr>
              <a:t>космос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4941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cript MT Bold"/>
              </a:rPr>
              <a:t>3*2 = 6 (р.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0880"/>
            <a:ext cx="8964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Составить задачу по рисунк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1284120" cy="280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1284120" cy="2808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843280" y="1989000"/>
            <a:ext cx="1284120" cy="280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159520" y="1989000"/>
            <a:ext cx="1284120" cy="280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311880" y="1989000"/>
            <a:ext cx="1284480" cy="280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453440" y="1989000"/>
            <a:ext cx="128412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7360" y="557316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cript MT Bold"/>
              </a:rPr>
              <a:t>8*2=16(т.) у Нади.</a:t>
            </a:r>
            <a:r>
              <a:rPr b="0" lang="en-US" sz="18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4640" y="179280"/>
            <a:ext cx="2896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Задача для 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 вариан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9520" y="3881520"/>
            <a:ext cx="2983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Задача для 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ahoma"/>
              </a:rPr>
              <a:t>II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 вариан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76280"/>
            <a:ext cx="82090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Вера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 сажала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 тюльпаны. 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Она посадила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8 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рядов 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по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 2 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тюльпа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Tahoma"/>
              </a:rPr>
              <a:t>Сколько тюльпанов посадила Вер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41511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Надя тоже сажала тюльпаны. Она посад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2 ряда по 8 тюльпа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Сколько тюльпанов посадила Над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1280" y="1268280"/>
            <a:ext cx="4824360" cy="1081080"/>
            <a:chOff x="611280" y="1268280"/>
            <a:chExt cx="4824360" cy="108108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611280" y="126828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1278000" y="126828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1927080" y="126828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2575080" y="126828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3222720" y="126828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5094360" y="126828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7"/>
            <a:stretch/>
          </p:blipFill>
          <p:spPr>
            <a:xfrm>
              <a:off x="3851280" y="126828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8"/>
            <a:stretch/>
          </p:blipFill>
          <p:spPr>
            <a:xfrm>
              <a:off x="4446720" y="1268280"/>
              <a:ext cx="34128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11280" y="2419200"/>
            <a:ext cx="4824360" cy="1081080"/>
            <a:chOff x="611280" y="2419200"/>
            <a:chExt cx="4824360" cy="1081080"/>
          </a:xfrm>
        </p:grpSpPr>
        <p:pic>
          <p:nvPicPr>
            <p:cNvPr id="168" name="" descr=""/>
            <p:cNvPicPr/>
            <p:nvPr/>
          </p:nvPicPr>
          <p:blipFill>
            <a:blip r:embed="rId9"/>
            <a:stretch/>
          </p:blipFill>
          <p:spPr>
            <a:xfrm>
              <a:off x="611280" y="241920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0"/>
            <a:stretch/>
          </p:blipFill>
          <p:spPr>
            <a:xfrm>
              <a:off x="1278000" y="241920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1"/>
            <a:stretch/>
          </p:blipFill>
          <p:spPr>
            <a:xfrm>
              <a:off x="1927080" y="241920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2"/>
            <a:stretch/>
          </p:blipFill>
          <p:spPr>
            <a:xfrm>
              <a:off x="2575080" y="241920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3"/>
            <a:stretch/>
          </p:blipFill>
          <p:spPr>
            <a:xfrm>
              <a:off x="3222720" y="241920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4"/>
            <a:stretch/>
          </p:blipFill>
          <p:spPr>
            <a:xfrm>
              <a:off x="5094360" y="241920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5"/>
            <a:stretch/>
          </p:blipFill>
          <p:spPr>
            <a:xfrm>
              <a:off x="3851280" y="2419200"/>
              <a:ext cx="3412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6"/>
            <a:stretch/>
          </p:blipFill>
          <p:spPr>
            <a:xfrm>
              <a:off x="4446720" y="2419200"/>
              <a:ext cx="341280" cy="10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5570280" y="2059920"/>
            <a:ext cx="33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cript MT Bold"/>
              </a:rPr>
              <a:t>2*8=16(т.) у Веры.</a:t>
            </a:r>
            <a:r>
              <a:rPr b="0" lang="en-US" sz="18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249960" y="2637000"/>
            <a:ext cx="1201680" cy="4321080"/>
            <a:chOff x="6249960" y="2637000"/>
            <a:chExt cx="1201680" cy="4321080"/>
          </a:xfrm>
        </p:grpSpPr>
        <p:pic>
          <p:nvPicPr>
            <p:cNvPr id="178" name="" descr=""/>
            <p:cNvPicPr/>
            <p:nvPr/>
          </p:nvPicPr>
          <p:blipFill>
            <a:blip r:embed="rId17"/>
            <a:stretch/>
          </p:blipFill>
          <p:spPr>
            <a:xfrm>
              <a:off x="7113600" y="5877000"/>
              <a:ext cx="338040" cy="10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"/>
            <p:cNvGrpSpPr/>
            <p:nvPr/>
          </p:nvGrpSpPr>
          <p:grpSpPr>
            <a:xfrm>
              <a:off x="6249960" y="2637000"/>
              <a:ext cx="1058760" cy="3961800"/>
              <a:chOff x="6249960" y="2637000"/>
              <a:chExt cx="1058760" cy="3961800"/>
            </a:xfrm>
          </p:grpSpPr>
          <p:pic>
            <p:nvPicPr>
              <p:cNvPr id="18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249960" y="2637000"/>
                <a:ext cx="338040" cy="10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81600" y="4653000"/>
                <a:ext cx="338400" cy="10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538680" y="4219560"/>
                <a:ext cx="338400" cy="10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826320" y="5084640"/>
                <a:ext cx="338040" cy="10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970680" y="5518080"/>
                <a:ext cx="338040" cy="10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321240" y="3211560"/>
                <a:ext cx="338400" cy="10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416640" y="3714480"/>
                <a:ext cx="338040" cy="108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" name=""/>
          <p:cNvGrpSpPr/>
          <p:nvPr/>
        </p:nvGrpSpPr>
        <p:grpSpPr>
          <a:xfrm>
            <a:off x="7113600" y="2708280"/>
            <a:ext cx="1203120" cy="4321080"/>
            <a:chOff x="7113600" y="2708280"/>
            <a:chExt cx="1203120" cy="4321080"/>
          </a:xfrm>
        </p:grpSpPr>
        <p:grpSp>
          <p:nvGrpSpPr>
            <p:cNvPr id="188" name=""/>
            <p:cNvGrpSpPr/>
            <p:nvPr/>
          </p:nvGrpSpPr>
          <p:grpSpPr>
            <a:xfrm>
              <a:off x="7113600" y="2708280"/>
              <a:ext cx="1058760" cy="3962520"/>
              <a:chOff x="7113600" y="2708280"/>
              <a:chExt cx="1058760" cy="3962520"/>
            </a:xfrm>
          </p:grpSpPr>
          <p:pic>
            <p:nvPicPr>
              <p:cNvPr id="18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113600" y="2708280"/>
                <a:ext cx="33804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7545240" y="4724640"/>
                <a:ext cx="33840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7402320" y="4291200"/>
                <a:ext cx="33840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89960" y="5156280"/>
                <a:ext cx="33804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7834320" y="5589720"/>
                <a:ext cx="33804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184880" y="3283200"/>
                <a:ext cx="33840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7280280" y="3786120"/>
                <a:ext cx="338040" cy="1081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6" name="" descr=""/>
            <p:cNvPicPr/>
            <p:nvPr/>
          </p:nvPicPr>
          <p:blipFill>
            <a:blip r:embed="rId32"/>
            <a:stretch/>
          </p:blipFill>
          <p:spPr>
            <a:xfrm>
              <a:off x="7978680" y="5948280"/>
              <a:ext cx="338040" cy="1081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out" orient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14:02:11Z</dcterms:created>
  <dc:creator>Денис</dc:creator>
  <dc:description/>
  <dc:language>en-US</dc:language>
  <cp:lastModifiedBy>User</cp:lastModifiedBy>
  <dcterms:modified xsi:type="dcterms:W3CDTF">2008-11-09T15:40:24Z</dcterms:modified>
  <cp:revision>70</cp:revision>
  <dc:subject/>
  <dc:title>Урок – конкурс  «Басни дедушки Крылова»</dc:title>
</cp:coreProperties>
</file>