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95A3E-D6FD-4746-BCD1-A8B37ECDA2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D26FA-2912-46B8-A822-8B359357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50F64-897F-48E2-BEF5-67D3389D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A52AF-F37A-4C31-A32C-B3A2520E8E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4A04C-A7D2-4BC6-9536-B3DE85CD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097C2-4384-4F82-BD33-7A4A0BE7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FB71A-8249-4FC2-8E34-ACC08DEE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20573-A15A-4738-875D-59460642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9AA41-7500-4BC9-9A48-7319F314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806B2-7935-4829-9298-E491BE3C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60CA9-B8EB-44EC-96E5-4CE5B90E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3CB7C-4D89-4A3B-83EB-C4DAE3D6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e1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e7e7e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d5d5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6421320"/>
            <a:ext cx="21304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.8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8153280" y="6421320"/>
            <a:ext cx="75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FCB1B-87A2-45F7-811C-0DF78EFD8C7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e1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42960" y="880560"/>
            <a:ext cx="792972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НА Т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«ВЫПОЛНЯЕМ ДОМАШНИЕ ЗАД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Цели собр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2" charset="2"/>
              <a:buChar char="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Выявить представление родителей об организации учебной работы детей до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2" charset="2"/>
              <a:buChar char="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Дать рекомендации родителям о том, как формировать у детей навыки самоконтроля, умение работать самостояте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e1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7120" y="-529560"/>
            <a:ext cx="842976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Решение родительского собра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Учить ребёнка самостоятельно выполнять домашнее задание и правильно оценивать результаты своей деятельност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. Родителям совместно со своим ребенком выработать наиболее рациональный режим для учащегося и всячески содействовать его выполн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. Составить памятку «Садимся за урок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. Использовать подготовленные памятки для наиболее рационального построения детьми работы по приготовлению уроков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. Организовать в каждой семье рабочий уголок ребенка. Оказывать помощь детям при возникновении серьёзных затруднений в выполнении д\з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6. Поддерживать у детей интерес к учебному труду, способствовать развитию их познавательной акти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. Не скупиться на похвалу. Хвалить всегда исполнителя, а критиковать всегда исполн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e1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71760" y="358560"/>
            <a:ext cx="5715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Дать детям радость труда, радость успеха в учении, пробудить в их сердцах чувство гордости, собственного достоинства - это первая заповедь воспитания... Успех в учении - единственный источник внутренних сил ребенка, рождающих энергию для преодоления трудностей, желание учи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В.А.Сухом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14240" y="3357720"/>
            <a:ext cx="3454560" cy="3143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000760" y="3286080"/>
            <a:ext cx="3446280" cy="32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e1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4200" y="3419280"/>
            <a:ext cx="89298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и росте ребёнка от 120 до 129 см, стол должен иметь высоту 59 см, при росте от 130 см до 139см – 62 см., при росте от 140 до 149 см. – 68 см.. Разница между высотой стола и стула от 21 до 27 см. Расстояние от глаз до поверхности стола – 35 см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одолжительность работы ребёнка по приготовлению д/з должно быть следующ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 2" charset="2"/>
              <a:buChar char="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до одного часа – в первом класс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 2" charset="2"/>
              <a:buChar char="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до 1,5 часа – во втором клас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 2" charset="2"/>
              <a:buChar char="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до 2 часов – в третьем класс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Именно такие нормы устанавливаются Министерством образования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1680" y="214200"/>
            <a:ext cx="2786040" cy="3157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43240" y="285840"/>
            <a:ext cx="4587840" cy="311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e1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500800" y="4432320"/>
            <a:ext cx="3429000" cy="242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6920" y="146160"/>
            <a:ext cx="3089160" cy="2317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4200" y="2403360"/>
            <a:ext cx="364356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 2" charset="2"/>
              <a:buChar char="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Учите вашего ребёнка не отвлекаться во время выполнения домашнего задания. Если ребёнок отвлекается, спокойно напомните ему о времени, отведённым на выполнение уро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2" charset="2"/>
              <a:buChar char="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Если ребёнок выполняет письменное задание, обращайте большое внимание на то, чтобы он писал чисто, без помар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2" charset="2"/>
              <a:buChar char="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Не заставляйте своего ребёнка многократно переписывать письменное зада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2" charset="2"/>
              <a:buChar char="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Старайтесь, как можно раньше приучать ребёнка делать уроки самостоятельно и обращаться к вам только в случае необходим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2" charset="2"/>
              <a:buChar char="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Научите его выполнять любое дело без злобы и раздражения. Это сохранит его и ваше здоровь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6120" y="500040"/>
            <a:ext cx="5357880" cy="39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SzPct val="45000"/>
              <a:buFont typeface="Wingdings 2" charset="2"/>
              <a:buChar char="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Посидите со своим ребёнком на первых порах выполнения домашнего задания. Это для него очень важно. От того, насколько спокойными и уверенными будут его первые школьные шаги, зависит его будущие школьные успех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SzPct val="45000"/>
              <a:buFont typeface="Wingdings 2" charset="2"/>
              <a:buChar char="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У вашего ребёнка не сформирована привычка делать уроки, формируйте у него эту привычку спокойно, без криков, будьте терпелив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SzPct val="45000"/>
              <a:buFont typeface="Wingdings 2" charset="2"/>
              <a:buChar char="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Оформите рабочее место вашего ребёнка, поставьте красивый стол, повесьте расписание уроков, интересные стихи и пожелания школьнику перед началом выполнения уро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SzPct val="45000"/>
              <a:buFont typeface="Wingdings 2" charset="2"/>
              <a:buChar char="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Объясните ребёнку главное правило учебной работы- учебные принадлежности должны всегда находиться на своём мест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SzPct val="45000"/>
              <a:buFont typeface="Wingdings 2" charset="2"/>
              <a:buChar char="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Если ребёнок что-то делает не так, не спешите его ругать. То что вам кажется простым и понятным, для него пока кажется таинственным и трудны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0"/>
            <a:ext cx="571500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Памятка. </a:t>
            </a:r>
            <a:br>
              <a:rPr sz="1400"/>
            </a:b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     Как помогать ребёнку в подготовке домашних зада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e1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29120" y="357192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3092400" cy="2664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786120" y="389160"/>
            <a:ext cx="500076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Задание для группы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оанализируйте, какой жизненный опыт получит ребенок, когда родители помогают ему выполнять домашние задания и когда не помог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4200" y="3714840"/>
            <a:ext cx="4214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Разумно предоставить ребенку самостоятельность, оставляя за собой руководство и помощь в необходимых предел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e1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4200" y="823680"/>
            <a:ext cx="42865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Задание для группы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Как сделать подготовку домашнего задания делом привлекатель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929120" y="357120"/>
            <a:ext cx="4002120" cy="2743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4200" y="3786120"/>
            <a:ext cx="86439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Для ребенка важно иметь удобное, красивое рабочее место и т. п. Родители, занимаясь своим делом, должны быть рядом, всегда готовые помочь. Старайтесь, чтобы ребенку все было понятно, что ему надо сделать и как, - тем больше будет его желание все выполнить, найдите, за что можно ребенка похвал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e1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4200" y="544320"/>
            <a:ext cx="4357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Задание для группы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Как должны вести себя родители, увидев в работе ребенка ошиб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43680" y="428760"/>
            <a:ext cx="3657600" cy="2414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5840" y="3424320"/>
            <a:ext cx="835812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Не отмечать самому ошибку. Направить внимание ребе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2" charset="2"/>
              <a:buChar char="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на строчку, где допущена ошиб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2" charset="2"/>
              <a:buChar char="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на слово с ошибк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Спросить, почему возникла такая ошибка, как ее исправить. Ребенок должен научиться анализировать свои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e1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0040" y="412920"/>
            <a:ext cx="392904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Задание для группы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Ребенок просит маму отпустить его к другу поиграть в новую игру, а уроки он сделает потом. Как поступить в такой ситуации? Можно ли верить обещания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57840" y="214200"/>
            <a:ext cx="3801960" cy="3818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28760" y="3857760"/>
            <a:ext cx="8215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Не стоит верить обещаниям. Дети могут увлечься игрой и не обратить внимания на время. Данное обещание будет не выполнено. «Сначала дело, а развлечения потом». И никаких авансов. Если ребенок избалован, рассчитывать на его обещания не приход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e1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4200" y="482760"/>
            <a:ext cx="421488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Задание для группы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Ребенка долго приходится уговаривать сесть за уроки. А сядет - постоянно отвлекается и норовит убежать. Что делать родителя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0" y="214200"/>
            <a:ext cx="4325760" cy="2874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28760" y="3895560"/>
            <a:ext cx="8215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До тех пор, пока ребенок будет считать, что учится для родителей, а ему учеба не нужна, ситуация не исправится. Родителям необходимо сформировать у ребенка определенную мотивацию к обучению. У него должен возникнуть личностный интерес к уро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