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EBE-6309-4D93-8DCC-9E090625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B24-BD40-4A2B-B8BB-4FE8D26B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12E-2A2E-42E3-860A-F717B604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4F0-BFFE-4A4A-B84D-56EE4C7B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ECE-2976-4B11-B7B1-7D5AD2C5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A95E-F1D5-4603-A0C1-21EF968D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D4F2-B8A3-44BA-800F-17305F10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4A62-6AE2-4E8B-8A71-A3D001CA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F410-A725-4FCD-86E3-698242B1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24EB-CC88-433C-9434-6B1C1325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3681-EC4A-45E6-B1F0-031BCA8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A62-B868-4D2D-A258-35036356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96DB-C51F-4696-A8C0-BD16404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01DB-29B4-4C0E-87DE-DECA181B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028C-8B0E-462D-8B98-FD472644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C148-FA0B-441F-A5AC-60DCF25B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1DEA-6724-4169-89D5-D8B68B03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66E-3562-465D-AD1F-4257D7D9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82F-4CBD-481A-AE90-3DEC9DF8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5CC-0856-4CB1-B005-4EAFCBC1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A58-A506-49C3-8C32-D5A546D9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E70-5732-41DC-BD36-005B2060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751-E48A-4BD8-B15B-68C636E2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157-F480-4243-8C49-33A01E9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753-DC32-4D65-8CAF-9825CE512F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3AD-C0EE-4BAD-9207-9207A87CF9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ДОУ «Детский сад общеразвивающего вида № 141» </a:t>
            </a:r>
            <a:br>
              <a:rPr sz="2000"/>
            </a:br>
            <a:br>
              <a:rPr sz="16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тие памяти детей дошкольного возраста  средствами мнемотехники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зарезова Еле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437080" cy="4876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220968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таблицы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 эффективны при разучивании стихотвор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заключается в следующем: на каждое слово или маленькое словосочетание придумывается картинка (изображение); таким образом, все стихотворение зарисовывается схематически. После этого ребенок по памяти, используя графическое изображение, воспроизводит стихотворение цели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начальном этапе взрослый предлагает готовую план - схему, а по мере обучения ребенок также активно включается в процесс создания своей сх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523880" y="152280"/>
            <a:ext cx="7315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казка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грает особую роль в жизни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:\Documents and Settings\Admin\Мои документы\Мои рисунки\04.jpg"/>
          <p:cNvPicPr/>
          <p:nvPr/>
        </p:nvPicPr>
        <p:blipFill>
          <a:blip r:embed="rId1"/>
          <a:stretch/>
        </p:blipFill>
        <p:spPr>
          <a:xfrm>
            <a:off x="5257800" y="3733920"/>
            <a:ext cx="358128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Admin\Мои документы\Мои рисунки\QknDlgETZJs.jpg"/>
          <p:cNvPicPr/>
          <p:nvPr/>
        </p:nvPicPr>
        <p:blipFill>
          <a:blip r:embed="rId2"/>
          <a:stretch/>
        </p:blipFill>
        <p:spPr>
          <a:xfrm>
            <a:off x="380880" y="3733920"/>
            <a:ext cx="355788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Admin\Мои документы\Мои рисунки\photo_53.jpg"/>
          <p:cNvPicPr/>
          <p:nvPr/>
        </p:nvPicPr>
        <p:blipFill>
          <a:blip r:embed="rId3"/>
          <a:stretch/>
        </p:blipFill>
        <p:spPr>
          <a:xfrm>
            <a:off x="2971800" y="914400"/>
            <a:ext cx="3716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мнемотаблице состоит из пяти этап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ние таблицы и разбор того, что на ней изображ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образование из абстрактных символов в обра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 сказки с опорой на символы (образ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ается графическая зарисовка мнемотабл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воспроизводится ребёнком при её показе 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«Маша и медвед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Admin\Мои документы\Мои рисунки\Masha_i_Medwed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1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160" y="152280"/>
            <a:ext cx="83818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коричневый, бывает овальный или круглый. Он маленький, растет на грядке в огороде. Его выкапывают. Его можно варить или жа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883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табл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Documents and Settings\Admin\Мои документы\Мои рисунки\p[.gif"/>
          <p:cNvPicPr/>
          <p:nvPr/>
        </p:nvPicPr>
        <p:blipFill>
          <a:blip r:embed="rId1"/>
          <a:stretch/>
        </p:blipFill>
        <p:spPr>
          <a:xfrm>
            <a:off x="1371600" y="1143000"/>
            <a:ext cx="6620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инание мнемотаблиц развивает зрительную память, вниман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учивание стихов, потешек развивает слуховую памя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ыгрывание сказки – память и мышл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м образом, с помощью схем – моделей  и мнемотаблиц удастся достичь следующих результа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у детей появится желание пересказывать сказки – как на занятии, так и повседневной 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расширится круг знаний об окружающем ми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активизируется словарный запа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1"/>
          <a:stretch/>
        </p:blipFill>
        <p:spPr>
          <a:xfrm>
            <a:off x="536400" y="1468440"/>
            <a:ext cx="79250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6840" y="2286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педагогов ДОУ решать развивающие задачи через непосредственно образовательную деятельность, познакомить с системой методов и приемов, обеспечивающих эффективное запоминание, сохранение и воспроизведение информации, и конечно развитие памяти (методом мнемотехн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.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грировано подходить к обучению и развитию детей, развивать коммуникативные и познавательные способности дошкольников, способствовать развитию памяти  детей дошкольного возраста посредством мнемотаблицы, продолжать развивать психические процессы: память, внимание, мышление, побуждать к эмоциональной отзывчив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 . Д. Ушинский писа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Учите ребёнка каким-нибудь неизвестным ему пяти словам- он будет долго и напрасно мучиться, но свяжите двадцать таких слов с картинками, и он усвоит на лет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286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школьное детство – особый период в развитии личности. В этот период память по скорости развития опережает другие способности. Дети задают множество вопросов, новая информация им крайне необходима: мозг требует пищи. Ребёнку надо помогать запоминать, его надо учить контролировать правильность запом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́ника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совокупность специальных приёмов и способов, облегчающих запоминание нужной информации и увеличивающих объём памяти путём образования ассоциаций (связей). Замена абстрактных объектов, фактов на понятия и представления, имеющие визуальное, аудиальное или кинестетическое представление, связывание объектов для запоминания с уже имеющимися в областях различных типов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техник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система внутреннего письма, основанная на прямой записи в мозг связей между зрительными образами, обозначающими значимые элементы запоминаемой информа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ническое запоминание состоит из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х этапов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дирование в образ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инание (соединение двух образов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инание последова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в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мотехника помогает развива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ссоциативное мышлен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рительную и слуховую памя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рительное и слуховое вниман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ображ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зарезова</dc:creator>
  <dc:description/>
  <dc:language>en-US</dc:language>
  <cp:lastModifiedBy>Мария Александровна</cp:lastModifiedBy>
  <dcterms:modified xsi:type="dcterms:W3CDTF">2020-05-21T07:12:28Z</dcterms:modified>
  <cp:revision>30</cp:revision>
  <dc:subject>мнемотаблицы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