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2522-3392-4F97-AE70-87FC201E91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35D1-96F5-4C69-AC01-F26D314CC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FB6F-A6D3-40E3-8FDD-DC6C8EA45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632-B6AD-40B5-BFD4-0186DAAB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829-38F1-4A7B-BE3F-10F92F6E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9F6-7B7C-4A9C-BB5B-2B631DFC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520-9FF0-4598-89B4-B18A8602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5DD7-689F-44B6-A8F3-C1917214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805F-173C-463C-A76F-7E0A2BC0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FDBA-6D1F-4C31-83E3-7D205151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14DF-7C63-4FD2-978A-8FFE8DE2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21B5-FB3F-461E-9B56-416503B2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FBAB-D723-458A-A054-74372AF6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7699-4636-4BCD-A485-3CF7324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EC1-54C2-4BE2-A5D5-F80748EB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6FBF-8796-4D77-8CFC-9C3FC4E5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FBB0-A6FB-4688-916A-38F2ED5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88FB-7D75-4953-9403-5CD86639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86E6-60C4-44B9-B92E-3244ABA7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0C96-23DF-4AFD-AB93-113C702C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F6B-6828-4F13-B08C-BAB90379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E7A-22B7-4BBA-B6B1-66E71173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D92-AF7E-443A-9D2C-748E33C6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749-9F45-4625-900F-6A244334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34B-C3D2-4464-A019-353258F6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82B-FC53-4241-B59F-187313D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20F-AF9A-4DCB-AEAF-7DCAA8A2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E0C2-B5BD-413E-8C30-DAA81AAF22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661C-FE21-4F13-AD9A-E9028E0C42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5;&#1094;&#1080;&#1087;%20&#1088;&#1072;&#1073;&#1086;&#1090;&#1099;%20&#1087;&#1088;&#1086;&#1090;&#1080;&#1074;&#1086;&#1075;&#1072;&#1079;&#1072;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357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61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РЕДСТВА</a:t>
            </a:r>
            <a:br>
              <a:rPr sz="44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НДИВИДУАЛЬНОЙ</a:t>
            </a:r>
            <a:br>
              <a:rPr sz="44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АЩИТЫ НАСЕЛЕНИЯ</a:t>
            </a: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Гражданские противогазы и респираторы 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назначены для формирований гражданской обороны и населения. Представляют собой несколько упрощенные по конструкции  средства защиты для личного состава В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Промышленные противогазы  и респираторы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назначены для защиты работающего персонала промышленного объекта от воздействия  конкретного АХ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х устройство разнообразно и определяется особенностями производственной деятельности предприятия и характером возможной на нем аварийной ситу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нцип действия противогаз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Принцип действия противогазов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стоит в следующем. Для дыхания используется наружный зараженный воздух, который очищается от вредных примесей, проходя через фильтрующе-поглощающую коробку. В шлем-маску противогаза поступает уже очищенный воздух. Выдыхаемый воздух выводится из шлема-маски наружу через специальный клап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0"/>
          <p:cNvSpPr/>
          <p:nvPr/>
        </p:nvSpPr>
        <p:spPr>
          <a:xfrm>
            <a:off x="324000" y="2925720"/>
            <a:ext cx="2592360" cy="1440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Для взрослого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П-5, (ГП-5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П-7, (ГП-7В, ГП-7ВМ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3240000" y="2925720"/>
            <a:ext cx="2664000" cy="1727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Для детей с 1,5 до 17 лет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ДФ-7</a:t>
            </a:r>
            <a:br>
              <a:rPr sz="16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Для детей с 1,5 до 7 лет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ДФ-2Д</a:t>
            </a:r>
            <a:br>
              <a:rPr sz="16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Для детей с 1,5 до 7 лет</a:t>
            </a:r>
            <a:br>
              <a:rPr sz="14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•ПДФ-2Ш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6156360" y="2924280"/>
            <a:ext cx="2663640" cy="1512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Для детей до 1,5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амера защитная дет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ЗД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ЗД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3130560" y="1052640"/>
            <a:ext cx="2881440" cy="936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Гражда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противог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18"/>
          <p:cNvCxnSpPr>
            <a:stCxn id="212" idx="0"/>
            <a:endCxn id="214" idx="0"/>
          </p:cNvCxnSpPr>
          <p:nvPr/>
        </p:nvCxnSpPr>
        <p:spPr>
          <a:xfrm flipH="1" flipV="1" rot="5400000">
            <a:off x="4553280" y="-9360"/>
            <a:ext cx="2160" cy="586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AutoShape 19"/>
          <p:cNvCxnSpPr>
            <a:stCxn id="215" idx="2"/>
            <a:endCxn id="213" idx="0"/>
          </p:cNvCxnSpPr>
          <p:nvPr/>
        </p:nvCxnSpPr>
        <p:spPr>
          <a:xfrm>
            <a:off x="4571640" y="198900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" name="Text Box 21"/>
          <p:cNvSpPr/>
          <p:nvPr/>
        </p:nvSpPr>
        <p:spPr>
          <a:xfrm>
            <a:off x="2592360" y="62373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ды гражданских противо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Защитные свойства фильтрующих противогазов от АХОВ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3960" y="1417680"/>
          <a:ext cx="8001000" cy="5267160"/>
        </p:xfrm>
        <a:graphic>
          <a:graphicData uri="http://schemas.openxmlformats.org/drawingml/2006/table">
            <a:tbl>
              <a:tblPr/>
              <a:tblGrid>
                <a:gridCol w="1611360"/>
                <a:gridCol w="1324080"/>
                <a:gridCol w="1958760"/>
                <a:gridCol w="1549440"/>
                <a:gridCol w="1557360"/>
              </a:tblGrid>
              <a:tr h="353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АХ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мг/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защит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га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газ + ДПГ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газ + ДПГ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етилами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 хлорист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этиле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лмеркапта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 Unicode MS"/>
              </a:rPr>
              <a:t>ДОПОЛНИТЕЛЬНЫЕ (ГОПКАЛИТОВЫЕ) ПАТРО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целях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расширения возможност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отивогаз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о защите от различных АХОВ и повышения защитных свойст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настоящее время промышленностью изготавливаются специальные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полнительные гопкалитовые патрон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П-1, ДП-2, ДПГ-1, ДПГ-3 и ПЗУ-П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4"/>
          <p:cNvSpPr/>
          <p:nvPr/>
        </p:nvSpPr>
        <p:spPr>
          <a:xfrm>
            <a:off x="2592360" y="69228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ЫЕ (ГОПКАЛИТОВЫЕ) ПАТ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539640" y="2492280"/>
            <a:ext cx="201636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защиты о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иси 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3132000" y="2492280"/>
            <a:ext cx="2880000" cy="33116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3311640"/>
              <a:gd name="textAreaBottom" fmla="*/ 3171240 h 3311640"/>
            </a:gdLst>
            <a:ahLst/>
            <a:rect l="textAreaLeft" t="textAreaTop" r="textAreaRight" b="textAreaBottom"/>
            <a:pathLst>
              <a:path w="21600" h="24837">
                <a:moveTo>
                  <a:pt x="3600" y="0"/>
                </a:moveTo>
                <a:arcTo wR="3600" hR="3600" stAng="16200000" swAng="-5400000"/>
                <a:lnTo>
                  <a:pt x="0" y="21237"/>
                </a:lnTo>
                <a:arcTo wR="3600" hR="3600" stAng="10800000" swAng="-5400000"/>
                <a:lnTo>
                  <a:pt x="18000" y="248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защиты от АХ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миак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ено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метиламин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сг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тробензол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ло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оводород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лорист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оуглерод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доро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нильной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6516720" y="2492280"/>
            <a:ext cx="2303280" cy="2089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защиты от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иси углерода, А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уется к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мплекте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газ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и только с лице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ью противог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13"/>
          <p:cNvCxnSpPr>
            <a:stCxn id="224" idx="0"/>
            <a:endCxn id="226" idx="0"/>
          </p:cNvCxnSpPr>
          <p:nvPr/>
        </p:nvCxnSpPr>
        <p:spPr>
          <a:xfrm flipH="1" rot="16200000">
            <a:off x="4607280" y="-568800"/>
            <a:ext cx="2520" cy="612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AutoShape 14"/>
          <p:cNvCxnSpPr>
            <a:stCxn id="223" idx="2"/>
            <a:endCxn id="225" idx="0"/>
          </p:cNvCxnSpPr>
          <p:nvPr/>
        </p:nvCxnSpPr>
        <p:spPr>
          <a:xfrm flipH="1">
            <a:off x="4571640" y="1125000"/>
            <a:ext cx="2160" cy="136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" name="AutoShape 7"/>
          <p:cNvSpPr/>
          <p:nvPr/>
        </p:nvSpPr>
        <p:spPr>
          <a:xfrm>
            <a:off x="3564000" y="1557360"/>
            <a:ext cx="2016000" cy="433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ПГ-1, ДПГ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539640" y="1557360"/>
            <a:ext cx="2016360" cy="433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П-1,ДП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6588000" y="1557360"/>
            <a:ext cx="2016360" cy="433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ЗУ-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1008000" y="6093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и защитные свойства дополнительных патр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отивогазы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П-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П-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05dor027i"/>
          <p:cNvPicPr/>
          <p:nvPr/>
        </p:nvPicPr>
        <p:blipFill>
          <a:blip r:embed="rId1"/>
          <a:stretch/>
        </p:blipFill>
        <p:spPr>
          <a:xfrm>
            <a:off x="5781600" y="1820880"/>
            <a:ext cx="1941480" cy="2109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8" descr="ГП7"/>
          <p:cNvPicPr/>
          <p:nvPr/>
        </p:nvPicPr>
        <p:blipFill>
          <a:blip r:embed="rId2"/>
          <a:srcRect l="0" t="0" r="0" b="25761"/>
          <a:stretch/>
        </p:blipFill>
        <p:spPr>
          <a:xfrm>
            <a:off x="5796000" y="4005360"/>
            <a:ext cx="1906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ФП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фильтрующе-поглощающая коробка противогаз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ФПУ200"/>
          <p:cNvPicPr/>
          <p:nvPr/>
        </p:nvPicPr>
        <p:blipFill>
          <a:blip r:embed="rId1"/>
          <a:stretch/>
        </p:blipFill>
        <p:spPr>
          <a:xfrm>
            <a:off x="5292720" y="2239920"/>
            <a:ext cx="31528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авило использования противогаз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1" name="Picture 3" descr="4-51"/>
          <p:cNvPicPr/>
          <p:nvPr/>
        </p:nvPicPr>
        <p:blipFill>
          <a:blip r:embed="rId1"/>
          <a:stretch/>
        </p:blipFill>
        <p:spPr>
          <a:xfrm>
            <a:off x="1979640" y="1341360"/>
            <a:ext cx="3508200" cy="4319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4-52"/>
          <p:cNvPicPr/>
          <p:nvPr/>
        </p:nvPicPr>
        <p:blipFill>
          <a:blip r:embed="rId2"/>
          <a:stretch/>
        </p:blipFill>
        <p:spPr>
          <a:xfrm>
            <a:off x="1979640" y="1341360"/>
            <a:ext cx="3436920" cy="4248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4-521"/>
          <p:cNvPicPr/>
          <p:nvPr/>
        </p:nvPicPr>
        <p:blipFill>
          <a:blip r:embed="rId3"/>
          <a:stretch/>
        </p:blipFill>
        <p:spPr>
          <a:xfrm>
            <a:off x="1979640" y="1341360"/>
            <a:ext cx="3562200" cy="4319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4-53"/>
          <p:cNvPicPr/>
          <p:nvPr/>
        </p:nvPicPr>
        <p:blipFill>
          <a:blip r:embed="rId4"/>
          <a:stretch/>
        </p:blipFill>
        <p:spPr>
          <a:xfrm>
            <a:off x="1979640" y="1341360"/>
            <a:ext cx="3524400" cy="4319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4-54"/>
          <p:cNvPicPr/>
          <p:nvPr/>
        </p:nvPicPr>
        <p:blipFill>
          <a:blip r:embed="rId5"/>
          <a:stretch/>
        </p:blipFill>
        <p:spPr>
          <a:xfrm>
            <a:off x="1979640" y="1341360"/>
            <a:ext cx="356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Назначение и классификация СИЗ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4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защиты организма человека от вредного воз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ХОВ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Р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Б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снижения нежелательных эффектов светового, теплового и ионизирующего излуч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4"/>
          <p:cNvSpPr/>
          <p:nvPr/>
        </p:nvSpPr>
        <p:spPr>
          <a:xfrm>
            <a:off x="2844720" y="98100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СПИ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250920" y="2276640"/>
            <a:ext cx="2592360" cy="2089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назначени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тивопыле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тивогаз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азопылезащи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060720" y="2276640"/>
            <a:ext cx="3024000" cy="2089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 устройст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лумаска и фильтрующ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лемент служат лице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ча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чищающие воздух в фильт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тронах, присоединяем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 полума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6300720" y="2276640"/>
            <a:ext cx="2590920" cy="2087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 сроку служ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днораз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име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ногораз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предусмотрена замена фильтро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AutoShape 10"/>
          <p:cNvCxnSpPr>
            <a:stCxn id="247" idx="0"/>
            <a:endCxn id="249" idx="0"/>
          </p:cNvCxnSpPr>
          <p:nvPr/>
        </p:nvCxnSpPr>
        <p:spPr>
          <a:xfrm flipH="1" rot="16200000">
            <a:off x="4571280" y="-747360"/>
            <a:ext cx="2160" cy="604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AutoShape 11"/>
          <p:cNvCxnSpPr>
            <a:stCxn id="246" idx="2"/>
            <a:endCxn id="248" idx="0"/>
          </p:cNvCxnSpPr>
          <p:nvPr/>
        </p:nvCxnSpPr>
        <p:spPr>
          <a:xfrm>
            <a:off x="4573080" y="1701360"/>
            <a:ext cx="1080" cy="57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2" name="Text Box 12"/>
          <p:cNvSpPr/>
          <p:nvPr/>
        </p:nvSpPr>
        <p:spPr>
          <a:xfrm>
            <a:off x="1042920" y="4941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ираторы применяются для защиты органов дыхания от вредных газов, паров, аэрозолей и пы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3. Респираторы (противопылевы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спиратор Р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спиратор типа «Лепесток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FileР2"/>
          <p:cNvPicPr/>
          <p:nvPr/>
        </p:nvPicPr>
        <p:blipFill>
          <a:blip r:embed="rId1"/>
          <a:stretch/>
        </p:blipFill>
        <p:spPr>
          <a:xfrm>
            <a:off x="5145120" y="1817640"/>
            <a:ext cx="3100320" cy="1835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FileЛепест"/>
          <p:cNvPicPr/>
          <p:nvPr/>
        </p:nvPicPr>
        <p:blipFill>
          <a:blip r:embed="rId2"/>
          <a:stretch/>
        </p:blipFill>
        <p:spPr>
          <a:xfrm>
            <a:off x="5487840" y="3860640"/>
            <a:ext cx="24688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спиратор «КАМА», У2-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У2К"/>
          <p:cNvPicPr/>
          <p:nvPr/>
        </p:nvPicPr>
        <p:blipFill>
          <a:blip r:embed="rId1"/>
          <a:srcRect l="0" t="0" r="0" b="21081"/>
          <a:stretch/>
        </p:blipFill>
        <p:spPr>
          <a:xfrm>
            <a:off x="4726080" y="1197000"/>
            <a:ext cx="3862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Соответствие высоты лица и роста респиратора Р-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57200" y="2239920"/>
          <a:ext cx="8229600" cy="218772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1482480"/>
                <a:gridCol w="205596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та лица, м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-1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-1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ующий высоте лица рост (размер) респиратора Р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 Box 137"/>
          <p:cNvSpPr/>
          <p:nvPr/>
        </p:nvSpPr>
        <p:spPr>
          <a:xfrm>
            <a:off x="611280" y="4581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бора респиратора Р-2 по размеру нужно знать высоту лица, то есть расстояние между точкой наибольшего углубления на переносье и самой нижней точкой подбородка. В соответствии с измеренной высотой лица выбирается рост респи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остейшие и подручные СИЗ органов дыха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МП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ватно-марлевая повяз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Изготовление ВМ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FileВМП r"/>
          <p:cNvPicPr/>
          <p:nvPr/>
        </p:nvPicPr>
        <p:blipFill>
          <a:blip r:embed="rId2"/>
          <a:stretch/>
        </p:blipFill>
        <p:spPr>
          <a:xfrm>
            <a:off x="4641840" y="1746360"/>
            <a:ext cx="4040280" cy="2205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FileВМП"/>
          <p:cNvPicPr/>
          <p:nvPr/>
        </p:nvPicPr>
        <p:blipFill>
          <a:blip r:embed="rId3"/>
          <a:stretch/>
        </p:blipFill>
        <p:spPr>
          <a:xfrm>
            <a:off x="5435640" y="4292640"/>
            <a:ext cx="3260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755640" y="549360"/>
            <a:ext cx="741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но-марлевая повязка изготавливается следующим образ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ут кусок марли размером 100 на 50 с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его середину кладут ровный слой ваты размером 30 на 20 см и толщиной примерно 2 с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лю с обеих сторон загибают, закрывая ею в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ые от ваты концы марли надрезают посредине ножницами так, чтобы образовались две пары завяз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язки закрепляют стежками ниток (обшиваю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есть марля, но нет ваты, можно изготовить марлевую повязку. Для этого вместо ваты на середину куска укладывают пять-шесть слоев мар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но-марлевая повязка при использовании накладывается так, чтобы нижний край ее закрывал низ подбородка, а верхний доходил до глазных впадин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должны хорошо закрываться рот и нос. Разрезанные концы повязки завязываются: сначала верхние - на затылке за ушами, затем нижние - на темени. Для защиты глаз используют специальные противопыльные очки различного устройства. Очки можно сделать и сам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>
            <a:hlinkClick r:id="" action="ppaction://hlinkshowjump?jump=previousslide"/>
          </p:cNvPr>
          <p:cNvSpPr/>
          <p:nvPr/>
        </p:nvSpPr>
        <p:spPr>
          <a:xfrm>
            <a:off x="1692360" y="602136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>
            <a:hlinkClick r:id="" action="ppaction://hlinkshowjump?jump=nextslide"/>
          </p:cNvPr>
          <p:cNvSpPr/>
          <p:nvPr/>
        </p:nvSpPr>
        <p:spPr>
          <a:xfrm>
            <a:off x="7451640" y="595008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25033" y="10800"/>
                </a:lnTo>
                <a:lnTo>
                  <a:pt x="1102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остейшие и подручные СИЗ органов дыха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ска ПТМ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противопыльная тканевая мас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Изготовление ПТ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FileПТМ-1"/>
          <p:cNvPicPr/>
          <p:nvPr/>
        </p:nvPicPr>
        <p:blipFill>
          <a:blip r:embed="rId2"/>
          <a:stretch/>
        </p:blipFill>
        <p:spPr>
          <a:xfrm>
            <a:off x="3348000" y="1557360"/>
            <a:ext cx="2376360" cy="1851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FileПТМ"/>
          <p:cNvPicPr/>
          <p:nvPr/>
        </p:nvPicPr>
        <p:blipFill>
          <a:blip r:embed="rId3"/>
          <a:stretch/>
        </p:blipFill>
        <p:spPr>
          <a:xfrm>
            <a:off x="5796000" y="1557360"/>
            <a:ext cx="29811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5"/>
          <p:cNvSpPr/>
          <p:nvPr/>
        </p:nvSpPr>
        <p:spPr>
          <a:xfrm>
            <a:off x="1403280" y="90792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ка ПТМ-1 состоит из двух основных частей - корпуса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пления (см. слайд «ПТМ-1»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рпусе прорезаны смотровые отверстия, в которые вставляются стекла или пластины из прозрачного материала (плексигласа, целлулоида). Корпус маски изготавливается из четырех-пяти слоев ткани: два-три внутренних слоя - из плотных тканей (фланель, байка), верхний - из неплотной - (штапель, трикотаж). Крепление делается из одного слоя любой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>
            <a:hlinkClick r:id="" action="ppaction://hlinkshowjump?jump=previousslide"/>
          </p:cNvPr>
          <p:cNvSpPr/>
          <p:nvPr/>
        </p:nvSpPr>
        <p:spPr>
          <a:xfrm>
            <a:off x="1763640" y="5445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>
            <a:hlinkClick r:id="" action="ppaction://hlinkshowjump?jump=nextslide"/>
          </p:cNvPr>
          <p:cNvSpPr/>
          <p:nvPr/>
        </p:nvSpPr>
        <p:spPr>
          <a:xfrm>
            <a:off x="6732720" y="5300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золирующие СИЗОД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14"/>
          <p:cNvSpPr/>
          <p:nvPr/>
        </p:nvSpPr>
        <p:spPr>
          <a:xfrm>
            <a:off x="2987640" y="692280"/>
            <a:ext cx="316872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Изолирующие СИЗ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Назначение, принцип действия, модели ИП</a:t>
            </a:r>
            <a:endParaRPr b="1" lang="en-US" sz="1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AutoShape 18"/>
          <p:cNvSpPr/>
          <p:nvPr/>
        </p:nvSpPr>
        <p:spPr>
          <a:xfrm>
            <a:off x="1908000" y="1773360"/>
            <a:ext cx="187200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Изолиру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противога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9"/>
          <p:cNvSpPr/>
          <p:nvPr/>
        </p:nvSpPr>
        <p:spPr>
          <a:xfrm>
            <a:off x="395280" y="2637000"/>
            <a:ext cx="237636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На основе химичес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вязанного кисло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0"/>
          <p:cNvSpPr/>
          <p:nvPr/>
        </p:nvSpPr>
        <p:spPr>
          <a:xfrm>
            <a:off x="395280" y="3573360"/>
            <a:ext cx="2376360" cy="1584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ИП-4, ИП-4М,ИП-4М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для работы на су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ИП-5 для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под в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>
            <a:off x="2916360" y="2637000"/>
            <a:ext cx="180000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Работающие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жатом кисл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2"/>
          <p:cNvSpPr/>
          <p:nvPr/>
        </p:nvSpPr>
        <p:spPr>
          <a:xfrm>
            <a:off x="2916360" y="3573360"/>
            <a:ext cx="1800000" cy="1008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КИП-8, КИП-9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АП-96,АП-200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ИВА-24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>
            <a:off x="5076720" y="184464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амоспасат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4"/>
          <p:cNvSpPr/>
          <p:nvPr/>
        </p:nvSpPr>
        <p:spPr>
          <a:xfrm>
            <a:off x="7164360" y="184464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Шланг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противогаз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5"/>
          <p:cNvSpPr/>
          <p:nvPr/>
        </p:nvSpPr>
        <p:spPr>
          <a:xfrm>
            <a:off x="5076720" y="2637000"/>
            <a:ext cx="1800360" cy="863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ПИ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ПДУ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ПИ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26"/>
          <p:cNvCxnSpPr>
            <a:stCxn id="279" idx="0"/>
            <a:endCxn id="285" idx="0"/>
          </p:cNvCxnSpPr>
          <p:nvPr/>
        </p:nvCxnSpPr>
        <p:spPr>
          <a:xfrm flipH="1" rot="16200000">
            <a:off x="5418720" y="-801000"/>
            <a:ext cx="72000" cy="5220360"/>
          </a:xfrm>
          <a:prstGeom prst="bentConnector3">
            <a:avLst>
              <a:gd name="adj1" fmla="val -3195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AutoShape 27"/>
          <p:cNvCxnSpPr>
            <a:stCxn id="277" idx="2"/>
          </p:cNvCxnSpPr>
          <p:nvPr/>
        </p:nvCxnSpPr>
        <p:spPr>
          <a:xfrm>
            <a:off x="4571640" y="1339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AutoShape 29"/>
          <p:cNvCxnSpPr>
            <a:stCxn id="284" idx="0"/>
          </p:cNvCxnSpPr>
          <p:nvPr/>
        </p:nvCxnSpPr>
        <p:spPr>
          <a:xfrm flipV="1">
            <a:off x="5976720" y="15570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AutoShape 30"/>
          <p:cNvCxnSpPr>
            <a:stCxn id="279" idx="2"/>
            <a:endCxn id="280" idx="0"/>
          </p:cNvCxnSpPr>
          <p:nvPr/>
        </p:nvCxnSpPr>
        <p:spPr>
          <a:xfrm flipH="1">
            <a:off x="1583640" y="2421000"/>
            <a:ext cx="126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AutoShape 31"/>
          <p:cNvCxnSpPr>
            <a:stCxn id="279" idx="2"/>
            <a:endCxn id="282" idx="0"/>
          </p:cNvCxnSpPr>
          <p:nvPr/>
        </p:nvCxnSpPr>
        <p:spPr>
          <a:xfrm>
            <a:off x="2844360" y="2421000"/>
            <a:ext cx="972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AutoShape 32"/>
          <p:cNvCxnSpPr>
            <a:stCxn id="280" idx="2"/>
            <a:endCxn id="281" idx="0"/>
          </p:cNvCxnSpPr>
          <p:nvPr/>
        </p:nvCxnSpPr>
        <p:spPr>
          <a:xfrm>
            <a:off x="1584000" y="3284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33"/>
          <p:cNvCxnSpPr>
            <a:stCxn id="282" idx="2"/>
            <a:endCxn id="283" idx="0"/>
          </p:cNvCxnSpPr>
          <p:nvPr/>
        </p:nvCxnSpPr>
        <p:spPr>
          <a:xfrm>
            <a:off x="3816000" y="3284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AutoShape 34"/>
          <p:cNvCxnSpPr>
            <a:stCxn id="284" idx="2"/>
            <a:endCxn id="286" idx="0"/>
          </p:cNvCxnSpPr>
          <p:nvPr/>
        </p:nvCxnSpPr>
        <p:spPr>
          <a:xfrm>
            <a:off x="5976720" y="2492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952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сификация СИЗ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95280" y="170028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2519280" y="1844640"/>
            <a:ext cx="4105440" cy="100800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059280" y="205740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С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466560" y="3573360"/>
            <a:ext cx="2737080" cy="790560"/>
          </a:xfrm>
          <a:prstGeom prst="flowChartAlternateProcess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971640" y="3933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68360" y="3645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ИЗ органов дыхания(СИЗ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3492360" y="3573360"/>
            <a:ext cx="2160720" cy="79056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5938920" y="3573360"/>
            <a:ext cx="2736720" cy="79056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63528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ИЗ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6084720" y="378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дицинские С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5"/>
          <p:cNvCxnSpPr>
            <a:stCxn id="162" idx="2"/>
            <a:endCxn id="164" idx="0"/>
          </p:cNvCxnSpPr>
          <p:nvPr/>
        </p:nvCxnSpPr>
        <p:spPr>
          <a:xfrm flipH="1">
            <a:off x="1835280" y="2852640"/>
            <a:ext cx="273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16"/>
          <p:cNvCxnSpPr>
            <a:stCxn id="162" idx="2"/>
            <a:endCxn id="168" idx="0"/>
          </p:cNvCxnSpPr>
          <p:nvPr/>
        </p:nvCxnSpPr>
        <p:spPr>
          <a:xfrm>
            <a:off x="4572000" y="2852640"/>
            <a:ext cx="27360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AutoShape 17"/>
          <p:cNvCxnSpPr>
            <a:stCxn id="162" idx="2"/>
            <a:endCxn id="167" idx="0"/>
          </p:cNvCxnSpPr>
          <p:nvPr/>
        </p:nvCxnSpPr>
        <p:spPr>
          <a:xfrm>
            <a:off x="4572000" y="2852640"/>
            <a:ext cx="21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Text Box 21"/>
          <p:cNvSpPr/>
          <p:nvPr/>
        </p:nvSpPr>
        <p:spPr>
          <a:xfrm>
            <a:off x="539640" y="1484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на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539640" y="4707000"/>
            <a:ext cx="36734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способу изготовл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ускаемые промышленностью (табель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готовляемые насел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16360" y="4724280"/>
            <a:ext cx="3888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принципу защитного действ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льтрующ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лир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золирующие СИЗ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П-4М (изолирующий противогаз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ИП4М"/>
          <p:cNvPicPr/>
          <p:nvPr/>
        </p:nvPicPr>
        <p:blipFill>
          <a:blip r:embed="rId1"/>
          <a:stretch/>
        </p:blipFill>
        <p:spPr>
          <a:xfrm>
            <a:off x="5497560" y="1889280"/>
            <a:ext cx="2521080" cy="38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оспасател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8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И-20 (самоспасатель изолирующи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кстренной защиты органов дыхания и зрения при эвакуации в условиях пожара из зданий. Время защитного действия при эвакуации – не менее 20, в ожидании помощи – не менее 4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СПИ20"/>
          <p:cNvPicPr/>
          <p:nvPr/>
        </p:nvPicPr>
        <p:blipFill>
          <a:blip r:embed="rId1"/>
          <a:stretch/>
        </p:blipFill>
        <p:spPr>
          <a:xfrm>
            <a:off x="6659640" y="1413000"/>
            <a:ext cx="2047680" cy="20872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71600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оспасател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3322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спасатель изолирующий противопожарный обеспечивает защиту не менее 20мин. От вредных веществ, независимо от их концентрации, защиту головы  от кратковременного воздействия открытого пламени с температурой до 8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. Существует возможность речевого 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СИП1"/>
          <p:cNvPicPr/>
          <p:nvPr/>
        </p:nvPicPr>
        <p:blipFill>
          <a:blip r:embed="rId1"/>
          <a:srcRect l="0" t="0" r="0" b="7128"/>
          <a:stretch/>
        </p:blipFill>
        <p:spPr>
          <a:xfrm>
            <a:off x="5111640" y="2371680"/>
            <a:ext cx="3108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 изолирующим средствам защиты органов дыхания (СИЗОД) относятся такж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шланговые противогазы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торые обеспечивают органы дыхания чистым воздухом с помощью вентиляторов или компрессоров через соединительные шланг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ни используются главным образом при выполнении работ по ремонту и очистке различных емкостей, цистерн, подвальных и других замкнутых помещений, где в больших концентрациях могут скапливаться опасные химические вещ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729160" cy="4319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7e9ce8"/>
                </a:solidFill>
                <a:uFillTx/>
                <a:latin typeface="Arial"/>
              </a:rPr>
              <a:t>Средства индивидуальной защиты кожи (СИЗК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СИЗК относят защитную одежду фильтрующего и изолирующего типа, изготовленную из фильтрующих и изолирующих материалов соответственн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зависимости от принципа боевого использования и кратности применения СИЗК подразделяют на средства постоянного и периодического ношения, средства однократного и многократного примен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СИЗК фильтрующего типа относятся общевойсковые комплексные защитные костюмы (ОКЗК), (ОКЗК-М), (ОКЗК -Д (десантный)), а также костюм защитный КЗ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общевойсковым СИЗК изолирующего типа относятся общевойсковой защитный комплект ОЗК и костюм пленочный КЗП. Специальным средством защиты является костюм легкий защитный Л-1 (костюм Л-1) и изолирующие костюмы повышенной герметич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 rot="21428400">
            <a:off x="0" y="1267920"/>
            <a:ext cx="3848040" cy="54723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63588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редства индивидуальной защиты кожи </a:t>
            </a:r>
            <a:r>
              <a:rPr b="0" lang="ru-RU" sz="2200" spc="-1" strike="noStrike" u="sng">
                <a:solidFill>
                  <a:srgbClr val="ff3300"/>
                </a:solidFill>
                <a:uFillTx/>
                <a:latin typeface="Arial"/>
              </a:rPr>
              <a:t>фильтрующего тип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1640" y="1413000"/>
            <a:ext cx="6156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 средствам индивидуальной защиты кожи (СИЗК) фильтрующего типа относятся: общевойсковой комплексный защитный костюм (ОКЗК), общевойсковой комплексный защитный костюм модернизированный (ОКЗК-М), общевойсковой комплексный защитный костюм десантный (ОКЗК-Д), общевойсковой фильтрующий комплекс ОФК, защитный костюм КЗ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250920" y="26028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стейшие средства защиты кож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Из предметов бытовой одежды наиболее пригодны для защиты кожи людей плащи и накидки из прорезиненной или покрытой хлорвиниловой пленкой ткани. Такая одежда предохраняет от попадания на кожу радиоактивных веществ, капельножидких аварийно химически опасных веще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179280" y="260280"/>
            <a:ext cx="77774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щиту могут обеспечить также и зимние вещи: пальто из грубого сукна или драпа, ватники, дубленки, кожаные пальто. Так, например, пальто из сукна или драпа вместе с другой одеждой защищает от капельножидких отравляющих веществ и аварийно химически опасных веществ зимой до 1 ч, летом - до 20 мин, ватник, дубленка, кожаное пальто - до 2 ч. Все зависит от конкретных условий, концентрации отравляющих и ядовитых веществ, погодных характеристи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 соответствующей подготовки защиту могут обеспечить и другие виды верхней одежды: спортивные костюмы, куртки, особенно кожаные, брю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179280" y="260280"/>
            <a:ext cx="777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защиты ног лучше всего использовать резиновые сапоги промышленного и бытового назначения, резиновые боты и галоши. Можно применять также обувь из кожи и кожзаменителей, но желательно с резиновыми галошами. Резиновые изделия способны не пропускать капельножидкие токсичные вещества и аварийно химически опасные вещества до 3-6 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защиты рук нужны резиновые или кожаные перчатки и рукав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250920" y="333360"/>
            <a:ext cx="78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ой обычной одежды, как правило, не предусматривает полной ее герметизации. Места наибольшей проницаемости радиоактивных, отравляющих и ядовитых веществ: нагрудный разрез, воротник, нижний край куртки, места соединения рукавов с перчатками и низ брюк. Поэтому, чтобы изолировать человека от окружающей среды, необходимо провести тщательную герметизацию одежды. Она должна быть застегнута на все пуговицы, крючки или кнопки. Воротник нужно поднять, а поверх него обвязать шею шарфом или платком. Рукава надо обвязать вокруг запястий тесемками. Брюки нужно выпустить поверх обуви и внизу также завязать тесьмой. Низ куртки или пиджака надо заправить в брюки. Одежду подпояс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редства защиты органов дыхания (противогазы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Средства оказания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медицинской помощ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Медицинское имуще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оказании различных видов медицинской помощи используется медицинское имущество. </a:t>
            </a:r>
            <a:r>
              <a:rPr b="0" lang="ru-RU" sz="2600" spc="-1" strike="noStrike" u="sng">
                <a:solidFill>
                  <a:srgbClr val="669999"/>
                </a:solidFill>
                <a:uFillTx/>
                <a:latin typeface="Arial"/>
              </a:rPr>
              <a:t>Медицинское имущест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совокупность специальных материальных средств, предназначенных дл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азания медицинской помощ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вления (диагностики), леч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филактики поражений и заболеван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я санитарно – гигиенических и противоэпидемических мероприят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орудования медицинских учреждений и медицинских формирова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медицинского имуще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медицинскому имуществу относя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екарствен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ммунобиологические препарат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вязоч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зинфекционные, дератизационные и дезинсекцион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овный материал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едметы ухода за больны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дицинская техник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имические реактивы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екарственное растительное сырь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инеральные в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медицинского иму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используемого для оказания первой медицинской помощи в зонах поражения, должны входить только такие специальные материальные средства, которые являются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компактны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малогабаритны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не требующими источников энергообеспеч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всегда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готовые к использовани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иды средств оказания ПМ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ециальными медицинскими средствами являются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табель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подручные сред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казания первой медицинской помощ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абель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73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Табельными средств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казания медицинской помощи являются </a:t>
            </a:r>
            <a:r>
              <a:rPr b="0" lang="ru-RU" sz="2600" spc="-1" strike="noStrike" u="sng">
                <a:solidFill>
                  <a:srgbClr val="008000"/>
                </a:solidFill>
                <a:uFillTx/>
                <a:latin typeface="Arial"/>
              </a:rPr>
              <a:t>медикамен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 u="sng">
                <a:solidFill>
                  <a:srgbClr val="008000"/>
                </a:solidFill>
                <a:uFillTx/>
                <a:latin typeface="Arial"/>
              </a:rPr>
              <a:t>перевязочные средст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 u="sng">
                <a:solidFill>
                  <a:srgbClr val="008000"/>
                </a:solidFill>
                <a:uFillTx/>
                <a:latin typeface="Arial"/>
              </a:rPr>
              <a:t>кровоостанавливающие жгу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 u="sng">
                <a:solidFill>
                  <a:srgbClr val="008000"/>
                </a:solidFill>
                <a:uFillTx/>
                <a:latin typeface="Arial"/>
              </a:rPr>
              <a:t>шины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иммобилизации. Ими обеспечиваются, в соответствии с табелями оснащения, пункты медицинских спасательных центров, а также спасатели спасательных центров, медицинские формирования Всероссийской службы медицины катаст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иды табельных средст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629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600" spc="-1" strike="noStrike">
                <a:solidFill>
                  <a:srgbClr val="cccc00"/>
                </a:solidFill>
                <a:latin typeface="Arial"/>
              </a:rPr>
              <a:t>табельным средства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редназначенным для оказания первой медицинской помощи, относятс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аптечка индивидуаль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пакет перевязоч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дицинский индивидуаль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пакет противохимическ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ндивидуаль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сумка медицинская санитар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из марли бинты,турунды,тампоны,салфетки"/>
          <p:cNvPicPr/>
          <p:nvPr/>
        </p:nvPicPr>
        <p:blipFill>
          <a:blip r:embed="rId1"/>
          <a:stretch/>
        </p:blipFill>
        <p:spPr>
          <a:xfrm>
            <a:off x="5940360" y="1628640"/>
            <a:ext cx="3203640" cy="244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KC2465_35"/>
          <p:cNvPicPr/>
          <p:nvPr/>
        </p:nvPicPr>
        <p:blipFill>
          <a:blip r:embed="rId2"/>
          <a:stretch/>
        </p:blipFill>
        <p:spPr>
          <a:xfrm>
            <a:off x="6802560" y="4149720"/>
            <a:ext cx="23414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птечка индивидуальна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491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птечка индивидуальная представляет собой набор лекарственных средств для оказания самопомощи и взаимопомощи при ранениях, переломах и ожогах (для снятия боли) и предупреждения или ослабления поражения фосфорорганическими ОВ, бактериальными средствами и радиоактивными веществами. Аптечка представляет собой футляр из пластика размером 90х100х20 мм, массой 130 г, в который вложены пластмассовые тюбики и пеналы с препаратами. Препараты вложены в семь гнезд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i"/>
          <p:cNvPicPr/>
          <p:nvPr/>
        </p:nvPicPr>
        <p:blipFill>
          <a:blip r:embed="rId1"/>
          <a:stretch/>
        </p:blipFill>
        <p:spPr>
          <a:xfrm>
            <a:off x="6948360" y="2781360"/>
            <a:ext cx="1990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Гнездо 1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1 - шприц-тюбик с противоболевым средством (промедолом). Он применяется при ранениях, переломах и ожогах как противоболевое средство. Инъекция внутримышечна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влеките шприц-тюбик из аптечки. Возьмитесь левой рукой за ребристый ободок, а правой - за корпус тюбика и энергичным вращательным движением поверните его до упора по ходу часовой стрелки. Затем снимите колпачок, защищающий иглу, и, держа шприц-тюбик иглой вверх, выдавите из него воздух до появления капли жидкости на кончике иглы. После этого, не касаясь иглы руками, введите ее в мягкие ткани бедра, руки или ягодицу и выдавите содержимое шприц-тюбика. Извлекайте иглу, не разжимая пальцев. В экстренных случаях укол можно сделать и через одежд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Гнезда 2, 3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2 - средство для предупреждения отравления фосфорорганическими ОВ (тарен) находится в круглом красном пенале. В пенале 6 таблеток. Принимают его по сигналу Химическая тревога - одну таблетку. Затем сразу же надевают противогаз. При появлении и нарастании признаков отравления следует принять еще одну таблетку. Повторно принимать препарат рекомендуется не ранее чем через 5-6 час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3 - противобактериальное средство ©2 (сульфади-метоксин) находится в большом круглом пенале без окраски (14 таблеток). Использовать его следует при желудочно-кишечном расстройстве, возникающем после облучения. В первые сутки принимают 7 таблеток (в один прием), а в последующие двое суток - по 4 таблетки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31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Гнезда 4, 5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4 - радиозащитное средство ©1 (цистамин) находится в двух восьмигранных пеналах по 6 таблеток в каждом. Этот препарат принимают по сигналу Радиационная опасность 6 таблеток в течение 30-40 минут, запивая водой. При новой угрозе облучения, но не ранее 4-5 часов после первого приема, рекомендуется принять еще 6 таблет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5 - противобактериальное средство ©1 (хлортетра-циклин) находится в двух одинаковых четырехгранных пеналах без окраски по 5 таблеток в каждом. Принимать его следует в случае применения противником бактериальных средств, при инфекционном заболевании, а также при ранениях и ожогах. Сначала принимают содержимое одного пенала (сразу 5 таблеток), а затем через 6 часов принимают содержимое другого пенала (также 5 таблеток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Гнездо 6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561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6 - радиозащитное средство ©2 (йодистый калий) находится в четырехгранном пенале белого цвета. В пенале 10 таблеток. Принимать его следует по одной таблетке ежедневно в течение 10 дней после выпадения радиоактивных осадков, при употреблении в пищу зараженного молока. Следует учитывать то, что радиозащитные вещества эффективны, если введены в организм за 30-60 минут перед облучением или принятием зараженной пищи и воды. Защитное их воздействие сохраняется в течение 5-6 часов с момента приема. При необходимости рекомендуется повторить прием таблет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8142"/>
          <p:cNvPicPr/>
          <p:nvPr/>
        </p:nvPicPr>
        <p:blipFill>
          <a:blip r:embed="rId1"/>
          <a:stretch/>
        </p:blipFill>
        <p:spPr>
          <a:xfrm>
            <a:off x="7086600" y="299736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Гнездо 7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96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7 - противорвотное средство (этаперазин) находится в круглом пенале голубого цвета в количестве 5 таблеток. Его принимают по одной таблетке сразу после облучения, а также при появлении тошноты после ушиба головы. Хорошим средством профилактики радиационных поражений являются различные адсорбенты: активированный уголь, сернистый барий и др., которые, вбирая в себя радиоактивные вещества, предотвращают распространение их в организме человека. </a:t>
            </a:r>
            <a:r>
              <a:rPr b="0" lang="ru-RU" sz="2100" spc="-1" strike="noStrike">
                <a:solidFill>
                  <a:srgbClr val="c13503"/>
                </a:solidFill>
                <a:latin typeface="Arial"/>
              </a:rPr>
              <a:t>Примечани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Детям до 8 лет на один прием давать 1/4 дозы взрослого, детям от 8 до 15 лет - 1/2 дозы взрослого из перечисленных средств, кроме радиозащитного средства 2 и противоболевого средства, которые даются в полной дозе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иды аптече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877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течка индивидуальная может быть выполнена в трех модификациях АИ-1, АИ-1М, АИ-2. Размеры аптечек индивидуальных АИ-1М, АИ-2 и их масса близки к данным аптечки АИ-1. Срок хранения каждой из аптечек – 3 года. В футляр каждой аптечки вложена инструкция по пользован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347_1304"/>
          <p:cNvPicPr/>
          <p:nvPr/>
        </p:nvPicPr>
        <p:blipFill>
          <a:blip r:embed="rId1"/>
          <a:stretch/>
        </p:blipFill>
        <p:spPr>
          <a:xfrm>
            <a:off x="6921360" y="2781360"/>
            <a:ext cx="2222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птечка АИ-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птечка индивидуальная АИ-1 содержит шприц-тюбик с афином (для защиты от фосфорганических ОВ), шприц-тюбик с промедолом (противоболевое средство), два пенала с цистамином (для профилактики и лечения лучевой болезни), два пенала с тетрациклином (антибиотик) и пенал с этаперазином (противорвотное средство), размещенными в полиэтиленовом футляре массой 95 г и габаритными размерами 91х101х22 м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птечка АИ-1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течка индивидуальная АИ-1М имеет почти тот же набор лекарственных средств, что и АИ-1. Ее отличие от аптечки индивидуальной АИ-1 состоит в том, что для защиты от фосфорганических ОВ она содержит два шприц-тюбика с афином, а антибиотик тетрациклин заменен антибиотиком доксициклин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птечка  АИ-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561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став аптечки индивидуальной АИ-2 входят: шприц-тюбик с промедолом (противоболевое средство); пенал с антидотом тареном (для защиты от фосфорорганических ОВ); два пенала с хлортетрациклином (противобактериальное средство № 1) и пенал с сульфодиметоксином (противобактериальное средство № 2); два пенала с цистамином (радиозащитное средство № 1) и пенал с калием йодистым (радиозащитное средство № 2) для лечения и профилактики лучевой болезни; пенал с этаперазином (противорвотное средство), размещенными в полиэтиленовом футля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347_1303"/>
          <p:cNvPicPr/>
          <p:nvPr/>
        </p:nvPicPr>
        <p:blipFill>
          <a:blip r:embed="rId1"/>
          <a:stretch/>
        </p:blipFill>
        <p:spPr>
          <a:xfrm>
            <a:off x="6877080" y="2859120"/>
            <a:ext cx="2266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Индивидуальный перевязочный паке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дивидуальный перевязочный пакет состоит из бинта шириной 10 см и длиной 7 м и двух ватно-марлевых подушечек размером 17,5х32 см. Одна из подушечек пришита около начала бинта неподвижно, а другую можно передвигать по бинту для удобства наложения повязки. Свернутые подушечки и бинт завернуты в вощеную бумагу и вложены в герметичный чехол из прорезиненной ткани, целлофана или пергаментной бумаги. В пакете имеется булавка, на чехле указаны правила пользования пакетом. При вскрытии пакета нельзя нарушать стерильность поверхности подушечки, которой она прикладывается к ране или месту ожога. Руками можно трогать только поверхность подушечки, прошитую цветными нитк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Применение индивидуального перевязочного пакет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659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необширных поражениях подушечки следуют накладывать одна на другую, при сквозных ранениях подвижную подушечку следует переместить по бинту и закрыть вход в отверстие. На раненую поверхность (при сквозном отверстии – на входное и выходное отверстие) подушечки накладывают внутренней стороной. Окончив бинтование, конец бинта закрепляют булавко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наложении окклюзионной повязки сначала на рану накладывают кусок материала, не пропускающего воздух (клеенку, прорезиненную оболочку от ППМИ), затем стерильную салфетку или стерильный бинт в 3-4 слоя, далее слой ваты и туго забинтовывают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347_1314"/>
          <p:cNvPicPr/>
          <p:nvPr/>
        </p:nvPicPr>
        <p:blipFill>
          <a:blip r:embed="rId1"/>
          <a:stretch/>
        </p:blipFill>
        <p:spPr>
          <a:xfrm>
            <a:off x="6659640" y="1844640"/>
            <a:ext cx="22222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Индивидуальный противохимический пакет ИПП-8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6656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ивидуальный противохимический пакет ИПП-8 предназначен для обеззараживания капельно-жидких ОВ (отравляющих веществ), попавших на открытые участки тела, одежду, обувь и индивидуальные средства защи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347_1299"/>
          <p:cNvPicPr/>
          <p:nvPr/>
        </p:nvPicPr>
        <p:blipFill>
          <a:blip r:embed="rId1"/>
          <a:stretch/>
        </p:blipFill>
        <p:spPr>
          <a:xfrm>
            <a:off x="6012000" y="2637000"/>
            <a:ext cx="280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сификация СИЗ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419640" y="134136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З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468360" y="2565360"/>
            <a:ext cx="3959280" cy="576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аемые промышл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4716360" y="2565360"/>
            <a:ext cx="3959280" cy="576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яемые насел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одруч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1403280" y="3357720"/>
            <a:ext cx="2089080" cy="1439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тиво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спи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амоспас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716360" y="328464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тивопыльные тканевые ма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ПТМ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тно-марлевые повязки (ВМ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ручные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1"/>
          <p:cNvCxnSpPr>
            <a:stCxn id="182" idx="0"/>
            <a:endCxn id="183" idx="0"/>
          </p:cNvCxnSpPr>
          <p:nvPr/>
        </p:nvCxnSpPr>
        <p:spPr>
          <a:xfrm flipH="1" rot="16200000">
            <a:off x="4570920" y="441360"/>
            <a:ext cx="2520" cy="42483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AutoShape 12"/>
          <p:cNvCxnSpPr>
            <a:stCxn id="182" idx="2"/>
            <a:endCxn id="184" idx="0"/>
          </p:cNvCxnSpPr>
          <p:nvPr/>
        </p:nvCxnSpPr>
        <p:spPr>
          <a:xfrm>
            <a:off x="2447640" y="3141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13"/>
          <p:cNvCxnSpPr>
            <a:stCxn id="183" idx="2"/>
            <a:endCxn id="185" idx="0"/>
          </p:cNvCxnSpPr>
          <p:nvPr/>
        </p:nvCxnSpPr>
        <p:spPr>
          <a:xfrm>
            <a:off x="6695640" y="3141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Line 16"/>
          <p:cNvSpPr/>
          <p:nvPr/>
        </p:nvSpPr>
        <p:spPr>
          <a:xfrm>
            <a:off x="450072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 ИПП-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акет состоит из стеклянного флакона с дегазирующим раствором и четырех ватно-марлевых тампонов. Важно бережно хранить пакет, чтобы не повредить стеклянный флакон с жидкостью. Когда необходимо, тампоны смачивают жидкостью из флакона и протирают зараженные участки. В первую очередь обеззараживаются открытые участки кожи, а затем края воротника и манжетов, средства индивидуальной защиты и снаряжение. Жидкость пакета ядовита - она не должна попасть в глаза. Если при обработке жидкостью появляется жжение, то нет необходимости волноваться: оно быстро исчезнет и не повлияет на самочувств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газирующая жидкость способна убивать и микробов, т.е. обладает дезинфицирующими свойствами. Пакет может использоваться при заражении бактериальными средствами. Однако целевое назначение индивидуального противохимического пакета - это проведение частичной санитарной обработки при заражении отравляющими веществ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ИПП-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отсутствии ИПП-8 капельно-жидкие ОВ обезвреживаются раствором, приготовленным из одного литра 3%-ного раствора перекиси водорода и 30 г едкого натра. Едкий натр можно заменить силикатным клеем (150 г клея на 1 литр 3%-ной перекиси водорода). Способ применения раствора такой же, как и жидкости из ИПП-8. При обращении с сухим едким натром нужно следить, чтобы он не попал в глаза и на кож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ользовании ИПП-8 надо иметь в виду, что жидкость из него можно применять для обеззараживания ОВ, попавших на кожу, только у детей от 7 лет и старше; для обработки кожи у детей от 1,5 до 7 лет следует использовать щелочно-перекисную рецептур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умка медицинская санитарна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078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мка медицинская санитарная представляет собой совокупность предметов медицинского имущества, предназначенных для оказания первой медицинской помощи, находящихся в специальной таре (сумке), комплектуется различными видами перевязочного материала (бинтами марлевыми стерильными, салфетками стерильными малыми и большими, косынками медицинскими перевязочными); ватой гигроскопической и нестерильной в пачках; пакетами перевязочными медицинскими индивидуальными; жгутами кровоостанавливающими; 5 % раствором настойки йода в ампулах; ампулами с раствором аммиака и др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347_1310"/>
          <p:cNvPicPr/>
          <p:nvPr/>
        </p:nvPicPr>
        <p:blipFill>
          <a:blip r:embed="rId1"/>
          <a:stretch/>
        </p:blipFill>
        <p:spPr>
          <a:xfrm>
            <a:off x="6516720" y="278136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иды медикамен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медикамента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используемым при оказании первой медицинской помощи, относя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исептические средств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идот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диозащитные средств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тивоболевые средства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Антисептические сред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иболее распространенными 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антисептическими средств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являются: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5 % раствор й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ым смазывают кожу вокруг ран и обеззараживают руки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0,1 – 0,5 % раствор калия пермангана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рименяемого для полоскания полости рта и промывания желудка при отравлениях фосфором, солями синильной кислоты, алкалоидами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3 % раствор перекиси водор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для дезинфекции, очищения загрязненных ран, оказывает также кровоостанавливающее действие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70 % раствор спирта этилов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используется как обеззараживающее и раздражающее наружное средство и для согревающих компрессов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фураци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хлорам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хлорная извес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меняются как дезинфицирующее средств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тидо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лечения поражений отравляющими веществами, попавшими в организм, используются противоядия – антидоты. </a:t>
            </a:r>
            <a:r>
              <a:rPr b="0" lang="ru-RU" sz="2100" spc="-1" strike="noStrike" u="sng">
                <a:solidFill>
                  <a:srgbClr val="669999"/>
                </a:solidFill>
                <a:uFillTx/>
                <a:latin typeface="Arial"/>
              </a:rPr>
              <a:t>Антидо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это лекарственные средства (медикаменты), обезвреживающие яд в организме путем химического или физико-химического взаимодействия с ядом в процессе физических или химических превращений, либо уменьшающие вызванные ядом патологические нарушения в организме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ом антидота, действующего на основе физико-химического взаимодействия с ядом, является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активированный угол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Перманганат кал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упомянутый как антисептическое средство, употребляется также в качестве антидота для обеззараживания яда путем химического взаимодействия с ним в организм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иды антидо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оказании первой медицинской помощи используют 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антидо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В качестве антидотов при химических поражениях применяют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Зарином, зоманом - вводимый подкожно или внутримышечно атропин, афин или будаксин из шприц-тюбика однократного или многократного использования, входящие в состав в аптечки индивидуальной АИ-1 (АИ-1М), вместо них принимают 1-2 таблетки тарена из гнезда №2 аптечки АИ-2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Азотистыми ипритами, ипритом, люизитом – капли и аэрозоли, попавшие на кожу, удаляют ватным тампоном и обрабатывают эти места раствором из ИПП-8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) синильной кислотой, бромцеаном и хлорцеаном – раздавливают ампулу с амилнитритом и вводят под противогаз или подносят к носу (рту), при этом рекомендуют использовать не более 2-х ампу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начение антидо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антидотов существенно сокращает период выздоровления пораженных. Профилактическое использование антидотов в комплексе со средствами индивидуальной защиты повышает защищенность человека от АХОВ (аварийными химически опасными веществам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диозащит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ую группу медикаментов, применяемых при оказании первой медицинской помощи, составляют радиозащитные средства (их называют также противолучевые средства, радиопротекторы). </a:t>
            </a:r>
            <a:r>
              <a:rPr b="0" lang="ru-RU" sz="2600" spc="-1" strike="noStrike" u="sng">
                <a:solidFill>
                  <a:srgbClr val="cccc00"/>
                </a:solidFill>
                <a:uFillTx/>
                <a:latin typeface="Arial"/>
              </a:rPr>
              <a:t>Радиозащитные средст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лекарственные средства, повышающие устойчивость организма к действию ионизирующего излучения, они применяются для профилактики радиационных поражений и лучевой болезни. Например, меркамина гидрохлорид, цистамина гидрохлорид, мексамин, батило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руч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Подручны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являются средства, которые используются для оказания медицинской помощи при отсутствии табельных, и обеспечивают их замену. К ним относятся некоторые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лекарственные раст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тка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белье для перевязо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ранах и ожогах;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брючные рем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пояс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плат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шарф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торые могут быть использованы для остановки артериального кровотечения вместо жгута;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фанерные полос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дос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пал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другие предметы, применяемые вместо шин и т.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Противогаз Зелинского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66560" y="620640"/>
            <a:ext cx="597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1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явление противогаза связано с появлением нового вида оружия массового поражения - химического оружия. Отравляющие вещества впервые применили в Первую мировую войну войска кайзеровской Германии против позиций англо-французских войск. Необходимо было в короткие сроки создать надежные средства защиты от отравляющих веществ. Химики, медики и другие специалисты многих стран трудились над этой задачей. Лучше других работа удалась русскому ученому-химику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Николаю Дмитриевичу Зелинско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(1861-1953 гг.)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который предложил использовать в защитном приборе в качестве поглощающего вещества древесный уголь. В июне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1915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заседании противогазовой комиссии при Русском техническом обществе Зелинский впервые доложил о найденном им средстве. В конце 1915 инженер Э. Л. Куммант предложил использовать в конструкции противогаза резиновый шлем. Из-за преступной задержки с внедрением противогаза по вине командования армии только в феврале 1916 после испытаний в полевых условиях он, наконец, был принят на вооружение. К середине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было налажено массовое производство противогазов Зелинского-Кумманта. Всего за годы Первой мировой войны в действующую армию было направлено более 11 миллионов противогазов, что спасло жизнь миллионам русских солда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1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дложенная конструкция оказалась на­столько удачной, что стала прообразом современных фильтрующих противогазов. Постоянно совершенствуясь, противогаз дошел до наших дней и остается наиболее распространенным средством защиты органов дых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1" descr="BE_05f0212i"/>
          <p:cNvPicPr/>
          <p:nvPr/>
        </p:nvPicPr>
        <p:blipFill>
          <a:blip r:embed="rId1"/>
          <a:srcRect l="7295" t="0" r="7519" b="0"/>
          <a:stretch/>
        </p:blipFill>
        <p:spPr>
          <a:xfrm>
            <a:off x="395280" y="1628640"/>
            <a:ext cx="2519280" cy="3291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2"/>
          <p:cNvSpPr/>
          <p:nvPr/>
        </p:nvSpPr>
        <p:spPr>
          <a:xfrm>
            <a:off x="462240" y="51577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Н.Д.Зелинский (1861-1953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ручные средства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РОВООСТАНАВЛИВАЮЩИЙ ЖГУ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ясной ремень, галстук, косынка, шарф, кашне, лента для ба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мешок сумочки, ранца, школьного портфел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нур электробритвы, аудио и видеоаппаратуры, оргтехн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шлаг верхней одежды, тканевой шов юбки и брюк, свернутый скотч, полиэтил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ревки, кабели, провода, проволока, тросы, кана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стяжки, стропы, фалы, шнур от куртки (ветровки) рюкзака, палат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ИРУРГИЧЕСКИЙ ИНСТРУМЕН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аникюрный набор, лезвия, извлеченные из станков для бритья, перочинный нож. Зубочистка, шило, соломинка для коктейля, стебли камыша, тростника, бамбу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ручные средства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ВЯЗОЧНЫЕ СРЕД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ижнее и верхнее белье, рубашки, платья разорвать на лоску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стыни, наволочки, полотенца, флаги, транспаранты, парус, палат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пас гигиенических средств: вата, носовые платки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ЗИНФЕКЦИЯ РАН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лкогольные напитки, одеколон, духи, туалетная в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скаленное лезвие ножа, металлической обшивки, съемных деталей, проволо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ЗИНФЕКЦИЯ ИНСТРУМЕНТ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гонь, кипяток, алкогол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ручные средства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ТРАВМЕ ПОЗВОНОЧНИК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бор, доски, фанера, штакетник, панели ПВХ, пластик, постформинг, крышка стола, шкафа, снятая с петель дверь, листы жести, более толстого металла, плоский шифе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ЕРЕЛОМ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йки, палки, штакетник, ветви, пучки стеблей, прутья, проволока, армату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исты пластика, картон, фанера, плотно скатанная одежда, трость, зонтик, лыж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жка, вилка, лезвие ножа, пилка для ног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пки, файлы, дискеты, коробки компакт дис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лом нижней конечности - привязать (прибинтовать) поврежденную ногу к здоров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лом верхней конечности - привязать поврежденную руку к туловищ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ручные средства 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НОСИЛОК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тавить палки (ветви, лыжи, весла и т.п.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рукава нескольких курток, ветровок, пиджаков, свитеров, смокингов, пальто, плащ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юбку или платье из плотной ткани, чехол сидения машины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отверстия спального мешка, фрагмента парус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АСАТЕЛЬНЫЙ КРУГ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лиэтиленовые пакеты и сумки, кусок парусины свернутой в меш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стые пластиковые бутылки, канистры, емкости, обломки пенопл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тка, застегнутая до подбородка на молнию (откинуться на спину и хлопающими движениями нижним краем куртки по воде, наполнить ее воздухом; опустить нижний край под вод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Назначение, принцип действия и классификация фильтрующих противогаз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3311640" y="1844640"/>
            <a:ext cx="252072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г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2952720" y="2995560"/>
            <a:ext cx="3240000" cy="649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466560" y="2995560"/>
            <a:ext cx="1657440" cy="649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 принцип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6588000" y="2995560"/>
            <a:ext cx="2089440" cy="649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 возраст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AutoShape 20"/>
          <p:cNvCxnSpPr>
            <a:stCxn id="197" idx="0"/>
            <a:endCxn id="198" idx="0"/>
          </p:cNvCxnSpPr>
          <p:nvPr/>
        </p:nvCxnSpPr>
        <p:spPr>
          <a:xfrm flipH="1" rot="16200000">
            <a:off x="4462920" y="-173520"/>
            <a:ext cx="2520" cy="6338160"/>
          </a:xfrm>
          <a:prstGeom prst="bentConnector3">
            <a:avLst>
              <a:gd name="adj1" fmla="val -1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0" name="AutoShape 21"/>
          <p:cNvCxnSpPr>
            <a:stCxn id="195" idx="2"/>
            <a:endCxn id="196" idx="0"/>
          </p:cNvCxnSpPr>
          <p:nvPr/>
        </p:nvCxnSpPr>
        <p:spPr>
          <a:xfrm>
            <a:off x="4572000" y="2637000"/>
            <a:ext cx="21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AutoShape 22"/>
          <p:cNvSpPr/>
          <p:nvPr/>
        </p:nvSpPr>
        <p:spPr>
          <a:xfrm>
            <a:off x="468360" y="3645000"/>
            <a:ext cx="1655640" cy="86364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льтр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лир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4"/>
          <p:cNvSpPr/>
          <p:nvPr/>
        </p:nvSpPr>
        <p:spPr>
          <a:xfrm>
            <a:off x="2916360" y="3645000"/>
            <a:ext cx="3313080" cy="86364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личного состава В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ждан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ышл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6588000" y="3645000"/>
            <a:ext cx="2087640" cy="151272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шко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шко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Противогазы  и респираторы для л/с Вооруженных сил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назначены для защи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 радиоактивной пыли (РП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 отравляющих веществ (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 биологических (бактериальных) аэрозолей (Б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 АХ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2:17:29Z</dcterms:created>
  <dc:creator>OEM</dc:creator>
  <dc:description/>
  <dc:language>en-US</dc:language>
  <cp:lastModifiedBy>PK</cp:lastModifiedBy>
  <dcterms:modified xsi:type="dcterms:W3CDTF">2020-05-21T06:32:19Z</dcterms:modified>
  <cp:revision>16</cp:revision>
  <dc:subject/>
  <dc:title>СРЕДСТВА ИНДИВИДУАЛЬНОЙ ЗАЩИТЫ НАСЕЛЕНИЯ </dc:title>
</cp:coreProperties>
</file>