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8.jpeg" ContentType="image/jpeg"/>
  <Override PartName="/ppt/media/image12.jpeg" ContentType="image/jpeg"/>
  <Override PartName="/ppt/media/image13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4B91-2978-4E68-992C-059BA4D0B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01F9-F53C-41FF-B3D7-6F65F417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C4B1-71D6-4727-8074-62275349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32E3-6495-45C2-8242-D97DD3BC2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2B51-DD7F-44F2-816F-E4294341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45B5-F05F-4A57-8A8C-75F2DC03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AF7A-5A0F-4821-84FF-0009F24A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9ADB-8C85-40B9-B802-60C9DCC1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41D6-195E-41C2-9801-D868ECD5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612B-E56D-4601-87FB-432D1C03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6BED-6D3E-4E8A-B060-89E714AB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560E-E029-4D11-9F39-0C3FF80A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F85D-6101-47A4-A2FD-DC99B919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0A6C-23FE-4FA4-B93C-7A0E815F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314B-EDB4-48C7-9424-7B7A912C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6B1E-2BBA-4FCC-90DF-38FF44AC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DB82-4E88-4003-B9C1-9FBB13DC7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35FDA-78AB-4F69-94E6-DE7167EF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8CD3F-23D8-4A25-8D43-7BA72823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6284C-DD26-481C-99C6-1D8A6C5E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4DC5D-B252-48D3-9920-B08DAC19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1ED20-2C3F-4381-B54B-7780F9CB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D186-F8DA-47C1-818D-3A833276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6DA36-A9D2-4517-9564-43B187D1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15B91-2DE0-4BB9-9BD9-37751201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8D786-19D1-4EA7-AF24-B06F882B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D9E38-59AA-4ED7-AD55-8EFAE740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1E031-2613-4B89-8289-282A9000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54086-1ABF-496D-83C1-260DD4B1E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D183E-6888-4BF7-A643-BB873935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10BF1-9E4D-41F2-AEB0-42643938B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83175-F690-43EB-BACA-51FB7942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014EB-22FC-4B63-9D7C-6B545DE1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B75D-3C96-44B2-8143-4C3587D8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460E4-F925-43AF-8097-717A4034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5EA6B-BA8A-469B-9754-EADC86DA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20A07-A271-434E-A1C9-42EC1086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9B376-7429-405D-A308-82A48E6D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40A82-2DDD-40D1-92DE-AB2A3120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BBF1B-26AD-4216-8668-A1457750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A1821-10FB-4AAD-978F-4D345E4F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57C5B-3B20-49D3-96DF-8126D28E4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8D593-0B52-433E-867F-09B30B4F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94AA-AFCA-49C5-9075-42F4994E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3B3C-D7BC-4BBD-8F11-8DA86AE6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50E8-BA84-4310-8F9F-2A027CE8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809D-4C22-4AAF-AC3B-32649624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1C65-01B2-4F1C-A6A2-65968584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1865-A708-4DF4-81CF-AAEDAAC19AE7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23B2-83A5-440B-893C-9438EB720FC1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5977-0043-44FE-9070-1DB7AAE3E59E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8155-D890-4A34-9D00-866408EBAA58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https://ds02.infourok.ru/uploads/ex/003c/0001e883-e98cd6ed/img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4" descr=""/>
          <p:cNvPicPr/>
          <p:nvPr/>
        </p:nvPicPr>
        <p:blipFill>
          <a:blip r:embed="rId3"/>
          <a:stretch/>
        </p:blipFill>
        <p:spPr>
          <a:xfrm>
            <a:off x="396720" y="1773360"/>
            <a:ext cx="849816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3" name="Уроки Тетушки Совы - Уроки осторожности - Незнакомцы" descr=""/>
          <p:cNvPicPr/>
          <p:nvPr/>
        </p:nvPicPr>
        <p:blipFill>
          <a:blip r:embed="rId1"/>
          <a:stretch/>
        </p:blipFill>
        <p:spPr>
          <a:xfrm>
            <a:off x="98280" y="0"/>
            <a:ext cx="894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" dur="1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Разбери ситуаци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90160" y="1773000"/>
            <a:ext cx="698652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ак вы думаете, закончились ли опасности, которые могут быть дома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Тогда послушайте, вы выходите из дома и забываете закрыть форточку, а через нее залетает горящая бумажка, и в доме начинается пожар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ак можно было избежать пожара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2720" y="18864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Разбор ситуаций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09120" y="1125360"/>
            <a:ext cx="6348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ы выходите из дома и забываете закрыть воду, она набирается в ванную, наполняется и случается потоп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ак можно было избежать его?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ы ушли и забыли выключить телевизор, случился сбой в сети и он загорелся, случился пожар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ак можно было его избежать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ы ушли и забыли закрыть дверь, вернулись дома, а вас ограбили. Как можно было этого избежать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5040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90c226"/>
                </a:solidFill>
                <a:latin typeface="Trebuchet MS"/>
              </a:rPr>
              <a:t>Найди все опасные места, а затем проверь себя.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http://detskie-raskraski.ru/sites/default/files/detskie-raskraski-kuhnya23.jpg"/>
          <p:cNvPicPr/>
          <p:nvPr/>
        </p:nvPicPr>
        <p:blipFill>
          <a:blip r:embed="rId2"/>
          <a:stretch/>
        </p:blipFill>
        <p:spPr>
          <a:xfrm>
            <a:off x="352440" y="868320"/>
            <a:ext cx="8791560" cy="59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Содержимое 3" descr="опасные места.jpg"/>
          <p:cNvPicPr/>
          <p:nvPr/>
        </p:nvPicPr>
        <p:blipFill>
          <a:blip r:embed="rId1"/>
          <a:stretch/>
        </p:blipFill>
        <p:spPr>
          <a:xfrm>
            <a:off x="0" y="428760"/>
            <a:ext cx="9118440" cy="6215040"/>
          </a:xfrm>
          <a:prstGeom prst="rect">
            <a:avLst/>
          </a:prstGeom>
          <a:ln w="0">
            <a:noFill/>
          </a:ln>
        </p:spPr>
      </p:pic>
      <p:sp>
        <p:nvSpPr>
          <p:cNvPr id="252" name="Овал 4"/>
          <p:cNvSpPr/>
          <p:nvPr/>
        </p:nvSpPr>
        <p:spPr>
          <a:xfrm>
            <a:off x="2700360" y="1773360"/>
            <a:ext cx="576360" cy="647640"/>
          </a:xfrm>
          <a:prstGeom prst="ellipse">
            <a:avLst/>
          </a:prstGeom>
          <a:noFill/>
          <a:ln cap="rnd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Овал 6"/>
          <p:cNvSpPr/>
          <p:nvPr/>
        </p:nvSpPr>
        <p:spPr>
          <a:xfrm>
            <a:off x="5292720" y="2060640"/>
            <a:ext cx="863640" cy="936720"/>
          </a:xfrm>
          <a:prstGeom prst="ellipse">
            <a:avLst/>
          </a:prstGeom>
          <a:noFill/>
          <a:ln cap="rnd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Овал 7"/>
          <p:cNvSpPr/>
          <p:nvPr/>
        </p:nvSpPr>
        <p:spPr>
          <a:xfrm>
            <a:off x="8352000" y="2205000"/>
            <a:ext cx="792000" cy="719280"/>
          </a:xfrm>
          <a:prstGeom prst="ellipse">
            <a:avLst/>
          </a:prstGeom>
          <a:noFill/>
          <a:ln cap="rnd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Овал 8"/>
          <p:cNvSpPr/>
          <p:nvPr/>
        </p:nvSpPr>
        <p:spPr>
          <a:xfrm>
            <a:off x="7308720" y="1628640"/>
            <a:ext cx="1079640" cy="1656000"/>
          </a:xfrm>
          <a:prstGeom prst="ellipse">
            <a:avLst/>
          </a:prstGeom>
          <a:noFill/>
          <a:ln cap="rnd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Овал 9"/>
          <p:cNvSpPr/>
          <p:nvPr/>
        </p:nvSpPr>
        <p:spPr>
          <a:xfrm>
            <a:off x="1835280" y="2205000"/>
            <a:ext cx="936360" cy="792360"/>
          </a:xfrm>
          <a:prstGeom prst="ellipse">
            <a:avLst/>
          </a:prstGeom>
          <a:noFill/>
          <a:ln cap="rnd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Овал 10"/>
          <p:cNvSpPr/>
          <p:nvPr/>
        </p:nvSpPr>
        <p:spPr>
          <a:xfrm>
            <a:off x="8101080" y="3141720"/>
            <a:ext cx="792000" cy="718920"/>
          </a:xfrm>
          <a:prstGeom prst="ellipse">
            <a:avLst/>
          </a:prstGeom>
          <a:noFill/>
          <a:ln cap="rnd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Овал 11"/>
          <p:cNvSpPr/>
          <p:nvPr/>
        </p:nvSpPr>
        <p:spPr>
          <a:xfrm>
            <a:off x="3851280" y="1773360"/>
            <a:ext cx="936720" cy="1079280"/>
          </a:xfrm>
          <a:prstGeom prst="ellipse">
            <a:avLst/>
          </a:prstGeom>
          <a:noFill/>
          <a:ln cap="rnd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Овал 12"/>
          <p:cNvSpPr/>
          <p:nvPr/>
        </p:nvSpPr>
        <p:spPr>
          <a:xfrm>
            <a:off x="4643280" y="2997360"/>
            <a:ext cx="1513080" cy="1439640"/>
          </a:xfrm>
          <a:prstGeom prst="ellipse">
            <a:avLst/>
          </a:prstGeom>
          <a:noFill/>
          <a:ln cap="rnd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вал 14"/>
          <p:cNvSpPr/>
          <p:nvPr/>
        </p:nvSpPr>
        <p:spPr>
          <a:xfrm>
            <a:off x="2916360" y="3141720"/>
            <a:ext cx="1079280" cy="1224000"/>
          </a:xfrm>
          <a:prstGeom prst="ellipse">
            <a:avLst/>
          </a:prstGeom>
          <a:noFill/>
          <a:ln cap="rnd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15"/>
          <p:cNvSpPr/>
          <p:nvPr/>
        </p:nvSpPr>
        <p:spPr>
          <a:xfrm>
            <a:off x="3132000" y="4797360"/>
            <a:ext cx="935280" cy="1079640"/>
          </a:xfrm>
          <a:prstGeom prst="ellipse">
            <a:avLst/>
          </a:prstGeom>
          <a:noFill/>
          <a:ln cap="rnd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13"/>
          <p:cNvSpPr/>
          <p:nvPr/>
        </p:nvSpPr>
        <p:spPr>
          <a:xfrm>
            <a:off x="2000160" y="714240"/>
            <a:ext cx="936720" cy="792360"/>
          </a:xfrm>
          <a:prstGeom prst="ellipse">
            <a:avLst/>
          </a:prstGeom>
          <a:noFill/>
          <a:ln cap="rnd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7491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90c226"/>
                </a:solidFill>
                <a:latin typeface="Trebuchet MS"/>
              </a:rPr>
              <a:t>Что вы знаете об электроприборах? Вспомни, что ты знаешь о правилах использования электроприборов.</a:t>
            </a:r>
            <a:br>
              <a:rPr sz="2800"/>
            </a:br>
            <a:r>
              <a:rPr b="0" lang="ru-RU" sz="2000" spc="-1" strike="noStrike">
                <a:solidFill>
                  <a:srgbClr val="90c226"/>
                </a:solidFill>
                <a:latin typeface="Trebuchet MS"/>
              </a:rPr>
              <a:t>Нажми на черный экран, чтобы посмотреть видеофграмент.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4" name="Уроки Тетушки Совы - Уроки осторожности - Бытовые приборы" descr=""/>
          <p:cNvPicPr/>
          <p:nvPr/>
        </p:nvPicPr>
        <p:blipFill>
          <a:blip r:embed="rId1"/>
          <a:stretch/>
        </p:blipFill>
        <p:spPr>
          <a:xfrm>
            <a:off x="1206360" y="2421000"/>
            <a:ext cx="543744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" dur="1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Рабочая тетрадь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ыполните задания 70 и 71 в рабочей тетрад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7" name="Picture 2" descr="https://avatars.mds.yandex.net/get-pdb/2092521/6d303950-6cac-4d2c-99b7-6d167779f294/s1200"/>
          <p:cNvPicPr/>
          <p:nvPr/>
        </p:nvPicPr>
        <p:blipFill>
          <a:blip r:embed="rId1"/>
          <a:stretch/>
        </p:blipFill>
        <p:spPr>
          <a:xfrm>
            <a:off x="2843280" y="2817720"/>
            <a:ext cx="351936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Домашнее задани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В учебнике прочитать страницы 86-90, ответить на вопросы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0" name="Picture 2" descr="https://avatars.mds.yandex.net/get-pdb/2078924/cea61e73-ebb0-456c-8caa-0f2f46c4a0b0/s1200?webp=false"/>
          <p:cNvPicPr/>
          <p:nvPr/>
        </p:nvPicPr>
        <p:blipFill>
          <a:blip r:embed="rId1"/>
          <a:stretch/>
        </p:blipFill>
        <p:spPr>
          <a:xfrm>
            <a:off x="4859280" y="3789360"/>
            <a:ext cx="388008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https://ds02.infourok.ru/uploads/ex/003c/0001e883-e98cd6ed/img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63280" y="162828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Выберите правильный знак препинания в конце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31280" y="2781360"/>
            <a:ext cx="8712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Мой дом – Моя крепость»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. ! ?)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http://900igr.net/up/datas/135543/031.jpg"/>
          <p:cNvPicPr/>
          <p:nvPr/>
        </p:nvPicPr>
        <p:blipFill>
          <a:blip r:embed="rId2"/>
          <a:stretch/>
        </p:blipFill>
        <p:spPr>
          <a:xfrm>
            <a:off x="-1440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https://ds02.infourok.ru/uploads/ex/003c/0001e883-e98cd6ed/img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39640" y="2492280"/>
            <a:ext cx="8229600" cy="22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Разделите знаки на 3 группы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https://ds02.infourok.ru/uploads/ex/003c/0001e883-e98cd6ed/img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1" name="Содержимое 4" descr="запреща.jpg"/>
          <p:cNvPicPr/>
          <p:nvPr/>
        </p:nvPicPr>
        <p:blipFill>
          <a:blip r:embed="rId2"/>
          <a:stretch/>
        </p:blipFill>
        <p:spPr>
          <a:xfrm>
            <a:off x="50760" y="0"/>
            <a:ext cx="4689360" cy="410364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5" descr="преду.jpg"/>
          <p:cNvPicPr/>
          <p:nvPr/>
        </p:nvPicPr>
        <p:blipFill>
          <a:blip r:embed="rId3"/>
          <a:stretch/>
        </p:blipFill>
        <p:spPr>
          <a:xfrm>
            <a:off x="1979640" y="3213000"/>
            <a:ext cx="5256360" cy="364500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6" descr="указат.jpg"/>
          <p:cNvPicPr/>
          <p:nvPr/>
        </p:nvPicPr>
        <p:blipFill>
          <a:blip r:embed="rId4"/>
          <a:stretch/>
        </p:blipFill>
        <p:spPr>
          <a:xfrm>
            <a:off x="3564000" y="333360"/>
            <a:ext cx="535284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https://ds02.infourok.ru/uploads/ex/003c/0001e883-e98cd6ed/img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Запрещающие 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6" name="Содержимое 4" descr="запреща.jpg"/>
          <p:cNvPicPr/>
          <p:nvPr/>
        </p:nvPicPr>
        <p:blipFill>
          <a:blip r:embed="rId2"/>
          <a:stretch/>
        </p:blipFill>
        <p:spPr>
          <a:xfrm>
            <a:off x="1476360" y="1506600"/>
            <a:ext cx="611352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https://ds02.infourok.ru/uploads/ex/003c/0001e883-e98cd6ed/img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Указательные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9" name="Содержимое 4" descr="указат.jpg"/>
          <p:cNvPicPr/>
          <p:nvPr/>
        </p:nvPicPr>
        <p:blipFill>
          <a:blip r:embed="rId2"/>
          <a:stretch/>
        </p:blipFill>
        <p:spPr>
          <a:xfrm>
            <a:off x="609480" y="2205000"/>
            <a:ext cx="634860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https://ds02.infourok.ru/uploads/ex/003c/0001e883-e98cd6ed/img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Предупреждающие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2" name="Содержимое 4" descr="преду.jpg"/>
          <p:cNvPicPr/>
          <p:nvPr/>
        </p:nvPicPr>
        <p:blipFill>
          <a:blip r:embed="rId2"/>
          <a:stretch/>
        </p:blipFill>
        <p:spPr>
          <a:xfrm>
            <a:off x="609480" y="2268360"/>
            <a:ext cx="6348600" cy="36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https://ds02.infourok.ru/uploads/ex/003c/0001e883-e98cd6ed/img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610920" y="691920"/>
            <a:ext cx="738036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Мой дом – Моя крепость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. ! ?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кой знак нужно поставить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Picture 2" descr="http://illustrators.ru/uploads/illustration/image/553718/main_553718_original.jpg"/>
          <p:cNvPicPr/>
          <p:nvPr/>
        </p:nvPicPr>
        <p:blipFill>
          <a:blip r:embed="rId2"/>
          <a:stretch/>
        </p:blipFill>
        <p:spPr>
          <a:xfrm>
            <a:off x="611280" y="2467080"/>
            <a:ext cx="752292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http://www.zwalls.ru/pic/201309/800x480/zwalls.ru-15481.jpg"/>
          <p:cNvPicPr/>
          <p:nvPr/>
        </p:nvPicPr>
        <p:blipFill>
          <a:blip r:embed="rId1"/>
          <a:stretch/>
        </p:blipFill>
        <p:spPr>
          <a:xfrm>
            <a:off x="0" y="0"/>
            <a:ext cx="1018692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1966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Тема: «Твоя безопасность дома»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476000" y="2492280"/>
            <a:ext cx="734364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Цели: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знать какие опасности могут нас поджидать в нашем доме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аучиться избегать опасност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https://ds02.infourok.ru/uploads/ex/003c/0001e883-e98cd6ed/img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684360" y="2204640"/>
            <a:ext cx="3456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Ребята, как следует себя вести с незнакомцами? Может ли тебе это пригодится дома? Как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1" name="Picture 2" descr="http://politikus.ru/uploads/posts/2015-12/1449543911_telefon-deti-opasnost.jpg"/>
          <p:cNvPicPr/>
          <p:nvPr/>
        </p:nvPicPr>
        <p:blipFill>
          <a:blip r:embed="rId2"/>
          <a:stretch/>
        </p:blipFill>
        <p:spPr>
          <a:xfrm>
            <a:off x="4413240" y="1211400"/>
            <a:ext cx="445788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3T14:26:17Z</dcterms:created>
  <dc:creator>user</dc:creator>
  <dc:description/>
  <dc:language>en-US</dc:language>
  <cp:lastModifiedBy>Юлия Ганеева</cp:lastModifiedBy>
  <dcterms:modified xsi:type="dcterms:W3CDTF">2020-04-06T13:02:57Z</dcterms:modified>
  <cp:revision>11</cp:revision>
  <dc:subject/>
  <dc:title>Слайд 1</dc:title>
</cp:coreProperties>
</file>