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A06-1F6D-4520-89D6-4D9E380C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13F-6702-4DDD-8D83-4C91E3A3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1CA-7A77-4C82-AE4E-6DF6CFCD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B9C-4CCE-43D2-9BAE-A39A3DAD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206-3C40-46B6-B681-7B777406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7C9-FE3D-4CF1-BC84-FBBACD6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02D-B7E1-451E-8169-472128DA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76B-9998-458B-AB0F-8A256BBB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B19-5A43-4F8E-BF16-F57F760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383-43A3-496C-B45D-CD3DCADE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C3C-3791-4756-9E82-AF0F954E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2A8-F8BC-471B-AABE-8CDAF360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CC28-87AB-4E33-9822-7492A8FAA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413719-svetik.jpg"/>
          <p:cNvPicPr/>
          <p:nvPr/>
        </p:nvPicPr>
        <p:blipFill>
          <a:blip r:embed="rId3"/>
          <a:stretch/>
        </p:blipFill>
        <p:spPr>
          <a:xfrm>
            <a:off x="1214280" y="1928880"/>
            <a:ext cx="5286600" cy="4699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857240" y="42876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ич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571680" y="22464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улич занимает важное место в пасхальном ритуале. Он символизирует память о том, что Иисус Христос после Воскресения вкушал пищу вместе с апостолам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здавна сложился обычай на Пасху оставлять в церкви хлеб, на котором был изображен крест, что означало победу над смертью. Едят куличи и пасхи всю Пасхальную неделю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егодня практически каждая семья печет или покупает готовые куличи, освящает их в церкви. 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Рисунок 4" descr="9684-tajnaja-vecherja.jpg"/>
          <p:cNvPicPr/>
          <p:nvPr/>
        </p:nvPicPr>
        <p:blipFill>
          <a:blip r:embed="rId2"/>
          <a:stretch/>
        </p:blipFill>
        <p:spPr>
          <a:xfrm>
            <a:off x="500040" y="2892600"/>
            <a:ext cx="6715080" cy="3358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403280" y="440280"/>
            <a:ext cx="58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украшением стола на пасх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, конечно,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уличи  и  пасх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pash05"/>
          <p:cNvPicPr/>
          <p:nvPr/>
        </p:nvPicPr>
        <p:blipFill>
          <a:blip r:embed="rId3"/>
          <a:stretch/>
        </p:blipFill>
        <p:spPr>
          <a:xfrm>
            <a:off x="179280" y="2957400"/>
            <a:ext cx="4969080" cy="349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ash04"/>
          <p:cNvPicPr/>
          <p:nvPr/>
        </p:nvPicPr>
        <p:blipFill>
          <a:blip r:embed="rId4"/>
          <a:stretch/>
        </p:blipFill>
        <p:spPr>
          <a:xfrm>
            <a:off x="4319640" y="836640"/>
            <a:ext cx="4824360" cy="4522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285840" y="734040"/>
            <a:ext cx="3786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оиграем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 «Гости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 играт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сскажите ребенку, что на Пасху принято приглашать гостей и самим ходить в гости. Прочитайте малышу стихотворение,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повторить слова за вами. Затем читая стихотворение, выполняйте движения, ребенку предложите повторять за вами слова и движени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Рисунок 8" descr="fizminutka-pasha.jpg"/>
          <p:cNvPicPr/>
          <p:nvPr/>
        </p:nvPicPr>
        <p:blipFill>
          <a:blip r:embed="rId1"/>
          <a:stretch/>
        </p:blipFill>
        <p:spPr>
          <a:xfrm>
            <a:off x="4214880" y="142920"/>
            <a:ext cx="4676760" cy="646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2000160" y="171576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571760" y="1071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 аудио-сказку «Чертенок и кулич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«Кулич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казку и аппликацию сбрасываю отдельно)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2" descr="Мастер-класс по аппликации «Пасхальный кулич»"/>
          <p:cNvPicPr/>
          <p:nvPr/>
        </p:nvPicPr>
        <p:blipFill>
          <a:blip r:embed="rId3"/>
          <a:stretch/>
        </p:blipFill>
        <p:spPr>
          <a:xfrm>
            <a:off x="3429000" y="2857680"/>
            <a:ext cx="2500200" cy="3335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2000160" y="171576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аю удачи, и до завтра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6" descr="pash04"/>
          <p:cNvPicPr/>
          <p:nvPr/>
        </p:nvPicPr>
        <p:blipFill>
          <a:blip r:embed="rId3"/>
          <a:stretch/>
        </p:blipFill>
        <p:spPr>
          <a:xfrm>
            <a:off x="3071880" y="2571840"/>
            <a:ext cx="2786040" cy="261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Берюхова</dc:creator>
  <dc:description/>
  <dc:language>en-US</dc:language>
  <cp:lastModifiedBy>Пользователь Windows</cp:lastModifiedBy>
  <dcterms:modified xsi:type="dcterms:W3CDTF">2020-04-12T20:29:42Z</dcterms:modified>
  <cp:revision>31</cp:revision>
  <dc:subject/>
  <dc:title>Слайд 1</dc:title>
</cp:coreProperties>
</file>