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0B2-117E-4F08-BEC7-261706CA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CAB-A382-4230-86AE-BC3FF0C1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59F-DA1A-4C97-A1EE-28B81EFE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7B4-E9FB-4EFD-8214-902F212C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80E-3D3D-4453-9D6D-01AD73F3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178-F36E-4AA8-B5B5-648FB2B8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7DE-D44E-45E6-B685-378AC65D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F33-ED20-4D2A-951C-B6619887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7AB-7EFE-455E-96C8-1F03AED1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1A0-DE4D-4D4E-AAA6-52B27C8F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86D-851D-4E8E-9A7A-0411BA50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D10-B606-4F27-B683-F9FEB073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A30F-34B3-4CF1-8AA7-1C877D60A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s://www.intelkot.ru/articles/pashalnye-igry-i-zabavy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amk43"/>
          <p:cNvPicPr/>
          <p:nvPr/>
        </p:nvPicPr>
        <p:blipFill>
          <a:blip r:embed="rId1"/>
          <a:stretch/>
        </p:blipFill>
        <p:spPr>
          <a:xfrm>
            <a:off x="611280" y="12600"/>
            <a:ext cx="7956360" cy="680112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908000" y="1773360"/>
            <a:ext cx="51850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а с х а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gorka"/>
          <p:cNvPicPr/>
          <p:nvPr/>
        </p:nvPicPr>
        <p:blipFill>
          <a:blip r:embed="rId3"/>
          <a:stretch/>
        </p:blipFill>
        <p:spPr>
          <a:xfrm>
            <a:off x="1692360" y="260280"/>
            <a:ext cx="7056360" cy="4478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 flipV="1" rot="10800000">
            <a:off x="285840" y="50547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сху мы радостно говорим: „Христос Воскресе!” и обмениваемся красными яичками. Этот обычай очень давний; Христос дал нам жизнь, а яйцо — это знак жизни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004760" y="504360"/>
            <a:ext cx="81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асхальному столу, как правило, собирается много родных и друзей. Постарайтесь каждому приготовить пасхальный подарок: красивое яичко и маленький куличик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Picture 6" descr="svech01"/>
          <p:cNvPicPr/>
          <p:nvPr/>
        </p:nvPicPr>
        <p:blipFill>
          <a:blip r:embed="rId3"/>
          <a:stretch/>
        </p:blipFill>
        <p:spPr>
          <a:xfrm>
            <a:off x="0" y="2214720"/>
            <a:ext cx="3591000" cy="385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pirog27"/>
          <p:cNvPicPr/>
          <p:nvPr/>
        </p:nvPicPr>
        <p:blipFill>
          <a:blip r:embed="rId4"/>
          <a:stretch/>
        </p:blipFill>
        <p:spPr>
          <a:xfrm>
            <a:off x="3780000" y="1844640"/>
            <a:ext cx="5040000" cy="4181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jajtsa42"/>
          <p:cNvPicPr/>
          <p:nvPr/>
        </p:nvPicPr>
        <p:blipFill>
          <a:blip r:embed="rId5"/>
          <a:stretch/>
        </p:blipFill>
        <p:spPr>
          <a:xfrm>
            <a:off x="2843280" y="4797360"/>
            <a:ext cx="2736720" cy="1787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1619280" y="41220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же человек, которого вы хотите поздравить с Пасхой, находится далеко, вы можете отправить ем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схальную открытк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n_266"/>
          <p:cNvPicPr/>
          <p:nvPr/>
        </p:nvPicPr>
        <p:blipFill>
          <a:blip r:embed="rId3"/>
          <a:stretch/>
        </p:blipFill>
        <p:spPr>
          <a:xfrm>
            <a:off x="179280" y="4264200"/>
            <a:ext cx="3024360" cy="2417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n_4"/>
          <p:cNvPicPr/>
          <p:nvPr/>
        </p:nvPicPr>
        <p:blipFill>
          <a:blip r:embed="rId4"/>
          <a:stretch/>
        </p:blipFill>
        <p:spPr>
          <a:xfrm>
            <a:off x="5940360" y="1700280"/>
            <a:ext cx="302580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n_5"/>
          <p:cNvPicPr/>
          <p:nvPr/>
        </p:nvPicPr>
        <p:blipFill>
          <a:blip r:embed="rId5"/>
          <a:stretch/>
        </p:blipFill>
        <p:spPr>
          <a:xfrm>
            <a:off x="2411280" y="1700280"/>
            <a:ext cx="3024360" cy="2419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pya"/>
          <p:cNvPicPr/>
          <p:nvPr/>
        </p:nvPicPr>
        <p:blipFill>
          <a:blip r:embed="rId6"/>
          <a:stretch/>
        </p:blipFill>
        <p:spPr>
          <a:xfrm>
            <a:off x="3492360" y="4329000"/>
            <a:ext cx="3095640" cy="232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jajtsa48"/>
          <p:cNvPicPr/>
          <p:nvPr/>
        </p:nvPicPr>
        <p:blipFill>
          <a:blip r:embed="rId7"/>
          <a:stretch/>
        </p:blipFill>
        <p:spPr>
          <a:xfrm>
            <a:off x="539640" y="1197000"/>
            <a:ext cx="1644840" cy="3138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1071720" y="47628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357200" y="1357200"/>
            <a:ext cx="6858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Пасха. Замечательный христианский праздник. А давайте устроим в этот день запоминающийся и колоритный праздник для детей в народном духе. Подойдут любые русские народные игры, и особенно старинные пасхальные игры. Подробней о играх можете посмотреть здесь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s://www.intelkot.ru/articles/pashalnye-igry-i-zabavy/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071720" y="47628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Европе и Америке существует обычай утром Пасхи прятать пасхальные яйца. Дети по пробуждении тут же бросаются обыскивать весь дом. Так как яйца берутся не неизвестно откуда, то в итоге малыши обнаруживают «гнездо» пасхального кролика с множеством разноцветных яиц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zajats01"/>
          <p:cNvPicPr/>
          <p:nvPr/>
        </p:nvPicPr>
        <p:blipFill>
          <a:blip r:embed="rId3"/>
          <a:stretch/>
        </p:blipFill>
        <p:spPr>
          <a:xfrm>
            <a:off x="395280" y="2997360"/>
            <a:ext cx="3232080" cy="3714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zajats06"/>
          <p:cNvPicPr/>
          <p:nvPr/>
        </p:nvPicPr>
        <p:blipFill>
          <a:blip r:embed="rId4"/>
          <a:stretch/>
        </p:blipFill>
        <p:spPr>
          <a:xfrm>
            <a:off x="4067280" y="3068640"/>
            <a:ext cx="39607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642960" y="2142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рошли тему пасха и теперь я предлагаю загадать загадки детям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Рисунок 3" descr="zagadki-pasha.jpg"/>
          <p:cNvPicPr/>
          <p:nvPr/>
        </p:nvPicPr>
        <p:blipFill>
          <a:blip r:embed="rId1"/>
          <a:stretch/>
        </p:blipFill>
        <p:spPr>
          <a:xfrm>
            <a:off x="2428920" y="1000080"/>
            <a:ext cx="4589280" cy="5691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40.jpg"/>
          <p:cNvPicPr/>
          <p:nvPr/>
        </p:nvPicPr>
        <p:blipFill>
          <a:blip r:embed="rId1"/>
          <a:stretch/>
        </p:blipFill>
        <p:spPr>
          <a:xfrm>
            <a:off x="1500120" y="142920"/>
            <a:ext cx="6500880" cy="6500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2:11:34Z</dcterms:created>
  <dc:creator>Берюхова</dc:creator>
  <dc:description/>
  <dc:language>en-US</dc:language>
  <cp:lastModifiedBy>Пользователь Windows</cp:lastModifiedBy>
  <dcterms:modified xsi:type="dcterms:W3CDTF">2020-04-12T20:22:22Z</dcterms:modified>
  <cp:revision>28</cp:revision>
  <dc:subject/>
  <dc:title>Слайд 1</dc:title>
</cp:coreProperties>
</file>