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5933-3E9E-4785-A40E-B366EB3B8C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52FD-ACA0-4754-A69F-0CDC79FE93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25B-8ADB-44C8-ADCE-1038B871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FA6-CBDE-4601-AE74-BC77545B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888C-EFDC-419D-801E-490D5B64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AE7D-774B-4687-BCAF-AD04055B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7D7D-5280-4736-9172-82E9B662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2C52-1F42-4FD1-BA96-B80FCC43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35DA-6326-4BE1-B67F-DB6A2B9F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F080-C19E-4CC5-9510-C6BEA538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4F68-7207-4CF6-87DC-D73EB86A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6DAD-8718-4A38-B7C1-3B7D500F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ABCF-F785-4ABF-A64B-A6D467C2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5A53-B2CE-416B-BDF4-E7C7E939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7663-5003-464C-9003-2F7E2E04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618F-863C-4407-A8EB-34213354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CD4A-2446-4033-800B-ED672145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0706-7637-4022-AE83-B47050BC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7852-1F0D-44FA-9979-0BDE7BB2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00B-ABCD-42B4-84A4-17942788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F2E-07D1-4D30-8FF6-CE8F9AAF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E07-B66D-4F3A-9FEA-F43B890D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9649-7249-47E2-A114-D64466C3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17E-C13D-4513-9ECA-36EFEDAA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A5E-A981-46AB-859F-25C0EB55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2FAD-5097-4FA8-8534-FB45A1E9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3302-571D-4E85-8150-A6B513404C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клипарты\школа\27c29d078660.png"/>
          <p:cNvPicPr/>
          <p:nvPr/>
        </p:nvPicPr>
        <p:blipFill>
          <a:blip r:embed="rId3"/>
          <a:srcRect l="0" t="0" r="0" b="24081"/>
          <a:stretch/>
        </p:blipFill>
        <p:spPr>
          <a:xfrm>
            <a:off x="285840" y="0"/>
            <a:ext cx="8429400" cy="520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клипарты\школа\b756a7739ab6.png"/>
          <p:cNvPicPr/>
          <p:nvPr/>
        </p:nvPicPr>
        <p:blipFill>
          <a:blip r:embed="rId4"/>
          <a:stretch/>
        </p:blipFill>
        <p:spPr>
          <a:xfrm>
            <a:off x="214200" y="4214880"/>
            <a:ext cx="1714680" cy="23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:\клипарты\школа\Безимени-3.png"/>
          <p:cNvPicPr/>
          <p:nvPr/>
        </p:nvPicPr>
        <p:blipFill>
          <a:blip r:embed="rId5"/>
          <a:stretch/>
        </p:blipFill>
        <p:spPr>
          <a:xfrm>
            <a:off x="7143840" y="5214960"/>
            <a:ext cx="1571400" cy="1413000"/>
          </a:xfrm>
          <a:prstGeom prst="rect">
            <a:avLst/>
          </a:prstGeom>
          <a:ln w="0">
            <a:noFill/>
          </a:ln>
        </p:spPr>
      </p:pic>
      <p:sp>
        <p:nvSpPr>
          <p:cNvPr id="44" name="Picture 6"/>
          <p:cNvSpPr/>
          <p:nvPr/>
        </p:nvSpPr>
        <p:spPr>
          <a:xfrm>
            <a:off x="3071880" y="5429160"/>
            <a:ext cx="287640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2702-9FE7-427F-A803-97AEC19D38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296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торение по теме «Правила правописания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755640" y="1557360"/>
            <a:ext cx="792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сные буквы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, я, ю, ё, 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азывают на мягкость предыдущего соглас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м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м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м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м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м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сные буквы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, о, ы, э, у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смягчают предыдущий согла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м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м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м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м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м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20145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684360" y="1557360"/>
            <a:ext cx="7920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усском языке зву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ж,ш, ц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]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гда твёрд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ч,щ,й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]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гда мяг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ш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пиши с буквой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щ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пиши с буквой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щ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пиши с буквой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4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20145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611280" y="1557360"/>
            <a:ext cx="792144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ишем      произнос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ечн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кон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очно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р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ичниц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я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4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20145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468360" y="98100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2014560" cy="17143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468360" y="2421000"/>
            <a:ext cx="77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Мягкий знак (Ь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казывает мягкость согласного зву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ящего </a:t>
            </a:r>
            <a:r>
              <a:rPr b="1" lang="ru-RU" sz="2800" spc="-1" strike="noStrike">
                <a:solidFill>
                  <a:srgbClr val="953735"/>
                </a:solidFill>
                <a:latin typeface="Arial"/>
              </a:rPr>
              <a:t>перед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ругим </a:t>
            </a:r>
            <a:r>
              <a:rPr b="1" lang="ru-RU" sz="2800" spc="-1" strike="noStrike">
                <a:solidFill>
                  <a:srgbClr val="953735"/>
                </a:solidFill>
                <a:latin typeface="Arial"/>
              </a:rPr>
              <a:t>согласны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си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л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ый мале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н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й, ко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н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ящего </a:t>
            </a:r>
            <a:r>
              <a:rPr b="1" lang="ru-RU" sz="2800" spc="-1" strike="noStrike">
                <a:solidFill>
                  <a:srgbClr val="953735"/>
                </a:solidFill>
                <a:latin typeface="Arial"/>
              </a:rPr>
              <a:t>в конц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ортфе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л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ию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н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дож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д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2"/>
          <p:cNvSpPr/>
          <p:nvPr/>
        </p:nvSpPr>
        <p:spPr>
          <a:xfrm>
            <a:off x="684360" y="1557360"/>
            <a:ext cx="79200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сли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мягкий знак (ь)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оказывает мягкость согласного, стоящего перед гласным звуком, то его называют разделительным 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(весе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ль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, пече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нь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, воро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б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4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20145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"/>
          <p:cNvSpPr/>
          <p:nvPr/>
        </p:nvSpPr>
        <p:spPr>
          <a:xfrm>
            <a:off x="684360" y="1557360"/>
            <a:ext cx="813564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вёрдый знак (ъ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казывает твёрдость согласного, стоящего перед смягчающими гласным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я,е, ё, 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то его называют разделительным твёрдым знаком (ъ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о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дъ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, по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дъ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ый, о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бъ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ление,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съ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4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20145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2"/>
          <p:cNvSpPr/>
          <p:nvPr/>
        </p:nvSpPr>
        <p:spPr>
          <a:xfrm>
            <a:off x="684360" y="1557360"/>
            <a:ext cx="79200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очетаниях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ч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,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ч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н,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щ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н, н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щ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гда мягкий звук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оизносится мягко и мягкий знак после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ч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е пиш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моло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ч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ый, со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ч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ый, дево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ч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, мо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щ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ы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4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20145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2"/>
          <p:cNvSpPr/>
          <p:nvPr/>
        </p:nvSpPr>
        <p:spPr>
          <a:xfrm>
            <a:off x="468360" y="1700280"/>
            <a:ext cx="6912000" cy="4391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лова состоят из звуков, а звуки складываются в сл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слове столько слогов, сколько гласных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 (1 слог), п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 (2 слога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р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-н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е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4 слог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лог может состо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з одного гласного зв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4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293840" cy="1101960"/>
          </a:xfrm>
          <a:prstGeom prst="rect">
            <a:avLst/>
          </a:prstGeom>
          <a:ln w="0">
            <a:noFill/>
          </a:ln>
        </p:spPr>
      </p:pic>
      <p:cxnSp>
        <p:nvCxnSpPr>
          <p:cNvPr id="130" name="Прямая со стрелкой 14"/>
          <p:cNvCxnSpPr/>
          <p:nvPr/>
        </p:nvCxnSpPr>
        <p:spPr>
          <a:xfrm flipH="1">
            <a:off x="3708000" y="4868640"/>
            <a:ext cx="504000" cy="6483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611280" y="1349280"/>
            <a:ext cx="813744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а переносятся с одной строки на другую по слог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-тр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-н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:  ви – трина, витри-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р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к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можно перенести только так :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уро-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ог из одной буквы нельзя  оставлять на строке и переносить на нов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уквы 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й,ь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,ъ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не отделяются от буквы за которой они стоят : ко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нь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–ки, по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дъ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ез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4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1511280" cy="1284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"/>
          <p:cNvSpPr/>
          <p:nvPr/>
        </p:nvSpPr>
        <p:spPr>
          <a:xfrm>
            <a:off x="684360" y="155736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1582920" cy="134784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Картинки по запросу звонкие согласные | Картинки, Школа, Класс"/>
          <p:cNvPicPr/>
          <p:nvPr/>
        </p:nvPicPr>
        <p:blipFill>
          <a:blip r:embed="rId2"/>
          <a:stretch/>
        </p:blipFill>
        <p:spPr>
          <a:xfrm>
            <a:off x="179280" y="1773360"/>
            <a:ext cx="8663040" cy="489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611280" y="907920"/>
            <a:ext cx="81374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еч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умение говорить и выражать свои мысли сло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чь состоит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з предлож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ожения состоят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з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конце предложения в зависим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от интонации ставится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точка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опросительный знак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осклицательный знак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Многоточи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"/>
          <p:cNvPicPr/>
          <p:nvPr/>
        </p:nvPicPr>
        <p:blipFill>
          <a:blip r:embed="rId1"/>
          <a:stretch/>
        </p:blipFill>
        <p:spPr>
          <a:xfrm>
            <a:off x="6875640" y="333360"/>
            <a:ext cx="2158920" cy="183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684360" y="1484280"/>
            <a:ext cx="7920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ередине слова перед согласными и на конце слов написание парных глухих \ звонких согласных надо проверять, подбирая проверочные сл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оверочном слове после согласного звука должен стоять гласный зв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ле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– сле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, ска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ка - ска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604a7b"/>
                </a:solidFill>
                <a:latin typeface="Arial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4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20145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2"/>
          <p:cNvSpPr/>
          <p:nvPr/>
        </p:nvSpPr>
        <p:spPr>
          <a:xfrm>
            <a:off x="684360" y="1557360"/>
            <a:ext cx="79200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ждом слове один из слогов произносится с большей силой и более протяжно. Этот слог называется ударным. Все остальные слоги в слове называются безудар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Ли-ней-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4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2014560" cy="171468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ая соединительная линия 5"/>
          <p:cNvSpPr/>
          <p:nvPr/>
        </p:nvSpPr>
        <p:spPr>
          <a:xfrm flipH="1">
            <a:off x="4211280" y="364500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13"/>
          <p:cNvSpPr/>
          <p:nvPr/>
        </p:nvSpPr>
        <p:spPr>
          <a:xfrm flipH="1">
            <a:off x="4643280" y="5300640"/>
            <a:ext cx="1447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539640" y="692280"/>
            <a:ext cx="8064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того, чтобы проверить безударный гласный, надо подобрать однокоренное слово или изменить слово так, чтобы безударный гласный стал ударны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л(и\е)нейка – л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д(а\о)жди - д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ж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4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1365120" cy="116388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ая соединительная линия 13"/>
          <p:cNvSpPr/>
          <p:nvPr/>
        </p:nvSpPr>
        <p:spPr>
          <a:xfrm flipH="1">
            <a:off x="4140000" y="458136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6"/>
          <p:cNvSpPr/>
          <p:nvPr/>
        </p:nvSpPr>
        <p:spPr>
          <a:xfrm flipH="1">
            <a:off x="5579640" y="4581360"/>
            <a:ext cx="1429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7"/>
          <p:cNvSpPr/>
          <p:nvPr/>
        </p:nvSpPr>
        <p:spPr>
          <a:xfrm flipH="1">
            <a:off x="4571640" y="5445000"/>
            <a:ext cx="14436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8"/>
          <p:cNvSpPr/>
          <p:nvPr/>
        </p:nvSpPr>
        <p:spPr>
          <a:xfrm flipH="1">
            <a:off x="5364000" y="5373720"/>
            <a:ext cx="14472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539640" y="692280"/>
            <a:ext cx="806472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екоторых словах безударный гласный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оверяется однокоренным словом с буквой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ё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орая стоит всегда под ударен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Т(е/и)мно – т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ё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м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л(е/и)теть - пол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ё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"/>
          <p:cNvPicPr/>
          <p:nvPr/>
        </p:nvPicPr>
        <p:blipFill>
          <a:blip r:embed="rId1"/>
          <a:stretch/>
        </p:blipFill>
        <p:spPr>
          <a:xfrm>
            <a:off x="900000" y="906480"/>
            <a:ext cx="1509840" cy="128592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ая соединительная линия 13"/>
          <p:cNvSpPr/>
          <p:nvPr/>
        </p:nvSpPr>
        <p:spPr>
          <a:xfrm flipH="1">
            <a:off x="4427280" y="429264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5"/>
          <p:cNvSpPr/>
          <p:nvPr/>
        </p:nvSpPr>
        <p:spPr>
          <a:xfrm flipH="1">
            <a:off x="4284360" y="5157720"/>
            <a:ext cx="14292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2"/>
          <p:cNvSpPr/>
          <p:nvPr/>
        </p:nvSpPr>
        <p:spPr>
          <a:xfrm>
            <a:off x="468360" y="620640"/>
            <a:ext cx="806436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лова используют для назва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редметов- имена существ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признаков – имена прилага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действий- глаг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Arial"/>
              </a:rPr>
              <a:t>предлоги – для связи слов в предло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астица не с глаголами пишется разд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4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014560" cy="1716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468360" y="609480"/>
            <a:ext cx="7991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на, фамилии, отчества людей, клички животных, название стран, городов, деревень, рек, озёр, морей, гор, улиц,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лощадей пишутся с большой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ссия,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М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сква,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аня,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ванова,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ладимировна, кот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узя, село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катериновка, река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нисей, озеро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айкал,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Ч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ёрное море, гора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ибет,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М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ирная,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асная площад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4" descr=""/>
          <p:cNvPicPr/>
          <p:nvPr/>
        </p:nvPicPr>
        <p:blipFill>
          <a:blip r:embed="rId1"/>
          <a:stretch/>
        </p:blipFill>
        <p:spPr>
          <a:xfrm>
            <a:off x="684360" y="949320"/>
            <a:ext cx="1798560" cy="153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539640" y="90792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дло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жат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вязи слов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логи пишутся раздельно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ругими сло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 глаголами нет пред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58920" y="3573360"/>
          <a:ext cx="6840360" cy="2592360"/>
        </p:xfrm>
        <a:graphic>
          <a:graphicData uri="http://schemas.openxmlformats.org/drawingml/2006/table">
            <a:tbl>
              <a:tblPr/>
              <a:tblGrid>
                <a:gridCol w="1709640"/>
                <a:gridCol w="1711440"/>
                <a:gridCol w="1709640"/>
                <a:gridCol w="1709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е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59" name="Рисунок 3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1619280" cy="1379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2"/>
          <p:cNvSpPr/>
          <p:nvPr/>
        </p:nvSpPr>
        <p:spPr>
          <a:xfrm>
            <a:off x="324000" y="206064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частливого и  радостного вам  лета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Галия\Pictures\img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2"/>
          <p:cNvSpPr/>
          <p:nvPr/>
        </p:nvSpPr>
        <p:spPr>
          <a:xfrm>
            <a:off x="684360" y="1557360"/>
            <a:ext cx="7920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Формы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нолог –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должительная речь одного л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иалог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– это разговор двух или нескольких л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20145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2"/>
          <p:cNvSpPr/>
          <p:nvPr/>
        </p:nvSpPr>
        <p:spPr>
          <a:xfrm>
            <a:off x="684360" y="1557360"/>
            <a:ext cx="7920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а состоят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з зву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мы говорим и слышим зву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уки записывае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бук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пишем и читаем букв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4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20145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2"/>
          <p:cNvSpPr/>
          <p:nvPr/>
        </p:nvSpPr>
        <p:spPr>
          <a:xfrm>
            <a:off x="611280" y="1557360"/>
            <a:ext cx="80643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33 бук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42 зв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- 10 гласных бук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- 21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гласные бук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2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н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2014560" cy="171468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https://lh3.googleusercontent.com/ezC-G4F7g4qCq_Q7A1f73SPTzp7JWA2tC3xQHtdbVVEbqwSRShK0tOO-gjllSUiNZjzNsQ=s114"/>
          <p:cNvPicPr/>
          <p:nvPr/>
        </p:nvPicPr>
        <p:blipFill>
          <a:blip r:embed="rId2"/>
          <a:stretch/>
        </p:blipFill>
        <p:spPr>
          <a:xfrm>
            <a:off x="3635280" y="1668600"/>
            <a:ext cx="2521080" cy="1663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2"/>
          <p:cNvSpPr/>
          <p:nvPr/>
        </p:nvSpPr>
        <p:spPr>
          <a:xfrm>
            <a:off x="684360" y="1557360"/>
            <a:ext cx="79200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cc"/>
                </a:solidFill>
                <a:uFillTx/>
                <a:latin typeface="Arial"/>
              </a:rPr>
              <a:t>42 зву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 гласных зву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 о у э и 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6 согласных звуков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вонкие и глухие, твёрдые и мя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4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20145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2"/>
          <p:cNvSpPr/>
          <p:nvPr/>
        </p:nvSpPr>
        <p:spPr>
          <a:xfrm>
            <a:off x="684360" y="1557360"/>
            <a:ext cx="79200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ласные звуки можно про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На письме гласные звуки обозначаются букв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]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о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]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[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]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у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]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э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[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]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ы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я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й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]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ё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й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]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ю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й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]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й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4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20145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539640" y="1557360"/>
            <a:ext cx="80647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квы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, ё, ю, 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могут обозначать два звука 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й</a:t>
            </a:r>
            <a:r>
              <a:rPr b="1" i="1" lang="en-US" sz="3200" spc="-1" strike="noStrike">
                <a:solidFill>
                  <a:srgbClr val="00b050"/>
                </a:solidFill>
                <a:latin typeface="Arial"/>
              </a:rPr>
              <a:t>’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э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],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й</a:t>
            </a:r>
            <a:r>
              <a:rPr b="1" i="1" lang="en-US" sz="3200" spc="-1" strike="noStrike">
                <a:solidFill>
                  <a:srgbClr val="00b050"/>
                </a:solidFill>
                <a:latin typeface="Arial"/>
              </a:rPr>
              <a:t>’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],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й</a:t>
            </a:r>
            <a:r>
              <a:rPr b="1" i="1" lang="en-US" sz="3200" spc="-1" strike="noStrike">
                <a:solidFill>
                  <a:srgbClr val="00b050"/>
                </a:solidFill>
                <a:latin typeface="Arial"/>
              </a:rPr>
              <a:t>’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],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й</a:t>
            </a:r>
            <a:r>
              <a:rPr b="1" i="1" lang="en-US" sz="3200" spc="-1" strike="noStrike">
                <a:solidFill>
                  <a:srgbClr val="00b050"/>
                </a:solidFill>
                <a:latin typeface="Arial"/>
              </a:rPr>
              <a:t>’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они стоят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в начале слова 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й</a:t>
            </a:r>
            <a:r>
              <a:rPr b="1" i="1" lang="en-US" sz="2800" spc="-1" strike="noStrike">
                <a:solidFill>
                  <a:srgbClr val="00b050"/>
                </a:solidFill>
                <a:latin typeface="Arial"/>
              </a:rPr>
              <a:t>’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э</a:t>
            </a: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1" i="1" lang="en-US" sz="2800" spc="-1" strike="noStrike">
                <a:solidFill>
                  <a:srgbClr val="00b050"/>
                </a:solidFill>
                <a:latin typeface="Arial"/>
              </a:rPr>
              <a:t>’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]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– 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после гласной 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б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й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’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н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] –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бая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- После ъ и ь знаков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кар</a:t>
            </a: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й</a:t>
            </a:r>
            <a:r>
              <a:rPr b="1" i="1" lang="en-US" sz="2800" spc="-1" strike="noStrike">
                <a:solidFill>
                  <a:srgbClr val="00b050"/>
                </a:solidFill>
                <a:latin typeface="Arial"/>
              </a:rPr>
              <a:t>’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э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р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] -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карь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4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20145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5:28Z</dcterms:created>
  <dc:creator>Helen</dc:creator>
  <dc:description/>
  <dc:language>en-US</dc:language>
  <cp:lastModifiedBy>Сергей</cp:lastModifiedBy>
  <dcterms:modified xsi:type="dcterms:W3CDTF">2020-05-20T06:53:31Z</dcterms:modified>
  <cp:revision>123</cp:revision>
  <dc:subject/>
  <dc:title>Слайд 1</dc:title>
</cp:coreProperties>
</file>