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image38.jpeg" ContentType="image/jpeg"/>
  <Override PartName="/ppt/media/image51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36.jpeg" ContentType="image/jpeg"/>
  <Override PartName="/ppt/media/image2.jpeg" ContentType="image/jpeg"/>
  <Override PartName="/ppt/media/image49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50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A2CF-847F-4332-A834-07A098166D8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ая логопедическая группа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2B3-87F9-4C0F-A2B5-DD267EC5240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«Веселые лент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892B-A877-467E-AD1C-83D626F13D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«Цветочек», подготовительная группа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C00-83E5-4473-958D-E1F7AB766F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летние олимпийски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11AB-3A3F-4B77-A52A-5917303CBC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942D-E0EC-4B31-B34C-CB7E0481DA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229-99D8-4D7B-B3EE-F15E4EDE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188-44E3-4243-9538-8135405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270-D259-4402-AFE4-F7801245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360-CB93-4A44-B9F7-218CD00F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CAAC-55EB-41BB-8860-9E55EEA9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CF33-A77C-4803-A6B5-FBBE2EB2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685D-6689-4DB7-8CC2-6BAD0D7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FA10-0129-4199-B499-3D6A637A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1717-DC6A-4D4D-89FD-4A0DBE3D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9F7C-C0FD-45B2-8E17-FC1869ED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126B-4715-4189-B584-FB1DD9F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E42-B272-45B4-BBB6-26E85D23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FE8-E88E-43CD-8307-AEDCB34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3F0-1EAD-42E4-A0C9-7DD8BC96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BE16-AE45-4328-9C58-63C1B862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4A35-9A19-4A8A-AD80-B0ED6F82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A775-62BD-4D17-ACBC-3519C6C0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98E-5D51-400E-B809-E97C701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3FA-9057-415C-AE8D-0223FBC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752-3278-4CFC-A161-EC9B35E8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324-6D35-4421-81F5-B67EDC25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1AB-3F3D-41C9-B96C-DD8646B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A16-9BF3-4A41-B8B5-A2CF43BE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776-4653-4479-91DC-20ED849D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12B0-11D1-45D0-A09A-DDC0A7DFDFC2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9B70-2583-4FB3-9CE1-9D594945D9E7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" y="1071720"/>
            <a:ext cx="7215480" cy="242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формировани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ого образа жизни детей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ошкольных учреждениях» </a:t>
            </a:r>
            <a:br>
              <a:rPr sz="6000"/>
            </a:br>
            <a:r>
              <a:rPr b="0" lang="ru-RU" sz="6000" spc="-1" strike="noStrike">
                <a:solidFill>
                  <a:srgbClr val="cc0066"/>
                </a:solidFill>
                <a:latin typeface="Calibri Ligh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85680" y="3429000"/>
            <a:ext cx="5643720" cy="192888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инструктор по физической   куль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 д/с №18 комбинированного вида г.Россош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кова Неля Григор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ов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314280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ОД в помещ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Макс\Desktop\спорт фото\Новая папка\PB170430.JPG"/>
          <p:cNvPicPr/>
          <p:nvPr/>
        </p:nvPicPr>
        <p:blipFill>
          <a:blip r:embed="rId1"/>
          <a:stretch/>
        </p:blipFill>
        <p:spPr>
          <a:xfrm>
            <a:off x="0" y="571680"/>
            <a:ext cx="435780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56000" y="3071880"/>
            <a:ext cx="38876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ОД на воздух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Users\Макс\Desktop\спорт фото\PB100348.JPG"/>
          <p:cNvPicPr/>
          <p:nvPr/>
        </p:nvPicPr>
        <p:blipFill>
          <a:blip r:embed="rId2"/>
          <a:stretch/>
        </p:blipFill>
        <p:spPr>
          <a:xfrm>
            <a:off x="4572000" y="571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Макс\Desktop\спорт фото\PB100353.JPG"/>
          <p:cNvPicPr/>
          <p:nvPr/>
        </p:nvPicPr>
        <p:blipFill>
          <a:blip r:embed="rId3"/>
          <a:stretch/>
        </p:blipFill>
        <p:spPr>
          <a:xfrm>
            <a:off x="4643280" y="4071960"/>
            <a:ext cx="450072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Макс\Desktop\спорт фото\PB110398.JPG"/>
          <p:cNvPicPr/>
          <p:nvPr/>
        </p:nvPicPr>
        <p:blipFill>
          <a:blip r:embed="rId4"/>
          <a:stretch/>
        </p:blipFill>
        <p:spPr>
          <a:xfrm>
            <a:off x="0" y="4071960"/>
            <a:ext cx="4357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C:\Users\Макс\Desktop\спорт фото\Новая папка\PB170447.JPG"/>
          <p:cNvPicPr/>
          <p:nvPr/>
        </p:nvPicPr>
        <p:blipFill>
          <a:blip r:embed="rId1"/>
          <a:stretch/>
        </p:blipFill>
        <p:spPr>
          <a:xfrm>
            <a:off x="4714920" y="857160"/>
            <a:ext cx="4429080" cy="5072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1680" y="6033600"/>
            <a:ext cx="76737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льчиковая гимнастика «Алые цветы», средняя группа №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Макс\Desktop\спорт фото\Новая папка\PB170446.JPG"/>
          <p:cNvPicPr/>
          <p:nvPr/>
        </p:nvPicPr>
        <p:blipFill>
          <a:blip r:embed="rId2"/>
          <a:stretch/>
        </p:blipFill>
        <p:spPr>
          <a:xfrm>
            <a:off x="0" y="857160"/>
            <a:ext cx="4643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ыхательная гимнастика </a:t>
            </a:r>
            <a:br>
              <a:rPr sz="4400"/>
            </a:br>
            <a:r>
              <a:rPr b="1" i="1" lang="ru-RU" sz="2400" spc="-1" strike="noStrike">
                <a:solidFill>
                  <a:srgbClr val="000000"/>
                </a:solidFill>
                <a:latin typeface="Calibri Light"/>
              </a:rPr>
              <a:t>средняя группа №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840" y="578592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пражнение «Лопни шар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Макс\Desktop\спорт фото\Новая папка\PB170445.JPG"/>
          <p:cNvPicPr/>
          <p:nvPr/>
        </p:nvPicPr>
        <p:blipFill>
          <a:blip r:embed="rId1"/>
          <a:stretch/>
        </p:blipFill>
        <p:spPr>
          <a:xfrm>
            <a:off x="0" y="1214280"/>
            <a:ext cx="4643280" cy="4643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9120" y="5643720"/>
            <a:ext cx="38880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пражнение «Ленточке жар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C:\Users\Макс\Desktop\спорт фото\Новая папка\PB170441.JPG"/>
          <p:cNvPicPr/>
          <p:nvPr/>
        </p:nvPicPr>
        <p:blipFill>
          <a:blip r:embed="rId2"/>
          <a:stretch/>
        </p:blipFill>
        <p:spPr>
          <a:xfrm>
            <a:off x="4786200" y="1214280"/>
            <a:ext cx="43578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имнастика против ОРВ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5" name="Picture 2" descr="C:\Users\Макс\Desktop\спорт фото\Новая папка\PB180456.JPG"/>
          <p:cNvPicPr/>
          <p:nvPr/>
        </p:nvPicPr>
        <p:blipFill>
          <a:blip r:embed="rId1"/>
          <a:stretch/>
        </p:blipFill>
        <p:spPr>
          <a:xfrm>
            <a:off x="0" y="1143000"/>
            <a:ext cx="4643280" cy="5000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Макс\Desktop\спорт фото\Новая папка\PB180460.JPG"/>
          <p:cNvPicPr/>
          <p:nvPr/>
        </p:nvPicPr>
        <p:blipFill>
          <a:blip r:embed="rId2"/>
          <a:stretch/>
        </p:blipFill>
        <p:spPr>
          <a:xfrm>
            <a:off x="4786200" y="1143000"/>
            <a:ext cx="4357800" cy="50007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8"/>
          <p:cNvSpPr/>
          <p:nvPr/>
        </p:nvSpPr>
        <p:spPr>
          <a:xfrm>
            <a:off x="214200" y="621180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Подготовительная логопедическая группа №1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бота кружка «Здоровые ножки» коррекционной направлен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Макс\Desktop\спорт фото\PB110371.JPG"/>
          <p:cNvPicPr/>
          <p:nvPr/>
        </p:nvPicPr>
        <p:blipFill>
          <a:blip r:embed="rId1"/>
          <a:stretch/>
        </p:blipFill>
        <p:spPr>
          <a:xfrm>
            <a:off x="630360" y="2522520"/>
            <a:ext cx="3868560" cy="3649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C:\Users\Макс\Desktop\спорт фото\PB110381.JPG"/>
          <p:cNvPicPr/>
          <p:nvPr/>
        </p:nvPicPr>
        <p:blipFill>
          <a:blip r:embed="rId2"/>
          <a:stretch/>
        </p:blipFill>
        <p:spPr>
          <a:xfrm>
            <a:off x="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Макс\Desktop\спорт фото\PB110386.JPG"/>
          <p:cNvPicPr/>
          <p:nvPr/>
        </p:nvPicPr>
        <p:blipFill>
          <a:blip r:embed="rId3"/>
          <a:stretch/>
        </p:blipFill>
        <p:spPr>
          <a:xfrm>
            <a:off x="4643280" y="1285920"/>
            <a:ext cx="4500720" cy="257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Макс\Desktop\спорт фото\PB110388.JPG"/>
          <p:cNvPicPr/>
          <p:nvPr/>
        </p:nvPicPr>
        <p:blipFill>
          <a:blip r:embed="rId4"/>
          <a:stretch/>
        </p:blipFill>
        <p:spPr>
          <a:xfrm>
            <a:off x="0" y="128592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Макс\Desktop\спорт фото\PB110371.JPG"/>
          <p:cNvPicPr/>
          <p:nvPr/>
        </p:nvPicPr>
        <p:blipFill>
          <a:blip r:embed="rId5"/>
          <a:stretch/>
        </p:blipFill>
        <p:spPr>
          <a:xfrm>
            <a:off x="4643280" y="3929040"/>
            <a:ext cx="4500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Макс\Desktop\спорт фото\PB110401.JPG"/>
          <p:cNvPicPr/>
          <p:nvPr/>
        </p:nvPicPr>
        <p:blipFill>
          <a:blip r:embed="rId1"/>
          <a:stretch/>
        </p:blipFill>
        <p:spPr>
          <a:xfrm>
            <a:off x="0" y="3286080"/>
            <a:ext cx="4500720" cy="3571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Макс\Desktop\спорт фото\PB110407.JPG"/>
          <p:cNvPicPr/>
          <p:nvPr/>
        </p:nvPicPr>
        <p:blipFill>
          <a:blip r:embed="rId2"/>
          <a:stretch/>
        </p:blipFill>
        <p:spPr>
          <a:xfrm>
            <a:off x="4727520" y="2505240"/>
            <a:ext cx="3691080" cy="3684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Users\Макс\Desktop\спорт фото\PB110409.JPG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Макс\Desktop\спорт фото\PB110416.JPG"/>
          <p:cNvPicPr/>
          <p:nvPr/>
        </p:nvPicPr>
        <p:blipFill>
          <a:blip r:embed="rId4"/>
          <a:stretch/>
        </p:blipFill>
        <p:spPr>
          <a:xfrm>
            <a:off x="0" y="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1"/>
          <p:cNvSpPr/>
          <p:nvPr/>
        </p:nvSpPr>
        <p:spPr>
          <a:xfrm>
            <a:off x="0" y="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Упражнение «Карандаши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4643280" y="0"/>
            <a:ext cx="32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Упражнение «Ежики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-417960" y="3286080"/>
            <a:ext cx="50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Упражнение «Цветные платочки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4887720" y="3286080"/>
            <a:ext cx="48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Упражнение «Веселые ленточки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елакса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Макс\Desktop\спорт фото\PB110410.JPG"/>
          <p:cNvPicPr/>
          <p:nvPr/>
        </p:nvPicPr>
        <p:blipFill>
          <a:blip r:embed="rId1"/>
          <a:stretch/>
        </p:blipFill>
        <p:spPr>
          <a:xfrm>
            <a:off x="0" y="928800"/>
            <a:ext cx="4498920" cy="5072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C:\Users\Макс\Desktop\спорт фото\PB110411.JPG"/>
          <p:cNvPicPr/>
          <p:nvPr/>
        </p:nvPicPr>
        <p:blipFill>
          <a:blip r:embed="rId2"/>
          <a:stretch/>
        </p:blipFill>
        <p:spPr>
          <a:xfrm>
            <a:off x="4629240" y="928800"/>
            <a:ext cx="4514760" cy="50720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8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Упражнение «Цветочек»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одготовительная группа №2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портивные праздники, развлече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2" name="Picture 6" descr="C:\Users\Макс\Desktop\спорт фото\P7020021.JPG"/>
          <p:cNvPicPr/>
          <p:nvPr/>
        </p:nvPicPr>
        <p:blipFill>
          <a:blip r:embed="rId1"/>
          <a:stretch/>
        </p:blipFill>
        <p:spPr>
          <a:xfrm>
            <a:off x="0" y="928800"/>
            <a:ext cx="4643280" cy="2643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Макс\Desktop\спорт фото\P7020019.JPG"/>
          <p:cNvPicPr/>
          <p:nvPr/>
        </p:nvPicPr>
        <p:blipFill>
          <a:blip r:embed="rId2"/>
          <a:stretch/>
        </p:blipFill>
        <p:spPr>
          <a:xfrm>
            <a:off x="4714920" y="928800"/>
            <a:ext cx="44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Макс\Desktop\спорт фото\P7020035.JPG"/>
          <p:cNvPicPr/>
          <p:nvPr/>
        </p:nvPicPr>
        <p:blipFill>
          <a:blip r:embed="rId3"/>
          <a:stretch/>
        </p:blipFill>
        <p:spPr>
          <a:xfrm>
            <a:off x="0" y="3643200"/>
            <a:ext cx="4643280" cy="257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Макс\Desktop\спорт фото\P7020045.JPG"/>
          <p:cNvPicPr/>
          <p:nvPr/>
        </p:nvPicPr>
        <p:blipFill>
          <a:blip r:embed="rId4"/>
          <a:stretch/>
        </p:blipFill>
        <p:spPr>
          <a:xfrm>
            <a:off x="4714920" y="3643200"/>
            <a:ext cx="4429080" cy="25718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3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Малые летние олимпийские иг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каливание !!!!!!!!!!!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30360" y="250488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900000" y="62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Принципы закаливани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643040"/>
            <a:ext cx="6246720" cy="3456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епенность закаливающих процед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ти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G:\Новая папка (3)\IMG_4784.JPG"/>
          <p:cNvPicPr/>
          <p:nvPr/>
        </p:nvPicPr>
        <p:blipFill>
          <a:blip r:embed="rId1"/>
          <a:stretch/>
        </p:blipFill>
        <p:spPr>
          <a:xfrm>
            <a:off x="5143680" y="4214880"/>
            <a:ext cx="4000320" cy="26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Макс\Desktop\спорт фото\Новая папка\PB180468.JPG"/>
          <p:cNvPicPr/>
          <p:nvPr/>
        </p:nvPicPr>
        <p:blipFill>
          <a:blip r:embed="rId2"/>
          <a:stretch/>
        </p:blipFill>
        <p:spPr>
          <a:xfrm>
            <a:off x="0" y="4286160"/>
            <a:ext cx="4429080" cy="2571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Макс\Desktop\спорт фото\PB110401.JPG"/>
          <p:cNvPicPr/>
          <p:nvPr/>
        </p:nvPicPr>
        <p:blipFill>
          <a:blip r:embed="rId3"/>
          <a:stretch/>
        </p:blipFill>
        <p:spPr>
          <a:xfrm>
            <a:off x="6215040" y="1285920"/>
            <a:ext cx="29289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3962645d34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699920"/>
            <a:ext cx="8229600" cy="381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Это комплекс оздоровительных мероприятий, обеспечивающих гармоничное развитие и укрепление здоровья, повышение работоспособности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91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ебывание детей на воздухе </a:t>
            </a:r>
            <a:br>
              <a:rPr sz="2400"/>
            </a:br>
            <a:r>
              <a:rPr b="0" lang="ru-RU" sz="24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- это использование естественных факторов природы</a:t>
            </a:r>
            <a:br>
              <a:rPr sz="2400"/>
            </a:br>
            <a:r>
              <a:rPr b="0" lang="ru-RU" sz="24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 для оздоровления и закаливания организм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2" descr="C:\Users\Макс\Desktop\спорт фото\P6290001.JPG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357120" y="1785960"/>
            <a:ext cx="5143680" cy="47149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572080" y="2214720"/>
            <a:ext cx="2571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Утренняя гимнастика  на  улице с музыкальны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особствует воспитанию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детей потребности к здоровому образу жизн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1557360"/>
            <a:ext cx="7848360" cy="2286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Принципы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огое выполнен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допустимость частых изменен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ступност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ктивный</a:t>
            </a:r>
            <a:r>
              <a:rPr b="0" lang="ru-RU" sz="2000" spc="-1" strike="noStrike">
                <a:solidFill>
                  <a:srgbClr val="21f80a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2f06f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f06fa"/>
                </a:solidFill>
                <a:latin typeface="Tahoma"/>
              </a:rPr>
              <a:t>Отд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c48de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ссивный</a:t>
            </a:r>
            <a:r>
              <a:rPr b="0" lang="ru-RU" sz="3200" spc="-1" strike="noStrike">
                <a:solidFill>
                  <a:srgbClr val="fc48de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ce2fe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68360" y="2602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ежим</a:t>
            </a:r>
            <a:r>
              <a:rPr b="0" lang="en-US" sz="3600" spc="-1" strike="noStrike">
                <a:solidFill>
                  <a:srgbClr val="44546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4546a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4546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4546a"/>
                </a:solidFill>
                <a:latin typeface="Tahoma"/>
              </a:rPr>
              <a:t>это правильное чередование периодов работы и отдыха</a:t>
            </a:r>
            <a:r>
              <a:rPr b="0" lang="ru-RU" sz="3600" spc="-1" strike="noStrike">
                <a:solidFill>
                  <a:srgbClr val="44546a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4214880" cy="2571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Макс\Desktop\спорт фото\P7020035.JPG"/>
          <p:cNvPicPr/>
          <p:nvPr/>
        </p:nvPicPr>
        <p:blipFill>
          <a:blip r:embed="rId2"/>
          <a:stretch/>
        </p:blipFill>
        <p:spPr>
          <a:xfrm>
            <a:off x="0" y="4286160"/>
            <a:ext cx="46432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6" descr="3962645d34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Сон - важное условие для здоровья, бодрости и высокой работоспособности человека.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7" name="Picture 5" descr="G:\фото дс\S7304298.JPG"/>
          <p:cNvPicPr/>
          <p:nvPr/>
        </p:nvPicPr>
        <p:blipFill>
          <a:blip r:embed="rId2"/>
          <a:stretch/>
        </p:blipFill>
        <p:spPr>
          <a:xfrm>
            <a:off x="1311120" y="1825560"/>
            <a:ext cx="65217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"/>
          <p:cNvSpPr/>
          <p:nvPr/>
        </p:nvSpPr>
        <p:spPr>
          <a:xfrm>
            <a:off x="500040" y="714240"/>
            <a:ext cx="828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ле того, как дети проснулись, проводится</a:t>
            </a: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гимнастика</a:t>
            </a: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обужден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специально сконструированный комплекс упражнений, позволяющий постепенно разогреть мышцы и поднять настроени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9" name="Picture 3" descr="C:\Users\Макс\Desktop\спорт фото\Новая папка\PB180467 - копия.JPG"/>
          <p:cNvPicPr/>
          <p:nvPr/>
        </p:nvPicPr>
        <p:blipFill>
          <a:blip r:embed="rId1"/>
          <a:stretch/>
        </p:blipFill>
        <p:spPr>
          <a:xfrm>
            <a:off x="4286160" y="1928880"/>
            <a:ext cx="4857840" cy="3071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Users\Макс\Desktop\спорт фото\Новая папка\PB180464.JPG"/>
          <p:cNvPicPr/>
          <p:nvPr/>
        </p:nvPicPr>
        <p:blipFill>
          <a:blip r:embed="rId2"/>
          <a:stretch/>
        </p:blipFill>
        <p:spPr>
          <a:xfrm>
            <a:off x="0" y="4000680"/>
            <a:ext cx="5143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365040" y="-109440"/>
            <a:ext cx="8364600" cy="162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539640" y="1488960"/>
            <a:ext cx="44640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массаж необходим для повышения сопротивляемости организма, для улучшения обменных процессов, лимфо- и кровообращения</a:t>
            </a:r>
            <a:r>
              <a:rPr b="1" lang="ru-RU" sz="2000" spc="-1" strike="noStrike">
                <a:solidFill>
                  <a:srgbClr val="bfbfbf"/>
                </a:solidFill>
                <a:latin typeface="Times New Roman"/>
                <a:ea typeface="Calibri"/>
              </a:rPr>
              <a:t>.</a:t>
            </a:r>
            <a:r>
              <a:rPr b="1" lang="ru-RU" sz="1800" spc="-1" strike="noStrike">
                <a:solidFill>
                  <a:srgbClr val="bfbfbf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000" spc="-1" strike="noStrike">
                <a:solidFill>
                  <a:srgbClr val="191300"/>
                </a:solidFill>
                <a:latin typeface="Times New Roman"/>
                <a:ea typeface="Calibri"/>
              </a:rPr>
              <a:t>C</a:t>
            </a:r>
            <a:r>
              <a:rPr b="1" lang="ru-RU" sz="2000" spc="-1" strike="noStrike">
                <a:solidFill>
                  <a:srgbClr val="191300"/>
                </a:solidFill>
                <a:latin typeface="Times New Roman"/>
                <a:ea typeface="Calibri"/>
              </a:rPr>
              <a:t>амомассаж рекомендуется проводить 2-3 раза в день на занятиях, физминутках, прогулках до 5 минут (малышам), от 3-5 упр., между которыми проводить расслабление мышц. Каждое упр. выполняется 8 раз: по 4 раза для правой и левой руки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Picture 2" descr="C:\Users\Макс\Desktop\спорт фото\PB110427.JPG"/>
          <p:cNvPicPr/>
          <p:nvPr/>
        </p:nvPicPr>
        <p:blipFill>
          <a:blip r:embed="rId2"/>
          <a:stretch/>
        </p:blipFill>
        <p:spPr>
          <a:xfrm>
            <a:off x="4857840" y="15001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0240" cy="9367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циональное питание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0920" y="1125360"/>
            <a:ext cx="8229600" cy="23306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80000"/>
          </a:bodyPr>
          <a:p>
            <a:pPr marL="182880" indent="-18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инцип рационального питания: его энергетическая ценность должна соответствовать энергетическим затратам организма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принцип рационального питания – соответствие химического состава пищевых веществ физиологическим потребностям организм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разнообразие питания определяет третий принцип рационального питания. 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, соблюдение оптимального режима питания определяет четвертый принцип рационального питания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C:\Users\детсадсад\Desktop\S7304282.JPG"/>
          <p:cNvPicPr/>
          <p:nvPr/>
        </p:nvPicPr>
        <p:blipFill>
          <a:blip r:embed="rId1"/>
          <a:stretch/>
        </p:blipFill>
        <p:spPr>
          <a:xfrm>
            <a:off x="66579840" y="35075880"/>
            <a:ext cx="3243240" cy="2162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детсадсад\Desktop\S7304282.JPG"/>
          <p:cNvPicPr/>
          <p:nvPr/>
        </p:nvPicPr>
        <p:blipFill>
          <a:blip r:embed="rId2"/>
          <a:stretch/>
        </p:blipFill>
        <p:spPr>
          <a:xfrm>
            <a:off x="66579840" y="35075880"/>
            <a:ext cx="3243240" cy="2162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детсадсад\Desktop\S7304282.JPG"/>
          <p:cNvPicPr/>
          <p:nvPr/>
        </p:nvPicPr>
        <p:blipFill>
          <a:blip r:embed="rId3"/>
          <a:stretch/>
        </p:blipFill>
        <p:spPr>
          <a:xfrm>
            <a:off x="2214720" y="4786200"/>
            <a:ext cx="392904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417080" cy="10080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ая гигиен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000" y="1267920"/>
            <a:ext cx="8002440" cy="1008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широкое понятие, включающее в себя выполнение правил, которые способствуют сохранению и укреплению здоровья челове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9" descr="F:\Новая папка\DCIM\100SSCAM\S7304287.JPG"/>
          <p:cNvPicPr/>
          <p:nvPr/>
        </p:nvPicPr>
        <p:blipFill>
          <a:blip r:embed="rId1"/>
          <a:stretch/>
        </p:blipFill>
        <p:spPr>
          <a:xfrm>
            <a:off x="1714680" y="2714760"/>
            <a:ext cx="500040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2067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Экологически грамотное поведе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4471920" cy="24004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курсии в лес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ул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ходы на луг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ы на свежем воздух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6" descr="C:\Users\Макс\Desktop\спорт фото\P7020021.JPG"/>
          <p:cNvPicPr/>
          <p:nvPr/>
        </p:nvPicPr>
        <p:blipFill>
          <a:blip r:embed="rId1"/>
          <a:stretch/>
        </p:blipFill>
        <p:spPr>
          <a:xfrm>
            <a:off x="4643280" y="171468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Макс\Desktop\спорт фото\PB100354.JPG"/>
          <p:cNvPicPr/>
          <p:nvPr/>
        </p:nvPicPr>
        <p:blipFill>
          <a:blip r:embed="rId2"/>
          <a:stretch/>
        </p:blipFill>
        <p:spPr>
          <a:xfrm>
            <a:off x="0" y="3857760"/>
            <a:ext cx="4714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Технологии обучения здоровому образу жизни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муникативные игры – тан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6" descr="G:\фото к презентации\DSC_0595.JPG"/>
          <p:cNvPicPr/>
          <p:nvPr/>
        </p:nvPicPr>
        <p:blipFill>
          <a:blip r:embed="rId1"/>
          <a:stretch/>
        </p:blipFill>
        <p:spPr>
          <a:xfrm>
            <a:off x="0" y="2357280"/>
            <a:ext cx="4857840" cy="3000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G:\фото к презентации\111 8.JPG"/>
          <p:cNvPicPr/>
          <p:nvPr/>
        </p:nvPicPr>
        <p:blipFill>
          <a:blip r:embed="rId2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-360" y="-360"/>
            <a:ext cx="4429080" cy="53816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рганизации здорового образа жизни рекомендуем  использовать различные формы взаимодействия – беседы, семинары, родительские собрания, консультации, совместные праздники, анкетирование, проведение дней открытых дверей, совместные игры, где и будут демонстрироваться методы и приемы работы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G:\фото к презентации\104 1.JPG"/>
          <p:cNvPicPr/>
          <p:nvPr/>
        </p:nvPicPr>
        <p:blipFill>
          <a:blip r:embed="rId1"/>
          <a:stretch/>
        </p:blipFill>
        <p:spPr>
          <a:xfrm>
            <a:off x="4357800" y="0"/>
            <a:ext cx="4786200" cy="3714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G:\фото к презентации\104 6.JPG"/>
          <p:cNvPicPr/>
          <p:nvPr/>
        </p:nvPicPr>
        <p:blipFill>
          <a:blip r:embed="rId2"/>
          <a:stretch/>
        </p:blipFill>
        <p:spPr>
          <a:xfrm>
            <a:off x="4357800" y="3357720"/>
            <a:ext cx="4786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56760" y="0"/>
            <a:ext cx="8358120" cy="32860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73000"/>
          </a:bodyPr>
          <a:p>
            <a:pPr marL="166680" indent="-166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Цели оздоровительной работы     в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МКДОУ №18 комбинированного вида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3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191300"/>
                </a:solidFill>
                <a:latin typeface="Calibri"/>
              </a:rPr>
              <a:t>-  Расширять и закреплять знания детей о здоровом образе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3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191300"/>
                </a:solidFill>
                <a:latin typeface="Calibri"/>
              </a:rPr>
              <a:t>- Совершенствовать физические способ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3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191300"/>
                </a:solidFill>
                <a:latin typeface="Calibri"/>
              </a:rPr>
              <a:t>-  Воспитывать желание вести здоровый образ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3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агоприятная психологическая обстановка в семье и сад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5" name="Picture 5" descr="G:\фото к презентации\DSC_0549.JPG"/>
          <p:cNvPicPr/>
          <p:nvPr/>
        </p:nvPicPr>
        <p:blipFill>
          <a:blip r:embed="rId1"/>
          <a:stretch/>
        </p:blipFill>
        <p:spPr>
          <a:xfrm>
            <a:off x="4357800" y="1928880"/>
            <a:ext cx="4786200" cy="4929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142920" y="1857240"/>
            <a:ext cx="4214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задачей семьи и педагогов в это время является приобщение ребенка к здоровому образу жизни, а именно: способствовать формированию разумного отношения к своему организму, ведению здорового образа жизни с самого раннего детства, получению знаний, навыков, основных санитарно-гигиенических нор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760" y="-928800"/>
            <a:ext cx="8229600" cy="2811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 ВНИМАНИЕ !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1"/>
          <a:stretch/>
        </p:blipFill>
        <p:spPr>
          <a:xfrm>
            <a:off x="1643040" y="2214720"/>
            <a:ext cx="5929200" cy="35002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1571760" y="592920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Будьте здоровы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6"/>
          <p:cNvSpPr/>
          <p:nvPr/>
        </p:nvSpPr>
        <p:spPr>
          <a:xfrm>
            <a:off x="179280" y="260280"/>
            <a:ext cx="9144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Здоровый образ жизни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44546a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индивидуальная   система поведения человека, направленная на сохранение и укрепление здоровья.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Garamond"/>
              </a:rPr>
              <a:t>Составляющие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027"/>
          <p:cNvSpPr/>
          <p:nvPr/>
        </p:nvSpPr>
        <p:spPr>
          <a:xfrm>
            <a:off x="304920" y="2666880"/>
            <a:ext cx="46479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вигательная активность, физическая культура и спорт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циональный режи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циональное питан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Благоприятная психологическая обстановка в семье и сад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и грамотное поведен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7" name="Picture 1028" descr="sm"/>
          <p:cNvPicPr/>
          <p:nvPr/>
        </p:nvPicPr>
        <p:blipFill>
          <a:blip r:embed="rId9"/>
          <a:stretch/>
        </p:blipFill>
        <p:spPr>
          <a:xfrm>
            <a:off x="5029200" y="2743200"/>
            <a:ext cx="3809880" cy="3371760"/>
          </a:xfrm>
          <a:prstGeom prst="rect">
            <a:avLst/>
          </a:prstGeom>
          <a:ln w="0">
            <a:noFill/>
          </a:ln>
        </p:spPr>
      </p:pic>
      <p:sp>
        <p:nvSpPr>
          <p:cNvPr id="98" name="Line 1029"/>
          <p:cNvSpPr/>
          <p:nvPr/>
        </p:nvSpPr>
        <p:spPr>
          <a:xfrm>
            <a:off x="457200" y="2209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2"/>
          <p:cNvSpPr/>
          <p:nvPr/>
        </p:nvSpPr>
        <p:spPr>
          <a:xfrm>
            <a:off x="3132000" y="549360"/>
            <a:ext cx="5410440" cy="16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400" y="549360"/>
            <a:ext cx="5410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 Light"/>
              </a:rPr>
              <a:t>Двигательная активность, физическая культура и спор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Picture 1" descr="H:\100SSCAM\S7304019.JPG"/>
          <p:cNvPicPr/>
          <p:nvPr/>
        </p:nvPicPr>
        <p:blipFill>
          <a:blip r:embed="rId1"/>
          <a:stretch/>
        </p:blipFill>
        <p:spPr>
          <a:xfrm>
            <a:off x="0" y="2349360"/>
            <a:ext cx="3643200" cy="193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0920" y="24382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91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эффективные средства сохранения и укрепления здоров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91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им принадлежит первостепенная роль среди факторов, влияющих на рост, развитие и состояние здоровья детей и подрост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PAVLIN\Desktop\ЗОЖ\sport064.png"/>
          <p:cNvPicPr/>
          <p:nvPr/>
        </p:nvPicPr>
        <p:blipFill>
          <a:blip r:embed="rId2"/>
          <a:stretch/>
        </p:blipFill>
        <p:spPr>
          <a:xfrm>
            <a:off x="395280" y="333360"/>
            <a:ext cx="266400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Макс\Desktop\спорт фото\PB100354.JPG"/>
          <p:cNvPicPr/>
          <p:nvPr/>
        </p:nvPicPr>
        <p:blipFill>
          <a:blip r:embed="rId3"/>
          <a:stretch/>
        </p:blipFill>
        <p:spPr>
          <a:xfrm>
            <a:off x="0" y="4643280"/>
            <a:ext cx="364320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428760" y="42876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191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значительно улучшают работу всех органов, систем  органов и  организма в целом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191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300"/>
                </a:solidFill>
                <a:latin typeface="Times New Roman"/>
                <a:ea typeface="Times New Roman"/>
              </a:rPr>
              <a:t>позволяет продлить активный образ жизн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6" name="Picture 2" descr="C:\Users\Макс\Desktop\спорт фото\PB100346.JPG"/>
          <p:cNvPicPr/>
          <p:nvPr/>
        </p:nvPicPr>
        <p:blipFill>
          <a:blip r:embed="rId1"/>
          <a:stretch/>
        </p:blipFill>
        <p:spPr>
          <a:xfrm>
            <a:off x="0" y="1928880"/>
            <a:ext cx="450072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Макс\Desktop\спорт фото\PB100353.JPG"/>
          <p:cNvPicPr/>
          <p:nvPr/>
        </p:nvPicPr>
        <p:blipFill>
          <a:blip r:embed="rId2"/>
          <a:stretch/>
        </p:blipFill>
        <p:spPr>
          <a:xfrm>
            <a:off x="4643280" y="3143160"/>
            <a:ext cx="45007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entury Schoolbook"/>
              </a:rPr>
              <a:t>Современные здоровьесберегающие технологи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57120" y="1142640"/>
            <a:ext cx="7886520" cy="5357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намические пауз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вижные и спортивные иг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мнастика пальчиков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ыхательная гимнас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дрящая гимнас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мнастика против ОР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здоровительный б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муникативные иг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хнология музыкального сопровож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нетическая гимнас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момассаж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лакс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здоровительный бег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Picture 2" descr="C:\Users\Макс\Desktop\спорт фото\PB100346.JPG"/>
          <p:cNvPicPr/>
          <p:nvPr/>
        </p:nvPicPr>
        <p:blipFill>
          <a:blip r:embed="rId1"/>
          <a:stretch/>
        </p:blipFill>
        <p:spPr>
          <a:xfrm>
            <a:off x="0" y="92880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Макс\Desktop\спорт фото\PB100342.JPG"/>
          <p:cNvPicPr/>
          <p:nvPr/>
        </p:nvPicPr>
        <p:blipFill>
          <a:blip r:embed="rId2"/>
          <a:stretch/>
        </p:blipFill>
        <p:spPr>
          <a:xfrm>
            <a:off x="4643280" y="928800"/>
            <a:ext cx="44816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Макс\Desktop\спорт фото\PB100354.JPG"/>
          <p:cNvPicPr/>
          <p:nvPr/>
        </p:nvPicPr>
        <p:blipFill>
          <a:blip r:embed="rId1"/>
          <a:stretch/>
        </p:blipFill>
        <p:spPr>
          <a:xfrm>
            <a:off x="0" y="1071720"/>
            <a:ext cx="4500720" cy="52149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ffff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вижные и спортивные игр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6286320"/>
            <a:ext cx="9144000" cy="57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движная игра «Штандер»,  старшая группа №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C:\Users\Макс\Desktop\спорт фото\PB100356.JPG"/>
          <p:cNvPicPr/>
          <p:nvPr/>
        </p:nvPicPr>
        <p:blipFill>
          <a:blip r:embed="rId2"/>
          <a:stretch/>
        </p:blipFill>
        <p:spPr>
          <a:xfrm>
            <a:off x="4643280" y="107172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Admin</cp:lastModifiedBy>
  <dcterms:modified xsi:type="dcterms:W3CDTF">2020-05-22T15:58:52Z</dcterms:modified>
  <cp:revision>119</cp:revision>
  <dc:subject/>
  <dc:title>Слайд 1</dc:title>
</cp:coreProperties>
</file>