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3D6A-CE00-42CB-81E2-9C19C288C1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C650-EF3A-4FED-90B3-C48A652C04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изуализации ответов используется триггер. Последовательность решения учащиеся могут выбрать самостоя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4EA8-FA90-4CD0-9372-3A8BD7FA38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ы к примерам – последовательно, по щелчку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1DE0-80AF-4BFF-AF5D-D93372F6C6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изуализации решения и ответов используется триггер. Последовательность решения учащиеся могут выбрать самостоя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EEC8-1885-4A51-BE75-FA3A30B929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изуализации решения и ответов используется триггер. Последовательность решения учащиеся могут выбрать самостоя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96E0-3EA6-4FE1-B072-287E2C72EE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данного слайда учащиеся решают последовательно на доске и в тетрад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м о том, что числа -30, 36, -1 и 1 называют коэффициентами в полученных выражен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вух последних выражениях коэффициенты -1 и 1 принято опуск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171-71C2-449D-AB00-E1AC6317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CBFE-1D4F-4049-8B42-77A383E7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A9D-885D-4BDE-8403-4E760AE1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2FDE-D2AE-4409-9C78-B92EBBE3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DEDD-A6F3-4306-986B-DE7E7AB5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2A40-2512-4BCB-9D8F-C9808579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3A66-D568-42BF-BA35-0481417B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468-A06A-42DA-B437-3BD6BCF7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123-58FF-40A1-8047-89D22F52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12EB-C1AC-4328-8F6A-26E72083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5F75-45F9-4680-992F-0E2A8D23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584-7928-46A3-9843-C8B6E3DE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7128-B65C-4002-A563-F44B5FC2EC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5776560"/>
            <a:ext cx="67327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189000"/>
            <a:ext cx="3889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8"/>
          <p:cNvSpPr txBox="1"/>
          <p:nvPr/>
        </p:nvSpPr>
        <p:spPr>
          <a:xfrm rot="20514000">
            <a:off x="477720" y="2454120"/>
            <a:ext cx="823608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Урок в 6 классе.</a:t>
            </a:r>
            <a:endParaRPr b="1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1" name="Picture 3" descr="Scan0011"/>
          <p:cNvPicPr/>
          <p:nvPr/>
        </p:nvPicPr>
        <p:blipFill>
          <a:blip r:embed="rId1"/>
          <a:stretch/>
        </p:blipFill>
        <p:spPr>
          <a:xfrm>
            <a:off x="6840360" y="3284640"/>
            <a:ext cx="2033640" cy="302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D:\Мои Документы\контроль(мамина)\картинки и анимашки на школьную тему\51470012.gif"/>
          <p:cNvPicPr/>
          <p:nvPr/>
        </p:nvPicPr>
        <p:blipFill>
          <a:blip r:embed="rId2"/>
          <a:stretch/>
        </p:blipFill>
        <p:spPr>
          <a:xfrm>
            <a:off x="500040" y="857160"/>
            <a:ext cx="2643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5"/>
          <p:cNvSpPr/>
          <p:nvPr/>
        </p:nvSpPr>
        <p:spPr>
          <a:xfrm>
            <a:off x="179280" y="260280"/>
            <a:ext cx="5832720" cy="1513080"/>
          </a:xfrm>
          <a:prstGeom prst="wedgeRoundRectCallout">
            <a:avLst>
              <a:gd name="adj1" fmla="val 69680"/>
              <a:gd name="adj2" fmla="val -3828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Тренируем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зовите коэффициенты выраж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6"/>
          <p:cNvSpPr txBox="1"/>
          <p:nvPr/>
        </p:nvSpPr>
        <p:spPr>
          <a:xfrm>
            <a:off x="1187280" y="2276640"/>
            <a:ext cx="273708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,5abc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WordArt 7"/>
          <p:cNvSpPr txBox="1"/>
          <p:nvPr/>
        </p:nvSpPr>
        <p:spPr>
          <a:xfrm>
            <a:off x="1187280" y="3139920"/>
            <a:ext cx="273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0,003xy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WordArt 8"/>
          <p:cNvSpPr txBox="1"/>
          <p:nvPr/>
        </p:nvSpPr>
        <p:spPr>
          <a:xfrm>
            <a:off x="1405080" y="4292640"/>
            <a:ext cx="1224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nm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7" name="WordArt 9"/>
          <p:cNvSpPr txBox="1"/>
          <p:nvPr/>
        </p:nvSpPr>
        <p:spPr>
          <a:xfrm>
            <a:off x="1260360" y="5156280"/>
            <a:ext cx="201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6m 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8" name="WordArt 10"/>
          <p:cNvSpPr txBox="1"/>
          <p:nvPr/>
        </p:nvSpPr>
        <p:spPr>
          <a:xfrm>
            <a:off x="1260360" y="6164280"/>
            <a:ext cx="2735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abcde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WordArt 11"/>
          <p:cNvSpPr txBox="1"/>
          <p:nvPr/>
        </p:nvSpPr>
        <p:spPr>
          <a:xfrm>
            <a:off x="4716360" y="2205000"/>
            <a:ext cx="16560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,5</a:t>
            </a:r>
            <a:endParaRPr b="1" i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WordArt 13"/>
          <p:cNvSpPr txBox="1"/>
          <p:nvPr/>
        </p:nvSpPr>
        <p:spPr>
          <a:xfrm>
            <a:off x="4716360" y="3068640"/>
            <a:ext cx="259236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0,003</a:t>
            </a:r>
            <a:endParaRPr b="1" i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WordArt 14"/>
          <p:cNvSpPr txBox="1"/>
          <p:nvPr/>
        </p:nvSpPr>
        <p:spPr>
          <a:xfrm>
            <a:off x="4788000" y="4221000"/>
            <a:ext cx="36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WordArt 15"/>
          <p:cNvSpPr txBox="1"/>
          <p:nvPr/>
        </p:nvSpPr>
        <p:spPr>
          <a:xfrm>
            <a:off x="4716360" y="5084640"/>
            <a:ext cx="7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6</a:t>
            </a:r>
            <a:endParaRPr b="1" i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3" name="WordArt 16"/>
          <p:cNvSpPr txBox="1"/>
          <p:nvPr/>
        </p:nvSpPr>
        <p:spPr>
          <a:xfrm>
            <a:off x="4716360" y="6164280"/>
            <a:ext cx="79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</a:t>
            </a:r>
            <a:endParaRPr b="1" i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4" name="Picture 11" descr="000044"/>
          <p:cNvPicPr/>
          <p:nvPr/>
        </p:nvPicPr>
        <p:blipFill>
          <a:blip r:embed="rId1"/>
          <a:stretch/>
        </p:blipFill>
        <p:spPr>
          <a:xfrm>
            <a:off x="571680" y="1785960"/>
            <a:ext cx="477720" cy="503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Scan0011"/>
          <p:cNvPicPr/>
          <p:nvPr/>
        </p:nvPicPr>
        <p:blipFill>
          <a:blip r:embed="rId2"/>
          <a:stretch/>
        </p:blipFill>
        <p:spPr>
          <a:xfrm>
            <a:off x="6786720" y="0"/>
            <a:ext cx="2033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5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7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87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Физкультминутка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7" name="Picture 10" descr="киска"/>
          <p:cNvPicPr/>
          <p:nvPr/>
        </p:nvPicPr>
        <p:blipFill>
          <a:blip r:embed="rId1"/>
          <a:stretch/>
        </p:blipFill>
        <p:spPr>
          <a:xfrm>
            <a:off x="857160" y="1357200"/>
            <a:ext cx="6143760" cy="1378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4" descr="2"/>
          <p:cNvPicPr/>
          <p:nvPr/>
        </p:nvPicPr>
        <p:blipFill>
          <a:blip r:embed="rId2"/>
          <a:stretch/>
        </p:blipFill>
        <p:spPr>
          <a:xfrm flipH="1">
            <a:off x="2643120" y="3071880"/>
            <a:ext cx="3929040" cy="1285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11m1"/>
          <p:cNvPicPr/>
          <p:nvPr/>
        </p:nvPicPr>
        <p:blipFill>
          <a:blip r:embed="rId3"/>
          <a:stretch/>
        </p:blipFill>
        <p:spPr>
          <a:xfrm>
            <a:off x="6786720" y="428760"/>
            <a:ext cx="1938240" cy="1641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черепаха"/>
          <p:cNvPicPr/>
          <p:nvPr/>
        </p:nvPicPr>
        <p:blipFill>
          <a:blip r:embed="rId4"/>
          <a:stretch/>
        </p:blipFill>
        <p:spPr>
          <a:xfrm>
            <a:off x="1071720" y="4929120"/>
            <a:ext cx="7072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5"/>
          <p:cNvSpPr/>
          <p:nvPr/>
        </p:nvSpPr>
        <p:spPr>
          <a:xfrm>
            <a:off x="2340000" y="260280"/>
            <a:ext cx="6480000" cy="1008000"/>
          </a:xfrm>
          <a:prstGeom prst="wedgeRoundRectCallout">
            <a:avLst>
              <a:gd name="adj1" fmla="val -66023"/>
              <a:gd name="adj2" fmla="val 53305"/>
              <a:gd name="adj3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Решение прим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12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4"/>
          <p:cNvSpPr/>
          <p:nvPr/>
        </p:nvSpPr>
        <p:spPr>
          <a:xfrm>
            <a:off x="2268360" y="1844640"/>
            <a:ext cx="914400" cy="914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5"/>
          <p:cNvSpPr/>
          <p:nvPr/>
        </p:nvSpPr>
        <p:spPr>
          <a:xfrm>
            <a:off x="2268360" y="3284640"/>
            <a:ext cx="914400" cy="914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6"/>
          <p:cNvSpPr/>
          <p:nvPr/>
        </p:nvSpPr>
        <p:spPr>
          <a:xfrm>
            <a:off x="2268360" y="4724280"/>
            <a:ext cx="914400" cy="914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7"/>
          <p:cNvSpPr/>
          <p:nvPr/>
        </p:nvSpPr>
        <p:spPr>
          <a:xfrm>
            <a:off x="5651640" y="1844640"/>
            <a:ext cx="914400" cy="914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г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8"/>
          <p:cNvSpPr/>
          <p:nvPr/>
        </p:nvSpPr>
        <p:spPr>
          <a:xfrm>
            <a:off x="5651640" y="3284640"/>
            <a:ext cx="914400" cy="914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д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9"/>
          <p:cNvSpPr/>
          <p:nvPr/>
        </p:nvSpPr>
        <p:spPr>
          <a:xfrm>
            <a:off x="5651640" y="4724280"/>
            <a:ext cx="914400" cy="914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0"/>
          <p:cNvSpPr/>
          <p:nvPr/>
        </p:nvSpPr>
        <p:spPr>
          <a:xfrm>
            <a:off x="2268360" y="6021360"/>
            <a:ext cx="6480360" cy="647640"/>
          </a:xfrm>
          <a:prstGeom prst="wedgeRoundRectCallout">
            <a:avLst>
              <a:gd name="adj1" fmla="val -62740"/>
              <a:gd name="adj2" fmla="val -105638"/>
              <a:gd name="adj3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Проверя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1"/>
          <p:cNvSpPr/>
          <p:nvPr/>
        </p:nvSpPr>
        <p:spPr>
          <a:xfrm>
            <a:off x="3203640" y="1484280"/>
            <a:ext cx="1562040" cy="1778040"/>
          </a:xfrm>
          <a:custGeom>
            <a:avLst/>
            <a:gdLst>
              <a:gd name="textAreaLeft" fmla="*/ 356400 w 1562040"/>
              <a:gd name="textAreaRight" fmla="*/ 1205640 w 1562040"/>
              <a:gd name="textAreaTop" fmla="*/ 405720 h 1778040"/>
              <a:gd name="textAreaBottom" fmla="*/ 1372320 h 1778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83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2"/>
          <p:cNvSpPr/>
          <p:nvPr/>
        </p:nvSpPr>
        <p:spPr>
          <a:xfrm>
            <a:off x="3203640" y="2924280"/>
            <a:ext cx="1562040" cy="1778040"/>
          </a:xfrm>
          <a:custGeom>
            <a:avLst/>
            <a:gdLst>
              <a:gd name="textAreaLeft" fmla="*/ 356400 w 1562040"/>
              <a:gd name="textAreaRight" fmla="*/ 1205640 w 1562040"/>
              <a:gd name="textAreaTop" fmla="*/ 405720 h 1778040"/>
              <a:gd name="textAreaBottom" fmla="*/ 1372320 h 1778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26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3"/>
          <p:cNvSpPr/>
          <p:nvPr/>
        </p:nvSpPr>
        <p:spPr>
          <a:xfrm>
            <a:off x="3276720" y="4365720"/>
            <a:ext cx="1562040" cy="1778040"/>
          </a:xfrm>
          <a:custGeom>
            <a:avLst/>
            <a:gdLst>
              <a:gd name="textAreaLeft" fmla="*/ 356400 w 1562040"/>
              <a:gd name="textAreaRight" fmla="*/ 1205640 w 1562040"/>
              <a:gd name="textAreaTop" fmla="*/ 405720 h 1778040"/>
              <a:gd name="textAreaBottom" fmla="*/ 1372320 h 1778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3,3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4"/>
          <p:cNvSpPr/>
          <p:nvPr/>
        </p:nvSpPr>
        <p:spPr>
          <a:xfrm>
            <a:off x="6659640" y="1413000"/>
            <a:ext cx="1562040" cy="1778040"/>
          </a:xfrm>
          <a:custGeom>
            <a:avLst/>
            <a:gdLst>
              <a:gd name="textAreaLeft" fmla="*/ 356400 w 1562040"/>
              <a:gd name="textAreaRight" fmla="*/ 1205640 w 1562040"/>
              <a:gd name="textAreaTop" fmla="*/ 405720 h 1778040"/>
              <a:gd name="textAreaBottom" fmla="*/ 1372320 h 1778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9,6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8"/>
          <p:cNvGrpSpPr/>
          <p:nvPr/>
        </p:nvGrpSpPr>
        <p:grpSpPr>
          <a:xfrm>
            <a:off x="6659640" y="2997360"/>
            <a:ext cx="1562040" cy="1777680"/>
            <a:chOff x="6659640" y="2997360"/>
            <a:chExt cx="1562040" cy="1777680"/>
          </a:xfrm>
        </p:grpSpPr>
        <p:sp>
          <p:nvSpPr>
            <p:cNvPr id="215" name="AutoShape 35"/>
            <p:cNvSpPr/>
            <p:nvPr/>
          </p:nvSpPr>
          <p:spPr>
            <a:xfrm>
              <a:off x="6659640" y="2997360"/>
              <a:ext cx="1562040" cy="1777680"/>
            </a:xfrm>
            <a:custGeom>
              <a:avLst/>
              <a:gdLst>
                <a:gd name="textAreaLeft" fmla="*/ 356400 w 1562040"/>
                <a:gd name="textAreaRight" fmla="*/ 1205640 w 1562040"/>
                <a:gd name="textAreaTop" fmla="*/ 405720 h 1777680"/>
                <a:gd name="textAreaBottom" fmla="*/ 1371960 h 17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36"/>
                <p:cNvSpPr txBox="1"/>
                <p:nvPr/>
              </p:nvSpPr>
              <p:spPr>
                <a:xfrm>
                  <a:off x="6659640" y="3284640"/>
                  <a:ext cx="1368360" cy="11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а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7" name="AutoShape 39"/>
          <p:cNvSpPr/>
          <p:nvPr/>
        </p:nvSpPr>
        <p:spPr>
          <a:xfrm>
            <a:off x="6659640" y="4437000"/>
            <a:ext cx="1562040" cy="1778040"/>
          </a:xfrm>
          <a:custGeom>
            <a:avLst/>
            <a:gdLst>
              <a:gd name="textAreaLeft" fmla="*/ 356400 w 1562040"/>
              <a:gd name="textAreaRight" fmla="*/ 1205640 w 1562040"/>
              <a:gd name="textAreaTop" fmla="*/ 405720 h 1778040"/>
              <a:gd name="textAreaBottom" fmla="*/ 1372320 h 1778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1c1"/>
          <p:cNvPicPr/>
          <p:nvPr/>
        </p:nvPicPr>
        <p:blipFill>
          <a:blip r:embed="rId1"/>
          <a:stretch/>
        </p:blipFill>
        <p:spPr>
          <a:xfrm>
            <a:off x="285840" y="357120"/>
            <a:ext cx="1469880" cy="2057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AG00208_"/>
          <p:cNvPicPr/>
          <p:nvPr/>
        </p:nvPicPr>
        <p:blipFill>
          <a:blip r:embed="rId2"/>
          <a:stretch/>
        </p:blipFill>
        <p:spPr>
          <a:xfrm>
            <a:off x="357120" y="4000680"/>
            <a:ext cx="18954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3"/>
          <p:cNvSpPr/>
          <p:nvPr/>
        </p:nvSpPr>
        <p:spPr>
          <a:xfrm>
            <a:off x="1908000" y="115920"/>
            <a:ext cx="6912000" cy="1441440"/>
          </a:xfrm>
          <a:prstGeom prst="wedgeRoundRectCallout">
            <a:avLst>
              <a:gd name="adj1" fmla="val -60152"/>
              <a:gd name="adj2" fmla="val 40967"/>
              <a:gd name="adj3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Самостоятельная 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с  последующей  проверкой 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79280" y="2276640"/>
          <a:ext cx="8785440" cy="4538520"/>
        </p:xfrm>
        <a:graphic>
          <a:graphicData uri="http://schemas.openxmlformats.org/drawingml/2006/table">
            <a:tbl>
              <a:tblPr/>
              <a:tblGrid>
                <a:gridCol w="8569440"/>
                <a:gridCol w="216000"/>
              </a:tblGrid>
              <a:tr h="8996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простите  вы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 подчеркните коэффициент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8880"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2" name="Object 14"/>
              <p:cNvSpPr txBox="1"/>
              <p:nvPr/>
            </p:nvSpPr>
            <p:spPr>
              <a:xfrm>
                <a:off x="2428920" y="3286080"/>
                <a:ext cx="3911400" cy="33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т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п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t xml:space="preserve">3,8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23" name="Picture 12" descr="word2"/>
          <p:cNvPicPr/>
          <p:nvPr/>
        </p:nvPicPr>
        <p:blipFill>
          <a:blip r:embed="rId1"/>
          <a:stretch/>
        </p:blipFill>
        <p:spPr>
          <a:xfrm>
            <a:off x="7786800" y="1357200"/>
            <a:ext cx="865080" cy="719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1c1"/>
          <p:cNvPicPr/>
          <p:nvPr/>
        </p:nvPicPr>
        <p:blipFill>
          <a:blip r:embed="rId2"/>
          <a:stretch/>
        </p:blipFill>
        <p:spPr>
          <a:xfrm>
            <a:off x="285840" y="214200"/>
            <a:ext cx="146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7"/>
          <p:cNvSpPr txBox="1"/>
          <p:nvPr/>
        </p:nvSpPr>
        <p:spPr>
          <a:xfrm rot="20536800">
            <a:off x="250920" y="2349360"/>
            <a:ext cx="8893080" cy="18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376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пасибо  за  урок!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376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539640" y="5445000"/>
            <a:ext cx="77774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машнее задание: № 1275,  п.40 -  учить прави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1c1"/>
          <p:cNvPicPr/>
          <p:nvPr/>
        </p:nvPicPr>
        <p:blipFill>
          <a:blip r:embed="rId1"/>
          <a:stretch/>
        </p:blipFill>
        <p:spPr>
          <a:xfrm>
            <a:off x="285840" y="500040"/>
            <a:ext cx="1469880" cy="2057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AG00208_"/>
          <p:cNvPicPr/>
          <p:nvPr/>
        </p:nvPicPr>
        <p:blipFill>
          <a:blip r:embed="rId2"/>
          <a:stretch/>
        </p:blipFill>
        <p:spPr>
          <a:xfrm>
            <a:off x="7000920" y="2857680"/>
            <a:ext cx="18954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5"/>
          <p:cNvSpPr/>
          <p:nvPr/>
        </p:nvSpPr>
        <p:spPr>
          <a:xfrm>
            <a:off x="2987640" y="189000"/>
            <a:ext cx="5977080" cy="576000"/>
          </a:xfrm>
          <a:prstGeom prst="wedgeRoundRectCallout">
            <a:avLst>
              <a:gd name="adj1" fmla="val 32125"/>
              <a:gd name="adj2" fmla="val 718870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простит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395280" y="1484280"/>
            <a:ext cx="453708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18 - 7) + 14 = 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WordArt 7"/>
          <p:cNvSpPr txBox="1"/>
          <p:nvPr/>
        </p:nvSpPr>
        <p:spPr>
          <a:xfrm>
            <a:off x="250920" y="2637000"/>
            <a:ext cx="446544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х - 75) + 16 =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WordArt 8"/>
          <p:cNvSpPr txBox="1"/>
          <p:nvPr/>
        </p:nvSpPr>
        <p:spPr>
          <a:xfrm>
            <a:off x="5076720" y="2565360"/>
            <a:ext cx="345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 - 75 + 16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WordArt 9"/>
          <p:cNvSpPr txBox="1"/>
          <p:nvPr/>
        </p:nvSpPr>
        <p:spPr>
          <a:xfrm>
            <a:off x="324000" y="3789360"/>
            <a:ext cx="576072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х - 13) + (b - 86) =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WordArt 10"/>
          <p:cNvSpPr txBox="1"/>
          <p:nvPr/>
        </p:nvSpPr>
        <p:spPr>
          <a:xfrm>
            <a:off x="1547640" y="4724280"/>
            <a:ext cx="48960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 x - 13 + b - 86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WordArt 11"/>
          <p:cNvSpPr txBox="1"/>
          <p:nvPr/>
        </p:nvSpPr>
        <p:spPr>
          <a:xfrm>
            <a:off x="4932360" y="1484280"/>
            <a:ext cx="345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8 - 7 + 14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4932360" y="1341360"/>
            <a:ext cx="3816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4932360" y="2421000"/>
            <a:ext cx="38163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х - 5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5"/>
          <p:cNvSpPr/>
          <p:nvPr/>
        </p:nvSpPr>
        <p:spPr>
          <a:xfrm>
            <a:off x="2050920" y="4653000"/>
            <a:ext cx="4537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+ b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250920" y="5661000"/>
            <a:ext cx="7200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Как можно назвать данные выра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250920" y="5661000"/>
            <a:ext cx="7200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Как называются компоне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при слож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50920" y="5661000"/>
            <a:ext cx="7200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Объяснить как раскрывали ско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Человечек-1"/>
          <p:cNvPicPr/>
          <p:nvPr/>
        </p:nvPicPr>
        <p:blipFill>
          <a:blip r:embed="rId1"/>
          <a:stretch/>
        </p:blipFill>
        <p:spPr>
          <a:xfrm>
            <a:off x="7429680" y="4500720"/>
            <a:ext cx="1714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3"/>
          <p:cNvSpPr/>
          <p:nvPr/>
        </p:nvSpPr>
        <p:spPr>
          <a:xfrm>
            <a:off x="2987640" y="189000"/>
            <a:ext cx="5977080" cy="576000"/>
          </a:xfrm>
          <a:prstGeom prst="wedgeRoundRectCallout">
            <a:avLst>
              <a:gd name="adj1" fmla="val 32125"/>
              <a:gd name="adj2" fmla="val 718870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простит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395280" y="1484280"/>
            <a:ext cx="453708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а + 56) - 32 = 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250920" y="2637000"/>
            <a:ext cx="446544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х - 65) - 16 =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5076720" y="2565360"/>
            <a:ext cx="345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 - 65 - 16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324000" y="3789360"/>
            <a:ext cx="576072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86 + 13) - (b + 7) =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WordArt 8"/>
          <p:cNvSpPr txBox="1"/>
          <p:nvPr/>
        </p:nvSpPr>
        <p:spPr>
          <a:xfrm>
            <a:off x="1547640" y="4724280"/>
            <a:ext cx="48960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 86 + 13 - b - 7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WordArt 9"/>
          <p:cNvSpPr txBox="1"/>
          <p:nvPr/>
        </p:nvSpPr>
        <p:spPr>
          <a:xfrm>
            <a:off x="4932360" y="1484280"/>
            <a:ext cx="345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 + 56 - 32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4859280" y="1341360"/>
            <a:ext cx="3816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а + 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>
            <a:off x="4859280" y="2421000"/>
            <a:ext cx="38163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х - 8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2"/>
          <p:cNvSpPr/>
          <p:nvPr/>
        </p:nvSpPr>
        <p:spPr>
          <a:xfrm>
            <a:off x="2050920" y="4581360"/>
            <a:ext cx="4537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250920" y="5661000"/>
            <a:ext cx="7200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Как можно назвать данные выра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250920" y="5661000"/>
            <a:ext cx="7200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Как называются компоне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при вычита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250920" y="5661000"/>
            <a:ext cx="7200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Объяснить как раскрывали ско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1f4"/>
          <p:cNvPicPr/>
          <p:nvPr/>
        </p:nvPicPr>
        <p:blipFill>
          <a:blip r:embed="rId1"/>
          <a:stretch/>
        </p:blipFill>
        <p:spPr>
          <a:xfrm>
            <a:off x="7572240" y="4143240"/>
            <a:ext cx="15717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3"/>
          <p:cNvSpPr/>
          <p:nvPr/>
        </p:nvSpPr>
        <p:spPr>
          <a:xfrm>
            <a:off x="1908000" y="115920"/>
            <a:ext cx="6912000" cy="1441440"/>
          </a:xfrm>
          <a:prstGeom prst="wedgeRoundRectCallout">
            <a:avLst>
              <a:gd name="adj1" fmla="val -60152"/>
              <a:gd name="adj2" fmla="val 40967"/>
              <a:gd name="adj3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Самостоятельная 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с  последующей  проверкой 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8360" y="2708280"/>
          <a:ext cx="8291520" cy="3529080"/>
        </p:xfrm>
        <a:graphic>
          <a:graphicData uri="http://schemas.openxmlformats.org/drawingml/2006/table">
            <a:tbl>
              <a:tblPr/>
              <a:tblGrid>
                <a:gridCol w="4186080"/>
                <a:gridCol w="4105440"/>
              </a:tblGrid>
              <a:tr h="566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простите  выраже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3" name="Object 27"/>
              <p:cNvSpPr txBox="1"/>
              <p:nvPr/>
            </p:nvSpPr>
            <p:spPr>
              <a:xfrm>
                <a:off x="768240" y="3573360"/>
                <a:ext cx="361008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9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а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29"/>
              <p:cNvSpPr txBox="1"/>
              <p:nvPr/>
            </p:nvSpPr>
            <p:spPr>
              <a:xfrm>
                <a:off x="4788000" y="3584520"/>
                <a:ext cx="4032000" cy="23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с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а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у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у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Oval 38"/>
          <p:cNvSpPr/>
          <p:nvPr/>
        </p:nvSpPr>
        <p:spPr>
          <a:xfrm>
            <a:off x="1258920" y="2781360"/>
            <a:ext cx="914400" cy="476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9"/>
          <p:cNvSpPr/>
          <p:nvPr/>
        </p:nvSpPr>
        <p:spPr>
          <a:xfrm>
            <a:off x="7164360" y="2781360"/>
            <a:ext cx="914400" cy="476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8"/>
          <p:cNvSpPr/>
          <p:nvPr/>
        </p:nvSpPr>
        <p:spPr>
          <a:xfrm>
            <a:off x="1285920" y="2786040"/>
            <a:ext cx="914400" cy="476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Scan0011"/>
          <p:cNvPicPr/>
          <p:nvPr/>
        </p:nvPicPr>
        <p:blipFill>
          <a:blip r:embed="rId1"/>
          <a:stretch/>
        </p:blipFill>
        <p:spPr>
          <a:xfrm>
            <a:off x="142920" y="0"/>
            <a:ext cx="1928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3"/>
          <p:cNvSpPr/>
          <p:nvPr/>
        </p:nvSpPr>
        <p:spPr>
          <a:xfrm>
            <a:off x="1908000" y="115920"/>
            <a:ext cx="6912000" cy="1441440"/>
          </a:xfrm>
          <a:prstGeom prst="wedgeRoundRectCallout">
            <a:avLst>
              <a:gd name="adj1" fmla="val -60152"/>
              <a:gd name="adj2" fmla="val 40967"/>
              <a:gd name="adj3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Самостоятельная 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с  последующей  проверкой 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1714680"/>
          <a:ext cx="8291520" cy="4105080"/>
        </p:xfrm>
        <a:graphic>
          <a:graphicData uri="http://schemas.openxmlformats.org/drawingml/2006/table">
            <a:tbl>
              <a:tblPr/>
              <a:tblGrid>
                <a:gridCol w="4186080"/>
                <a:gridCol w="4105440"/>
              </a:tblGrid>
              <a:tr h="1143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простите  выраже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1" name="Object 27"/>
              <p:cNvSpPr txBox="1"/>
              <p:nvPr/>
            </p:nvSpPr>
            <p:spPr>
              <a:xfrm>
                <a:off x="0" y="2786040"/>
                <a:ext cx="4254480" cy="29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9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а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р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а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а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29"/>
              <p:cNvSpPr txBox="1"/>
              <p:nvPr/>
            </p:nvSpPr>
            <p:spPr>
              <a:xfrm>
                <a:off x="4357800" y="2928960"/>
                <a:ext cx="464328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с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с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а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а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у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у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Oval 38"/>
          <p:cNvSpPr/>
          <p:nvPr/>
        </p:nvSpPr>
        <p:spPr>
          <a:xfrm>
            <a:off x="1643040" y="1928880"/>
            <a:ext cx="914400" cy="476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39"/>
          <p:cNvSpPr/>
          <p:nvPr/>
        </p:nvSpPr>
        <p:spPr>
          <a:xfrm>
            <a:off x="7143840" y="1785960"/>
            <a:ext cx="914400" cy="476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8"/>
          <p:cNvSpPr/>
          <p:nvPr/>
        </p:nvSpPr>
        <p:spPr>
          <a:xfrm>
            <a:off x="1643040" y="1928880"/>
            <a:ext cx="914400" cy="476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Scan0011"/>
          <p:cNvPicPr/>
          <p:nvPr/>
        </p:nvPicPr>
        <p:blipFill>
          <a:blip r:embed="rId1"/>
          <a:stretch/>
        </p:blipFill>
        <p:spPr>
          <a:xfrm>
            <a:off x="0" y="0"/>
            <a:ext cx="1857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6"/>
          <p:cNvSpPr txBox="1"/>
          <p:nvPr/>
        </p:nvSpPr>
        <p:spPr>
          <a:xfrm rot="20640000">
            <a:off x="1887480" y="1147680"/>
            <a:ext cx="7037280" cy="13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Коэффициент.</a:t>
            </a:r>
            <a:endParaRPr b="1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179280" y="3645000"/>
            <a:ext cx="6981840" cy="3024000"/>
          </a:xfrm>
          <a:prstGeom prst="wedgeRoundRectCallout">
            <a:avLst>
              <a:gd name="adj1" fmla="val 52273"/>
              <a:gd name="adj2" fmla="val -30157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 уроке мы узнаем, что такое коэффициент и как упрощать выражения, содержащие произведение буквенных и числовых коэффици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AG00208_"/>
          <p:cNvPicPr/>
          <p:nvPr/>
        </p:nvPicPr>
        <p:blipFill>
          <a:blip r:embed="rId1"/>
          <a:stretch/>
        </p:blipFill>
        <p:spPr>
          <a:xfrm>
            <a:off x="428760" y="285840"/>
            <a:ext cx="189540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Scan0011"/>
          <p:cNvPicPr/>
          <p:nvPr/>
        </p:nvPicPr>
        <p:blipFill>
          <a:blip r:embed="rId2"/>
          <a:stretch/>
        </p:blipFill>
        <p:spPr>
          <a:xfrm>
            <a:off x="7143840" y="3143160"/>
            <a:ext cx="17301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6"/>
          <p:cNvSpPr/>
          <p:nvPr/>
        </p:nvSpPr>
        <p:spPr>
          <a:xfrm>
            <a:off x="2195640" y="260280"/>
            <a:ext cx="6624360" cy="2016360"/>
          </a:xfrm>
          <a:prstGeom prst="wedgeRoundRectCallout">
            <a:avLst>
              <a:gd name="adj1" fmla="val -65671"/>
              <a:gd name="adj2" fmla="val 1652"/>
              <a:gd name="adj3" fmla="val 16667"/>
            </a:avLst>
          </a:prstGeom>
          <a:solidFill>
            <a:srgbClr val="ff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Определите, положительным или отрицательным будет произведение чисе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3"/>
          <p:cNvGrpSpPr/>
          <p:nvPr/>
        </p:nvGrpSpPr>
        <p:grpSpPr>
          <a:xfrm>
            <a:off x="179280" y="3068640"/>
            <a:ext cx="8209080" cy="503280"/>
            <a:chOff x="179280" y="3068640"/>
            <a:chExt cx="8209080" cy="503280"/>
          </a:xfrm>
        </p:grpSpPr>
        <p:sp>
          <p:nvSpPr>
            <p:cNvPr id="103" name="WordArt 9"/>
            <p:cNvSpPr txBox="1"/>
            <p:nvPr/>
          </p:nvSpPr>
          <p:spPr>
            <a:xfrm>
              <a:off x="179280" y="3068640"/>
              <a:ext cx="151128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1234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4" name="Oval 15"/>
            <p:cNvSpPr/>
            <p:nvPr/>
          </p:nvSpPr>
          <p:spPr>
            <a:xfrm>
              <a:off x="1835280" y="3284640"/>
              <a:ext cx="7272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6"/>
            <p:cNvSpPr/>
            <p:nvPr/>
          </p:nvSpPr>
          <p:spPr>
            <a:xfrm>
              <a:off x="6948360" y="3284640"/>
              <a:ext cx="7308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7"/>
            <p:cNvSpPr/>
            <p:nvPr/>
          </p:nvSpPr>
          <p:spPr>
            <a:xfrm>
              <a:off x="5940360" y="3284640"/>
              <a:ext cx="7308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8"/>
            <p:cNvSpPr/>
            <p:nvPr/>
          </p:nvSpPr>
          <p:spPr>
            <a:xfrm>
              <a:off x="4643280" y="3284640"/>
              <a:ext cx="7308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0"/>
            <p:cNvSpPr/>
            <p:nvPr/>
          </p:nvSpPr>
          <p:spPr>
            <a:xfrm>
              <a:off x="3419640" y="3284640"/>
              <a:ext cx="7272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WordArt 21"/>
            <p:cNvSpPr txBox="1"/>
            <p:nvPr/>
          </p:nvSpPr>
          <p:spPr>
            <a:xfrm>
              <a:off x="2050920" y="3068640"/>
              <a:ext cx="122400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(-34)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0" name="WordArt 22"/>
            <p:cNvSpPr txBox="1"/>
            <p:nvPr/>
          </p:nvSpPr>
          <p:spPr>
            <a:xfrm>
              <a:off x="3635280" y="3068640"/>
              <a:ext cx="863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(-7)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1" name="WordArt 23"/>
            <p:cNvSpPr txBox="1"/>
            <p:nvPr/>
          </p:nvSpPr>
          <p:spPr>
            <a:xfrm>
              <a:off x="4788000" y="3068640"/>
              <a:ext cx="1008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34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2" name="WordArt 24"/>
            <p:cNvSpPr txBox="1"/>
            <p:nvPr/>
          </p:nvSpPr>
          <p:spPr>
            <a:xfrm>
              <a:off x="6156360" y="3068640"/>
              <a:ext cx="647640" cy="43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78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3" name="WordArt 25"/>
            <p:cNvSpPr txBox="1"/>
            <p:nvPr/>
          </p:nvSpPr>
          <p:spPr>
            <a:xfrm>
              <a:off x="7164360" y="3068640"/>
              <a:ext cx="122400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(-52)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14" name="Group 45"/>
          <p:cNvGrpSpPr/>
          <p:nvPr/>
        </p:nvGrpSpPr>
        <p:grpSpPr>
          <a:xfrm>
            <a:off x="179280" y="4869000"/>
            <a:ext cx="7704360" cy="503280"/>
            <a:chOff x="179280" y="4869000"/>
            <a:chExt cx="7704360" cy="503280"/>
          </a:xfrm>
        </p:grpSpPr>
        <p:sp>
          <p:nvSpPr>
            <p:cNvPr id="115" name="WordArt 33"/>
            <p:cNvSpPr txBox="1"/>
            <p:nvPr/>
          </p:nvSpPr>
          <p:spPr>
            <a:xfrm>
              <a:off x="6372360" y="4869000"/>
              <a:ext cx="1511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(-987)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6" name="WordArt 34"/>
            <p:cNvSpPr txBox="1"/>
            <p:nvPr/>
          </p:nvSpPr>
          <p:spPr>
            <a:xfrm>
              <a:off x="179280" y="4869000"/>
              <a:ext cx="1224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345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7" name="Oval 35"/>
            <p:cNvSpPr/>
            <p:nvPr/>
          </p:nvSpPr>
          <p:spPr>
            <a:xfrm>
              <a:off x="1547640" y="5084640"/>
              <a:ext cx="7308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WordArt 36"/>
            <p:cNvSpPr txBox="1"/>
            <p:nvPr/>
          </p:nvSpPr>
          <p:spPr>
            <a:xfrm>
              <a:off x="1763640" y="4869000"/>
              <a:ext cx="1008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34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9" name="Oval 37"/>
            <p:cNvSpPr/>
            <p:nvPr/>
          </p:nvSpPr>
          <p:spPr>
            <a:xfrm>
              <a:off x="2916360" y="5084640"/>
              <a:ext cx="7308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WordArt 38"/>
            <p:cNvSpPr txBox="1"/>
            <p:nvPr/>
          </p:nvSpPr>
          <p:spPr>
            <a:xfrm>
              <a:off x="3203640" y="4869000"/>
              <a:ext cx="122400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(-76)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1" name="Oval 39"/>
            <p:cNvSpPr/>
            <p:nvPr/>
          </p:nvSpPr>
          <p:spPr>
            <a:xfrm>
              <a:off x="4572000" y="5084640"/>
              <a:ext cx="7308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WordArt 40"/>
            <p:cNvSpPr txBox="1"/>
            <p:nvPr/>
          </p:nvSpPr>
          <p:spPr>
            <a:xfrm>
              <a:off x="4788000" y="4869000"/>
              <a:ext cx="122400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(-56)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3" name="Oval 41"/>
            <p:cNvSpPr/>
            <p:nvPr/>
          </p:nvSpPr>
          <p:spPr>
            <a:xfrm>
              <a:off x="6156360" y="5084640"/>
              <a:ext cx="7308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44"/>
          <p:cNvGrpSpPr/>
          <p:nvPr/>
        </p:nvGrpSpPr>
        <p:grpSpPr>
          <a:xfrm>
            <a:off x="324000" y="4005360"/>
            <a:ext cx="7272360" cy="503280"/>
            <a:chOff x="324000" y="4005360"/>
            <a:chExt cx="7272360" cy="503280"/>
          </a:xfrm>
        </p:grpSpPr>
        <p:sp>
          <p:nvSpPr>
            <p:cNvPr id="125" name="Oval 14"/>
            <p:cNvSpPr/>
            <p:nvPr/>
          </p:nvSpPr>
          <p:spPr>
            <a:xfrm>
              <a:off x="2627280" y="4221000"/>
              <a:ext cx="7308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3924360" y="4221000"/>
              <a:ext cx="7308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WordArt 27"/>
            <p:cNvSpPr txBox="1"/>
            <p:nvPr/>
          </p:nvSpPr>
          <p:spPr>
            <a:xfrm>
              <a:off x="324000" y="4005360"/>
              <a:ext cx="647640" cy="43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5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8" name="Oval 28"/>
            <p:cNvSpPr/>
            <p:nvPr/>
          </p:nvSpPr>
          <p:spPr>
            <a:xfrm>
              <a:off x="1042920" y="4221000"/>
              <a:ext cx="7308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WordArt 29"/>
            <p:cNvSpPr txBox="1"/>
            <p:nvPr/>
          </p:nvSpPr>
          <p:spPr>
            <a:xfrm>
              <a:off x="1258920" y="4005360"/>
              <a:ext cx="122400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(-47)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0" name="WordArt 30"/>
            <p:cNvSpPr txBox="1"/>
            <p:nvPr/>
          </p:nvSpPr>
          <p:spPr>
            <a:xfrm>
              <a:off x="2843280" y="4005360"/>
              <a:ext cx="1008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45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1" name="WordArt 31"/>
            <p:cNvSpPr txBox="1"/>
            <p:nvPr/>
          </p:nvSpPr>
          <p:spPr>
            <a:xfrm>
              <a:off x="4140360" y="4005360"/>
              <a:ext cx="1511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(-349)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2" name="Oval 32"/>
            <p:cNvSpPr/>
            <p:nvPr/>
          </p:nvSpPr>
          <p:spPr>
            <a:xfrm>
              <a:off x="5796000" y="4221000"/>
              <a:ext cx="7308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WordArt 42"/>
            <p:cNvSpPr txBox="1"/>
            <p:nvPr/>
          </p:nvSpPr>
          <p:spPr>
            <a:xfrm>
              <a:off x="6084720" y="4005360"/>
              <a:ext cx="1511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(-123)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34" name="Oval 46"/>
          <p:cNvSpPr/>
          <p:nvPr/>
        </p:nvSpPr>
        <p:spPr>
          <a:xfrm>
            <a:off x="3203640" y="5661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7"/>
          <p:cNvSpPr/>
          <p:nvPr/>
        </p:nvSpPr>
        <p:spPr>
          <a:xfrm>
            <a:off x="4500720" y="5661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8"/>
          <p:cNvSpPr/>
          <p:nvPr/>
        </p:nvSpPr>
        <p:spPr>
          <a:xfrm>
            <a:off x="3203640" y="5661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9"/>
          <p:cNvSpPr/>
          <p:nvPr/>
        </p:nvSpPr>
        <p:spPr>
          <a:xfrm>
            <a:off x="4500720" y="5661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50"/>
          <p:cNvSpPr/>
          <p:nvPr/>
        </p:nvSpPr>
        <p:spPr>
          <a:xfrm>
            <a:off x="3203640" y="5661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1"/>
          <p:cNvSpPr/>
          <p:nvPr/>
        </p:nvSpPr>
        <p:spPr>
          <a:xfrm>
            <a:off x="4500720" y="5661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000044"/>
          <p:cNvPicPr/>
          <p:nvPr/>
        </p:nvPicPr>
        <p:blipFill>
          <a:blip r:embed="rId1"/>
          <a:stretch/>
        </p:blipFill>
        <p:spPr>
          <a:xfrm>
            <a:off x="3929040" y="2214720"/>
            <a:ext cx="477720" cy="502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Scan0011"/>
          <p:cNvPicPr/>
          <p:nvPr/>
        </p:nvPicPr>
        <p:blipFill>
          <a:blip r:embed="rId2"/>
          <a:stretch/>
        </p:blipFill>
        <p:spPr>
          <a:xfrm>
            <a:off x="285840" y="142920"/>
            <a:ext cx="20001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32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1979 -0.39885 E">
                                      <p:cBhvr>
                                        <p:cTn id="33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795 -0.28356 E">
                                      <p:cBhvr>
                                        <p:cTn id="34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1198 -0.13635 E">
                                      <p:cBhvr>
                                        <p:cTn id="345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5"/>
          <p:cNvSpPr/>
          <p:nvPr/>
        </p:nvSpPr>
        <p:spPr>
          <a:xfrm>
            <a:off x="2195640" y="260280"/>
            <a:ext cx="6553080" cy="1081080"/>
          </a:xfrm>
          <a:prstGeom prst="wedgeRoundRectCallout">
            <a:avLst>
              <a:gd name="adj1" fmla="val -65842"/>
              <a:gd name="adj2" fmla="val 46328"/>
              <a:gd name="adj3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Тренируем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Упростить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6"/>
          <p:cNvGrpSpPr/>
          <p:nvPr/>
        </p:nvGrpSpPr>
        <p:grpSpPr>
          <a:xfrm>
            <a:off x="0" y="3068640"/>
            <a:ext cx="2952720" cy="502920"/>
            <a:chOff x="0" y="3068640"/>
            <a:chExt cx="2952720" cy="502920"/>
          </a:xfrm>
        </p:grpSpPr>
        <p:sp>
          <p:nvSpPr>
            <p:cNvPr id="144" name="WordArt 17"/>
            <p:cNvSpPr txBox="1"/>
            <p:nvPr/>
          </p:nvSpPr>
          <p:spPr>
            <a:xfrm>
              <a:off x="0" y="3139920"/>
              <a:ext cx="5029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5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45" name="Oval 18"/>
            <p:cNvSpPr/>
            <p:nvPr/>
          </p:nvSpPr>
          <p:spPr>
            <a:xfrm>
              <a:off x="576000" y="3355920"/>
              <a:ext cx="7308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1"/>
            <p:cNvSpPr/>
            <p:nvPr/>
          </p:nvSpPr>
          <p:spPr>
            <a:xfrm>
              <a:off x="1871640" y="3355920"/>
              <a:ext cx="7272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1295280" y="3355920"/>
              <a:ext cx="7308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WordArt 23"/>
            <p:cNvSpPr txBox="1"/>
            <p:nvPr/>
          </p:nvSpPr>
          <p:spPr>
            <a:xfrm>
              <a:off x="792000" y="3139920"/>
              <a:ext cx="36036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49" name="WordArt 28"/>
            <p:cNvSpPr txBox="1"/>
            <p:nvPr/>
          </p:nvSpPr>
          <p:spPr>
            <a:xfrm>
              <a:off x="1439640" y="3139920"/>
              <a:ext cx="28728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0" name="WordArt 29"/>
            <p:cNvSpPr txBox="1"/>
            <p:nvPr/>
          </p:nvSpPr>
          <p:spPr>
            <a:xfrm>
              <a:off x="2087280" y="3068640"/>
              <a:ext cx="86544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 =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51" name="Group 37"/>
          <p:cNvGrpSpPr/>
          <p:nvPr/>
        </p:nvGrpSpPr>
        <p:grpSpPr>
          <a:xfrm>
            <a:off x="3095640" y="3068640"/>
            <a:ext cx="4248000" cy="576000"/>
            <a:chOff x="3095640" y="3068640"/>
            <a:chExt cx="4248000" cy="576000"/>
          </a:xfrm>
        </p:grpSpPr>
        <p:sp>
          <p:nvSpPr>
            <p:cNvPr id="152" name="Oval 19"/>
            <p:cNvSpPr/>
            <p:nvPr/>
          </p:nvSpPr>
          <p:spPr>
            <a:xfrm>
              <a:off x="4824360" y="3355920"/>
              <a:ext cx="7308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0"/>
            <p:cNvSpPr/>
            <p:nvPr/>
          </p:nvSpPr>
          <p:spPr>
            <a:xfrm>
              <a:off x="4032000" y="3355920"/>
              <a:ext cx="7308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WordArt 24"/>
            <p:cNvSpPr txBox="1"/>
            <p:nvPr/>
          </p:nvSpPr>
          <p:spPr>
            <a:xfrm>
              <a:off x="3095640" y="3068640"/>
              <a:ext cx="792000" cy="57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(-5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5" name="WordArt 27"/>
            <p:cNvSpPr txBox="1"/>
            <p:nvPr/>
          </p:nvSpPr>
          <p:spPr>
            <a:xfrm>
              <a:off x="4176720" y="3068640"/>
              <a:ext cx="502920" cy="57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)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6" name="WordArt 30"/>
            <p:cNvSpPr txBox="1"/>
            <p:nvPr/>
          </p:nvSpPr>
          <p:spPr>
            <a:xfrm>
              <a:off x="5040000" y="3068640"/>
              <a:ext cx="576360" cy="57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(a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7" name="Oval 31"/>
            <p:cNvSpPr/>
            <p:nvPr/>
          </p:nvSpPr>
          <p:spPr>
            <a:xfrm>
              <a:off x="5832360" y="3355920"/>
              <a:ext cx="7308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WordArt 32"/>
            <p:cNvSpPr txBox="1"/>
            <p:nvPr/>
          </p:nvSpPr>
          <p:spPr>
            <a:xfrm>
              <a:off x="6048360" y="3068640"/>
              <a:ext cx="129528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) = 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59" name="Group 38"/>
          <p:cNvGrpSpPr/>
          <p:nvPr/>
        </p:nvGrpSpPr>
        <p:grpSpPr>
          <a:xfrm>
            <a:off x="7129440" y="2852640"/>
            <a:ext cx="2014560" cy="936720"/>
            <a:chOff x="7129440" y="2852640"/>
            <a:chExt cx="2014560" cy="936720"/>
          </a:xfrm>
        </p:grpSpPr>
        <p:sp>
          <p:nvSpPr>
            <p:cNvPr id="160" name="Oval 33"/>
            <p:cNvSpPr/>
            <p:nvPr/>
          </p:nvSpPr>
          <p:spPr>
            <a:xfrm>
              <a:off x="7129440" y="2852640"/>
              <a:ext cx="2014560" cy="93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>
                    <a:alpha val="99215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WordArt 34"/>
            <p:cNvSpPr txBox="1"/>
            <p:nvPr/>
          </p:nvSpPr>
          <p:spPr>
            <a:xfrm>
              <a:off x="7272000" y="3068640"/>
              <a:ext cx="16574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cc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10ab</a:t>
              </a:r>
              <a:endPara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62" name="AutoShape 40"/>
          <p:cNvSpPr/>
          <p:nvPr/>
        </p:nvSpPr>
        <p:spPr>
          <a:xfrm>
            <a:off x="2050920" y="1628640"/>
            <a:ext cx="6913800" cy="1081080"/>
          </a:xfrm>
          <a:prstGeom prst="wedgeRoundRectCallout">
            <a:avLst>
              <a:gd name="adj1" fmla="val -59805"/>
              <a:gd name="adj2" fmla="val -60277"/>
              <a:gd name="adj3" fmla="val 16667"/>
            </a:avLst>
          </a:prstGeom>
          <a:solidFill>
            <a:srgbClr val="ff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Что поможет нам упростить данное вы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1"/>
          <p:cNvSpPr/>
          <p:nvPr/>
        </p:nvSpPr>
        <p:spPr>
          <a:xfrm>
            <a:off x="395280" y="5013360"/>
            <a:ext cx="5832360" cy="1584360"/>
          </a:xfrm>
          <a:prstGeom prst="wedgeRoundRectCallout">
            <a:avLst>
              <a:gd name="adj1" fmla="val 67555"/>
              <a:gd name="adj2" fmla="val 4708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реместительное и сочетательное свойства умн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000044"/>
          <p:cNvPicPr/>
          <p:nvPr/>
        </p:nvPicPr>
        <p:blipFill>
          <a:blip r:embed="rId1"/>
          <a:stretch/>
        </p:blipFill>
        <p:spPr>
          <a:xfrm>
            <a:off x="8215200" y="857160"/>
            <a:ext cx="478080" cy="503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Scan0011"/>
          <p:cNvPicPr/>
          <p:nvPr/>
        </p:nvPicPr>
        <p:blipFill>
          <a:blip r:embed="rId2"/>
          <a:stretch/>
        </p:blipFill>
        <p:spPr>
          <a:xfrm>
            <a:off x="7000920" y="3857760"/>
            <a:ext cx="1857240" cy="2762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6" descr="D:\Мои Документы\контроль(мамина)\картинки и анимашки на школьную тему\51470012.gif"/>
          <p:cNvPicPr/>
          <p:nvPr/>
        </p:nvPicPr>
        <p:blipFill>
          <a:blip r:embed="rId3"/>
          <a:stretch/>
        </p:blipFill>
        <p:spPr>
          <a:xfrm>
            <a:off x="214200" y="214200"/>
            <a:ext cx="17859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3"/>
          <p:cNvSpPr/>
          <p:nvPr/>
        </p:nvSpPr>
        <p:spPr>
          <a:xfrm>
            <a:off x="2195640" y="260280"/>
            <a:ext cx="6553080" cy="1081080"/>
          </a:xfrm>
          <a:prstGeom prst="wedgeRoundRectCallout">
            <a:avLst>
              <a:gd name="adj1" fmla="val -65842"/>
              <a:gd name="adj2" fmla="val 46328"/>
              <a:gd name="adj3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Тренируем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Упростить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6"/>
              <p:cNvSpPr txBox="1"/>
              <p:nvPr/>
            </p:nvSpPr>
            <p:spPr>
              <a:xfrm>
                <a:off x="495360" y="2722680"/>
                <a:ext cx="5850000" cy="36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а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  <m:r>
                          <m:t xml:space="preserve">⋅</m:t>
                        </m:r>
                        <m:r>
                          <m:t xml:space="preserve">0,4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  <m:r>
                          <m:t xml:space="preserve">⋅</m:t>
                        </m:r>
                        <m:r>
                          <m:t xml:space="preserve">3,6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0,5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0,25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9" name="Group 28"/>
          <p:cNvGrpSpPr/>
          <p:nvPr/>
        </p:nvGrpSpPr>
        <p:grpSpPr>
          <a:xfrm>
            <a:off x="6588000" y="2637000"/>
            <a:ext cx="2014560" cy="936360"/>
            <a:chOff x="6588000" y="2637000"/>
            <a:chExt cx="2014560" cy="936360"/>
          </a:xfrm>
        </p:grpSpPr>
        <p:sp>
          <p:nvSpPr>
            <p:cNvPr id="170" name="Oval 29"/>
            <p:cNvSpPr/>
            <p:nvPr/>
          </p:nvSpPr>
          <p:spPr>
            <a:xfrm>
              <a:off x="6588000" y="2637000"/>
              <a:ext cx="2014560" cy="93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>
                    <a:alpha val="99215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WordArt 30"/>
            <p:cNvSpPr txBox="1"/>
            <p:nvPr/>
          </p:nvSpPr>
          <p:spPr>
            <a:xfrm>
              <a:off x="6730560" y="2852640"/>
              <a:ext cx="1657440" cy="50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cc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30aс</a:t>
              </a:r>
              <a:endPara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2" name="Group 31"/>
          <p:cNvGrpSpPr/>
          <p:nvPr/>
        </p:nvGrpSpPr>
        <p:grpSpPr>
          <a:xfrm>
            <a:off x="6588000" y="3573360"/>
            <a:ext cx="2014560" cy="936720"/>
            <a:chOff x="6588000" y="3573360"/>
            <a:chExt cx="2014560" cy="936720"/>
          </a:xfrm>
        </p:grpSpPr>
        <p:sp>
          <p:nvSpPr>
            <p:cNvPr id="173" name="Oval 32"/>
            <p:cNvSpPr/>
            <p:nvPr/>
          </p:nvSpPr>
          <p:spPr>
            <a:xfrm>
              <a:off x="6588000" y="3573360"/>
              <a:ext cx="2014560" cy="93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>
                    <a:alpha val="99215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WordArt 33"/>
            <p:cNvSpPr txBox="1"/>
            <p:nvPr/>
          </p:nvSpPr>
          <p:spPr>
            <a:xfrm>
              <a:off x="6730560" y="3789360"/>
              <a:ext cx="16574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cc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6сd</a:t>
              </a:r>
              <a:endPara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5" name="Group 34"/>
          <p:cNvGrpSpPr/>
          <p:nvPr/>
        </p:nvGrpSpPr>
        <p:grpSpPr>
          <a:xfrm>
            <a:off x="6588000" y="4508640"/>
            <a:ext cx="2014560" cy="936360"/>
            <a:chOff x="6588000" y="4508640"/>
            <a:chExt cx="2014560" cy="936360"/>
          </a:xfrm>
        </p:grpSpPr>
        <p:sp>
          <p:nvSpPr>
            <p:cNvPr id="176" name="Oval 35"/>
            <p:cNvSpPr/>
            <p:nvPr/>
          </p:nvSpPr>
          <p:spPr>
            <a:xfrm>
              <a:off x="6588000" y="4508640"/>
              <a:ext cx="2014560" cy="93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>
                    <a:alpha val="99215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WordArt 36"/>
            <p:cNvSpPr txBox="1"/>
            <p:nvPr/>
          </p:nvSpPr>
          <p:spPr>
            <a:xfrm>
              <a:off x="6730560" y="4724280"/>
              <a:ext cx="1657440" cy="50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cc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xy</a:t>
              </a:r>
              <a:endPara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8" name="Group 37"/>
          <p:cNvGrpSpPr/>
          <p:nvPr/>
        </p:nvGrpSpPr>
        <p:grpSpPr>
          <a:xfrm>
            <a:off x="6659640" y="5516640"/>
            <a:ext cx="2014560" cy="936720"/>
            <a:chOff x="6659640" y="5516640"/>
            <a:chExt cx="2014560" cy="936720"/>
          </a:xfrm>
        </p:grpSpPr>
        <p:sp>
          <p:nvSpPr>
            <p:cNvPr id="179" name="Oval 38"/>
            <p:cNvSpPr/>
            <p:nvPr/>
          </p:nvSpPr>
          <p:spPr>
            <a:xfrm>
              <a:off x="6659640" y="5516640"/>
              <a:ext cx="2014560" cy="93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>
                    <a:alpha val="99215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WordArt 39"/>
            <p:cNvSpPr txBox="1"/>
            <p:nvPr/>
          </p:nvSpPr>
          <p:spPr>
            <a:xfrm>
              <a:off x="6802200" y="5732640"/>
              <a:ext cx="16574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cc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b</a:t>
              </a:r>
              <a:endPara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181" name="Picture 12" descr="word2"/>
          <p:cNvPicPr/>
          <p:nvPr/>
        </p:nvPicPr>
        <p:blipFill>
          <a:blip r:embed="rId1"/>
          <a:stretch/>
        </p:blipFill>
        <p:spPr>
          <a:xfrm>
            <a:off x="6500880" y="1643040"/>
            <a:ext cx="865080" cy="719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D:\Мои Документы\контроль(мамина)\картинки и анимашки на школьную тему\51470012.gif"/>
          <p:cNvPicPr/>
          <p:nvPr/>
        </p:nvPicPr>
        <p:blipFill>
          <a:blip r:embed="rId2"/>
          <a:stretch/>
        </p:blipFill>
        <p:spPr>
          <a:xfrm>
            <a:off x="285840" y="357120"/>
            <a:ext cx="20001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5:06:27Z</dcterms:created>
  <dc:creator>Customer</dc:creator>
  <dc:description/>
  <dc:language>en-US</dc:language>
  <cp:lastModifiedBy>Home</cp:lastModifiedBy>
  <dcterms:modified xsi:type="dcterms:W3CDTF">2020-05-22T12:40:16Z</dcterms:modified>
  <cp:revision>45</cp:revision>
  <dc:subject/>
  <dc:title>Слайд 1</dc:title>
</cp:coreProperties>
</file>