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5.jpeg" ContentType="image/jpeg"/>
  <Override PartName="/ppt/media/image23.png" ContentType="image/png"/>
  <Override PartName="/ppt/media/image5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21.jpeg" ContentType="image/jpeg"/>
  <Override PartName="/ppt/media/image29.png" ContentType="image/png"/>
  <Override PartName="/ppt/media/image2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3872-93BD-45CC-9606-8A1A6A141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3261-91BD-4EE0-B4E5-C6937BD5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F5C8-0B81-44CC-884E-00E9459B8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64B7-F17C-4759-8A8B-516D57EE9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DE52-BBC4-4DF6-A2E9-3505C32E8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5705-69E8-48A7-AD8B-64B40795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0587-6F17-4DC5-96DF-E31E4E26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F876-84DD-4C1C-8181-CA7AA33F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AF6C-6B0C-47E1-A95B-7EA58341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7CCC-A9D0-4E2F-9DE4-23DB77B6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88BD-6357-48A7-A6D8-76F42A47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1DC1-B927-4AD2-ADBB-5ABF1DFF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F19B-FFE5-4A73-BFF3-2AB4D224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5758-3888-47A0-AA0B-08EBB359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A151-8C1E-4AF2-BBC2-7A790681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1F25-DDA4-4733-9F94-D3EA68068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27B0-7B5F-41E3-91C0-3B4063962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6A01-0701-4548-ADE9-83955CD6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F058-0830-405B-80D9-BE19234E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891E-4694-4A95-B5C2-651F8605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6384-3AA4-4632-B396-A1EFD1A9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2E6C-5BA3-4009-B96D-40AB4FAE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1CDC-06CF-40C2-A23C-0DF09AF4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09D7-CB52-4972-B21A-095C21AA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169A-7FD3-4DB6-8BEA-D8499CB27F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4374-6BA3-460C-9129-69EE6D2085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ru/url?sa=i&amp;rct=j&amp;q=&amp;esrc=s&amp;frm=1&amp;source=images&amp;cd=&amp;ved=0ahUKEwjLw77Lwa3JAhVKnnIKHY9aDhYQjRwIBw&amp;url=http%3A%2F%2Faleksandrova-el.ucoz.ru%2Findex%2Fklassnyj_ugolok%2F0-52&amp;psig=AFQjCNEnj4sAMq9bWL7QMpd_QzDzqgrZ_Q&amp;ust=1448606147982642&amp;cad=rjt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nashimalyshi.ru/zakalivanie-detey/images-2-9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www.google.ru/url?sa=i&amp;rct=j&amp;q=&amp;esrc=s&amp;frm=1&amp;source=images&amp;cd=&amp;ved=0ahUKEwjLw77Lwa3JAhVKnnIKHY9aDhYQjRwIBw&amp;url=http%3A%2F%2Faleksandrova-el.ucoz.ru%2Findex%2Fklassnyj_ugolok%2F0-52&amp;psig=AFQjCNEnj4sAMq9bWL7QMpd_QzDzqgrZ_Q&amp;ust=1448606147982642&amp;cad=rjt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ru/url?sa=i&amp;rct=j&amp;q=&amp;esrc=s&amp;frm=1&amp;source=images&amp;cd=&amp;cad=rja&amp;uact=8&amp;ved=0CAcQjRxqFQoTCO3wopKc98gCFWF1cgodtlIAfw&amp;url=http%3A%2F%2Fpicsfab.com%2Fimage%2Fnastroeniya-shariki-sharyi-vozdushnyie-rozovyie-nebo-147559&amp;bvm=bv.106674449,d.bGQ&amp;psig=AFQjCNEqGcVAIzPUIETQdOT8T2ztQeSlLA&amp;ust=1446741915772265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google.ru/url?sa=i&amp;rct=j&amp;q=&amp;esrc=s&amp;frm=1&amp;source=images&amp;cd=&amp;cad=rja&amp;uact=8&amp;ved=0CAcQjRxqFQoTCMLkkouZ98gCFSPxcgodwoUI0g&amp;url=http%3A%2F%2Fwww.12news.uz%2Fnews%2F2015%2F09%2F%25D1%2583%25D0%25B7%25D0%25B1%25D0%25B5%25D0%25BA%25D0%25B8%25D1%2581%25D1%2582%25D0%25B0%25D0%25BD-%25D1%2582%25D0%25B2%25D0%25B5%25D1%2580%25D0%25B4%25D0%25BE-%25D0%25BF%25D1%2580%25D0%25B8%25D0%25B4%25D0%25B5%25D1%2580%25D0%25B6%25D0%25B8%25D0%25B2%25D0%25B0%25D0%25B5%25D1%2582%25D1%2581%25D1%258F-%25D1%2581%25D0%25B2%2F&amp;psig=AFQjCNEYuChtexyZhQaD6dUULFYBbJUlWg&amp;ust=1446740966892426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www.google.ru/url?sa=i&amp;rct=j&amp;q=&amp;esrc=s&amp;frm=1&amp;source=images&amp;cd=&amp;cad=rja&amp;uact=8&amp;ved=0CAcQjRxqFQoTCIvz8-2X98gCFUPucgodplAG2g&amp;url=http%3A%2F%2Flib3.podelise.ru%2Fdocs%2F131%2Findex-59407.html&amp;bvm=bv.106674449,d.bGQ&amp;psig=AFQjCNFD3AW0QexrNHasKFWYJLa1Kgt9Sw&amp;ust=1446740567949995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www.google.ru/url?sa=i&amp;rct=j&amp;q=&amp;esrc=s&amp;frm=1&amp;source=images&amp;cd=&amp;ved=0ahUKEwjLw77Lwa3JAhVKnnIKHY9aDhYQjRwIBw&amp;url=http%3A%2F%2Faleksandrova-el.ucoz.ru%2Findex%2Fklassnyj_ugolok%2F0-52&amp;psig=AFQjCNEnj4sAMq9bWL7QMpd_QzDzqgrZ_Q&amp;ust=1448606147982642&amp;cad=rjt" TargetMode="External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google.ru/url?sa=i&amp;rct=j&amp;q=&amp;esrc=s&amp;frm=1&amp;source=images&amp;cd=&amp;cad=rja&amp;uact=8&amp;ved=0CAcQjRxqFQoTCLb-lqWa9sgCFcoGLAod5MQOeA&amp;url=http%3A%2F%2Frybkovskaya.ru%2Fzakalivanie-rebenka%2F&amp;psig=AFQjCNFIE0QnkbRAIr__JXUq4P5kr5xTKg&amp;ust=1446705415368586" TargetMode="External"/><Relationship Id="rId3" Type="http://schemas.openxmlformats.org/officeDocument/2006/relationships/image" Target="../media/image14.png"/><Relationship Id="rId4" Type="http://schemas.openxmlformats.org/officeDocument/2006/relationships/hyperlink" Target="http://www.google.ru/url?sa=i&amp;rct=j&amp;q=&amp;esrc=s&amp;frm=1&amp;source=images&amp;cd=&amp;cad=rja&amp;uact=8&amp;ved=0CAcQjRxqFQoTCN7J8LWa9sgCFYmRLAodqgEBew&amp;url=http%3A%2F%2Fwww.zakalivanie.ru%2Fdetail.php%3FID%3D2921&amp;psig=AFQjCNFIE0QnkbRAIr__JXUq4P5kr5xTKg&amp;ust=1446705415368586" TargetMode="External"/><Relationship Id="rId5" Type="http://schemas.openxmlformats.org/officeDocument/2006/relationships/image" Target="../media/image15.png"/><Relationship Id="rId6" Type="http://schemas.openxmlformats.org/officeDocument/2006/relationships/hyperlink" Target="http://www.google.ru/url?sa=i&amp;rct=j&amp;q=&amp;esrc=s&amp;frm=1&amp;source=images&amp;cd=&amp;cad=rja&amp;uact=8&amp;ved=0CAcQjRxqFQoTCOTwgcGa9sgCFUVVLAodHxgCbQ&amp;url=http%3A%2F%2Fwww.zakalivanie.ru%2Fdetail.php%3FID%3D7030&amp;psig=AFQjCNFIE0QnkbRAIr__JXUq4P5kr5xTKg&amp;ust=1446705415368586" TargetMode="External"/><Relationship Id="rId7" Type="http://schemas.openxmlformats.org/officeDocument/2006/relationships/image" Target="../media/image16.png"/><Relationship Id="rId8" Type="http://schemas.openxmlformats.org/officeDocument/2006/relationships/hyperlink" Target="http://www.google.ru/url?sa=i&amp;rct=j&amp;q=&amp;esrc=s&amp;frm=1&amp;source=images&amp;cd=&amp;cad=rja&amp;uact=8&amp;ved=0CAcQjRxqFQoTCM3g0Mua9sgCFQmKLAoddPQDdA&amp;url=http%3A%2F%2Fwww.zakalivanie.ru%2Fdetail.php%3FID%3D3427&amp;psig=AFQjCNFIE0QnkbRAIr__JXUq4P5kr5xTKg&amp;ust=1446705415368586" TargetMode="External"/><Relationship Id="rId9" Type="http://schemas.openxmlformats.org/officeDocument/2006/relationships/image" Target="../media/image17.png"/><Relationship Id="rId10" Type="http://schemas.openxmlformats.org/officeDocument/2006/relationships/hyperlink" Target="http://www.google.ru/url?sa=i&amp;rct=j&amp;q=&amp;esrc=s&amp;frm=1&amp;source=images&amp;cd=&amp;ved=0ahUKEwjLw77Lwa3JAhVKnnIKHY9aDhYQjRwIBw&amp;url=http%3A%2F%2Faleksandrova-el.ucoz.ru%2Findex%2Fklassnyj_ugolok%2F0-52&amp;psig=AFQjCNEnj4sAMq9bWL7QMpd_QzDzqgrZ_Q&amp;ust=1448606147982642&amp;cad=rjt" TargetMode="External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ru/url?sa=i&amp;rct=j&amp;q=&amp;esrc=s&amp;frm=1&amp;source=images&amp;cd=&amp;ved=0ahUKEwjLw77Lwa3JAhVKnnIKHY9aDhYQjRwIBw&amp;url=http%3A%2F%2Faleksandrova-el.ucoz.ru%2Findex%2Fklassnyj_ugolok%2F0-52&amp;psig=AFQjCNEnj4sAMq9bWL7QMpd_QzDzqgrZ_Q&amp;ust=1448606147982642&amp;cad=rjt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iessay.ru/public/page_images/8070/pic%20(42).jpg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google.ru/url?sa=i&amp;rct=j&amp;q=&amp;esrc=s&amp;frm=1&amp;source=images&amp;cd=&amp;ved=0ahUKEwjLw77Lwa3JAhVKnnIKHY9aDhYQjRwIBw&amp;url=http%3A%2F%2Faleksandrova-el.ucoz.ru%2Findex%2Fklassnyj_ugolok%2F0-52&amp;psig=AFQjCNEnj4sAMq9bWL7QMpd_QzDzqgrZ_Q&amp;ust=1448606147982642&amp;cad=rjt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ogle.ru/url?sa=i&amp;rct=j&amp;q=&amp;esrc=s&amp;frm=1&amp;source=images&amp;cd=&amp;cad=rja&amp;uact=8&amp;ved=0CAcQjRxqFQoTCMmEj8eL9sgCFSKOcgod3iACNA&amp;url=http%3A%2F%2Fmansbest.ru%2Fzdorove-i-krasota-muzhchin%2Fkak-pravilno-myt-ruki.html&amp;psig=AFQjCNGQORnxXozsNLzWz3euk_ipmCWmpg&amp;ust=1446700127043808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google.ru/url?sa=i&amp;rct=j&amp;q=&amp;esrc=s&amp;frm=1&amp;source=images&amp;cd=&amp;cad=rja&amp;uact=8&amp;ved=0CAcQjRxqFQoTCPaLsKiy-8gCFcN-cgodJjcFzg&amp;url=http%3A%2F%2Fvk.com%2Fwall-12412274_858&amp;psig=AFQjCNE9TfD-Ry3RzBCUxQwPxAX8FflNkQ&amp;ust=1446884942331816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hyperlink" Target="http://www.google.ru/url?sa=i&amp;rct=j&amp;q=&amp;esrc=s&amp;frm=1&amp;source=images&amp;cd=&amp;ved=0ahUKEwjLw77Lwa3JAhVKnnIKHY9aDhYQjRwIBw&amp;url=http%3A%2F%2Faleksandrova-el.ucoz.ru%2Findex%2Fklassnyj_ugolok%2F0-52&amp;psig=AFQjCNEnj4sAMq9bWL7QMpd_QzDzqgrZ_Q&amp;ust=1448606147982642&amp;cad=rjt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ru/url?sa=i&amp;rct=j&amp;q=&amp;esrc=s&amp;frm=1&amp;source=images&amp;cd=&amp;cad=rja&amp;uact=8&amp;ved=0CAcQjRxqFQoTCPmBnrqf9sgCFYaPcgodQqwN6Q&amp;url=http%3A%2F%2Fvonyaet-izo-rta.blogspot.com%2F2011%2F10%2Fblog-post_6424.html&amp;psig=AFQjCNFHn-OK5f4kqeTbmhzHGuZxGiSqZw&amp;ust=1446708538141407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www.google.ru/url?sa=i&amp;rct=j&amp;q=&amp;esrc=s&amp;frm=1&amp;source=images&amp;cd=&amp;ved=0ahUKEwjLw77Lwa3JAhVKnnIKHY9aDhYQjRwIBw&amp;url=http%3A%2F%2Faleksandrova-el.ucoz.ru%2Findex%2Fklassnyj_ugolok%2F0-52&amp;psig=AFQjCNEnj4sAMq9bWL7QMpd_QzDzqgrZ_Q&amp;ust=1448606147982642&amp;cad=rjt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iessay.ru/public/page_images/8070/pic%20(45).jpg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ru/url?sa=i&amp;rct=j&amp;q=&amp;esrc=s&amp;frm=1&amp;source=images&amp;cd=&amp;ved=0ahUKEwjLw77Lwa3JAhVKnnIKHY9aDhYQjRwIBw&amp;url=http%3A%2F%2Faleksandrova-el.ucoz.ru%2Findex%2Fklassnyj_ugolok%2F0-52&amp;psig=AFQjCNEnj4sAMq9bWL7QMpd_QzDzqgrZ_Q&amp;ust=1448606147982642&amp;cad=rjt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oogle.ru/url?sa=i&amp;rct=j&amp;q=&amp;esrc=s&amp;frm=1&amp;source=images&amp;cd=&amp;cad=rja&amp;uact=8&amp;ved=0CAcQjRxqFQoTCMWrjvej9sgCFUEXLAod2WsAeQ&amp;url=http%3A%2F%2Fiessay.ru%2Fru%2Fother%2Fobzh%2Fstati%2Flichnaya-gigiena%2Fopryatnost-i-lichnaya-gigiena.-uhod-za-odezhdoj-i-obuvyu&amp;psig=AFQjCNFT3CHpFeFw0LV-qgybDhv9mr41Qw&amp;ust=1446709417815534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nashezdorovie.info/esli-xochesh-byt-zdorov.html" TargetMode="External"/><Relationship Id="rId2" Type="http://schemas.openxmlformats.org/officeDocument/2006/relationships/image" Target="../media/image29.png"/><Relationship Id="rId3" Type="http://schemas.openxmlformats.org/officeDocument/2006/relationships/hyperlink" Target="http://www.google.ru/url?sa=i&amp;rct=j&amp;q=&amp;esrc=s&amp;frm=1&amp;source=images&amp;cd=&amp;ved=0ahUKEwjLw77Lwa3JAhVKnnIKHY9aDhYQjRwIBw&amp;url=http%3A%2F%2Faleksandrova-el.ucoz.ru%2Findex%2Fklassnyj_ugolok%2F0-52&amp;psig=AFQjCNEnj4sAMq9bWL7QMpd_QzDzqgrZ_Q&amp;ust=1448606147982642&amp;cad=rjt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google.ru/url?sa=i&amp;rct=j&amp;q=&amp;esrc=s&amp;frm=1&amp;source=images&amp;cd=&amp;cad=rja&amp;uact=8&amp;ved=0CAcQjRxqFQoTCNqDu4SX98gCFYGocgod4eADcw&amp;url=http%3A%2F%2Fria56.ru%2Fposts%2F56345745785.htm&amp;bvm=bv.106674449,d.bGQ&amp;psig=AFQjCNFD3AW0QexrNHasKFWYJLa1Kgt9Sw&amp;ust=1446740567949995" TargetMode="External"/><Relationship Id="rId2" Type="http://schemas.openxmlformats.org/officeDocument/2006/relationships/image" Target="../media/image30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ru/url?sa=i&amp;rct=j&amp;q=&amp;esrc=s&amp;frm=1&amp;source=images&amp;cd=&amp;ved=0ahUKEwjLw77Lwa3JAhVKnnIKHY9aDhYQjRwIBw&amp;url=http%3A%2F%2Faleksandrova-el.ucoz.ru%2Findex%2Fklassnyj_ugolok%2F0-52&amp;psig=AFQjCNEnj4sAMq9bWL7QMpd_QzDzqgrZ_Q&amp;ust=1448606147982642&amp;cad=rjt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google.ru/url?sa=i&amp;rct=j&amp;q=&amp;esrc=s&amp;frm=1&amp;source=images&amp;cd=&amp;cad=rja&amp;uact=8&amp;ved=0CAcQjRxqFQoTCLz94OeU9sgCFeUlcgodxXcFgA&amp;url=http%3A%2F%2Fmpmo.ru%2Farchives%2F6687&amp;psig=AFQjCNFIE0QnkbRAIr__JXUq4P5kr5xTKg&amp;ust=1446705415368586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www.google.ru/url?sa=i&amp;rct=j&amp;q=&amp;esrc=s&amp;frm=1&amp;source=images&amp;cd=&amp;ved=0ahUKEwjLw77Lwa3JAhVKnnIKHY9aDhYQjRwIBw&amp;url=http%3A%2F%2Faleksandrova-el.ucoz.ru%2Findex%2Fklassnyj_ugolok%2F0-52&amp;psig=AFQjCNEnj4sAMq9bWL7QMpd_QzDzqgrZ_Q&amp;ust=1448606147982642&amp;cad=rjt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ru/url?sa=i&amp;rct=j&amp;q=&amp;esrc=s&amp;frm=1&amp;source=images&amp;cd=&amp;ved=0ahUKEwjLw77Lwa3JAhVKnnIKHY9aDhYQjRwIBw&amp;url=http%3A%2F%2Faleksandrova-el.ucoz.ru%2Findex%2Fklassnyj_ugolok%2F0-52&amp;psig=AFQjCNEnj4sAMq9bWL7QMpd_QzDzqgrZ_Q&amp;ust=1448606147982642&amp;cad=rjt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ru/url?sa=i&amp;rct=j&amp;q=&amp;esrc=s&amp;frm=1&amp;source=images&amp;cd=&amp;ved=0ahUKEwjLw77Lwa3JAhVKnnIKHY9aDhYQjRwIBw&amp;url=http%3A%2F%2Faleksandrova-el.ucoz.ru%2Findex%2Fklassnyj_ugolok%2F0-52&amp;psig=AFQjCNEnj4sAMq9bWL7QMpd_QzDzqgrZ_Q&amp;ust=1448606147982642&amp;cad=rjt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vospitaika.sosenka96.caduk.ru/p64aa1.html" TargetMode="External"/><Relationship Id="rId2" Type="http://schemas.openxmlformats.org/officeDocument/2006/relationships/image" Target="../media/image7.png"/><Relationship Id="rId3" Type="http://schemas.openxmlformats.org/officeDocument/2006/relationships/hyperlink" Target="http://www.google.ru/url?sa=i&amp;rct=j&amp;q=&amp;esrc=s&amp;frm=1&amp;source=images&amp;cd=&amp;ved=0ahUKEwjLw77Lwa3JAhVKnnIKHY9aDhYQjRwIBw&amp;url=http%3A%2F%2Faleksandrova-el.ucoz.ru%2Findex%2Fklassnyj_ugolok%2F0-52&amp;psig=AFQjCNEnj4sAMq9bWL7QMpd_QzDzqgrZ_Q&amp;ust=1448606147982642&amp;cad=rjt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1773360"/>
            <a:ext cx="8064720" cy="28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воё здоровье и личная гигиена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классный час - презентация</a:t>
            </a: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ассный час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 класс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63640" y="5516640"/>
            <a:ext cx="712944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атель: Амплеева Лариса Виктор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1285920" y="357120"/>
            <a:ext cx="75596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БОУ  школа-интернат  №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о. Сам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https://encrypted-tbn0.gstatic.com/images?q=tbn:ANd9GcRDfn0x1qFfN8CymSeGG-baMwmK5GvDdrpDveMF7kKP6CYHTDB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8640" y="3114720"/>
            <a:ext cx="22953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24000" y="1412640"/>
            <a:ext cx="8820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Закаливание</a:t>
            </a: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– один из способов сохранения и укрепления здоровья. Это система процедур, способствующих повышению сопротивляемости организма неблагоприятным воздействиям внешней сре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Если хочешь быть здоров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      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закаляйся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Прямоугольник 6" descr=""/>
          <p:cNvPicPr/>
          <p:nvPr/>
        </p:nvPicPr>
        <p:blipFill>
          <a:blip r:embed="rId1"/>
          <a:stretch/>
        </p:blipFill>
        <p:spPr>
          <a:xfrm>
            <a:off x="1547640" y="79200"/>
            <a:ext cx="5986800" cy="1189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закаливание детей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3068640"/>
            <a:ext cx="2054160" cy="3789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https://encrypted-tbn0.gstatic.com/images?q=tbn:ANd9GcRDfn0x1qFfN8CymSeGG-baMwmK5GvDdrpDveMF7kKP6CYHTDBy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908760" y="3213000"/>
            <a:ext cx="2235240" cy="3645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0" y="-360"/>
            <a:ext cx="9144000" cy="56134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, воздух и вода –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и   лучшие друзья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ими будем мы дружить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здоровыми нам быть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8" descr="http://s.picsfab.com/static/contents/images/a/8/4/bc270fab48da1acd0dc185ccd732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32000" y="3141720"/>
            <a:ext cx="3708360" cy="2590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http://www.12news.uz/wp-content/uploads/2015/09/b55f9b458e974fe1b2c7ed5b22a6e2d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141720"/>
            <a:ext cx="3525840" cy="2590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http://lib3.podelise.ru/tw_files2/urls_2/60/d-59407/59407_html_m7700d961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32720" y="0"/>
            <a:ext cx="2411280" cy="2674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https://encrypted-tbn0.gstatic.com/images?q=tbn:ANd9GcRDfn0x1qFfN8CymSeGG-baMwmK5GvDdrpDveMF7kKP6CYHTDBy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04000" y="3043080"/>
            <a:ext cx="2340000" cy="381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Прямоугольник 3" descr=""/>
          <p:cNvPicPr/>
          <p:nvPr/>
        </p:nvPicPr>
        <p:blipFill>
          <a:blip r:embed="rId1"/>
          <a:stretch/>
        </p:blipFill>
        <p:spPr>
          <a:xfrm>
            <a:off x="1403280" y="404640"/>
            <a:ext cx="5184720" cy="722520"/>
          </a:xfrm>
          <a:prstGeom prst="rect">
            <a:avLst/>
          </a:prstGeom>
          <a:ln w="0">
            <a:noFill/>
          </a:ln>
        </p:spPr>
      </p:pic>
      <p:sp>
        <p:nvSpPr>
          <p:cNvPr id="132" name="Скругленный прямоугольник 6"/>
          <p:cNvSpPr/>
          <p:nvPr/>
        </p:nvSpPr>
        <p:spPr>
          <a:xfrm>
            <a:off x="428760" y="1357200"/>
            <a:ext cx="28573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оздушные ван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8"/>
          <p:cNvSpPr/>
          <p:nvPr/>
        </p:nvSpPr>
        <p:spPr>
          <a:xfrm>
            <a:off x="3564000" y="3716280"/>
            <a:ext cx="3168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озированная физическая нагру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9"/>
          <p:cNvSpPr/>
          <p:nvPr/>
        </p:nvSpPr>
        <p:spPr>
          <a:xfrm>
            <a:off x="3780000" y="1341360"/>
            <a:ext cx="28573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одные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10"/>
          <p:cNvSpPr/>
          <p:nvPr/>
        </p:nvSpPr>
        <p:spPr>
          <a:xfrm>
            <a:off x="1908000" y="2492280"/>
            <a:ext cx="285768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лнечные ван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0" descr="http://rybkovskaya.ru/wp-content/uploads/2012/01/zdoroviy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64000" y="4797360"/>
            <a:ext cx="1904760" cy="2060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http://www.zakalivanie.ru/upload/iblock/ac5/zakalivanie.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58920" y="42210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http://www.zakalivanie.ru/upload/iblock/3eb/inventar.gif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020000" y="0"/>
            <a:ext cx="2124000" cy="2087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6" descr="http://www.zakalivanie.ru/upload/iblock/cc1/uprajneniya.gif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23493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https://encrypted-tbn0.gstatic.com/images?q=tbn:ANd9GcRDfn0x1qFfN8CymSeGG-baMwmK5GvDdrpDveMF7kKP6CYHTDBy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804000" y="3043080"/>
            <a:ext cx="2340000" cy="381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0" y="475920"/>
            <a:ext cx="914400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лнечные ванны можно принимать в любое время года.Это время игр, отдыха и прогул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аливание воздухом можно проводить в любую погоду, главное не переохлаждать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свежем воздухе нужно провод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менее 2-х часов в ден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аливание с помощью водны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дур включает в себ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тирание, обливание, душ, ванн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пание в бассейне и открыты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доем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5" descr="https://encrypted-tbn0.gstatic.com/images?q=tbn:ANd9GcRDfn0x1qFfN8CymSeGG-baMwmK5GvDdrpDveMF7kKP6CYHTDB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53400" y="3284640"/>
            <a:ext cx="2190600" cy="3573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Прямоугольник 1" descr=""/>
          <p:cNvPicPr/>
          <p:nvPr/>
        </p:nvPicPr>
        <p:blipFill>
          <a:blip r:embed="rId1"/>
          <a:stretch/>
        </p:blipFill>
        <p:spPr>
          <a:xfrm>
            <a:off x="1835280" y="189000"/>
            <a:ext cx="4803480" cy="718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0" y="907920"/>
            <a:ext cx="8748720" cy="56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0720" indent="-7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Гигиена кожи -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то уход за телом и содержание его в чисто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7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ож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– барьер для вирусов и микробов. Кожа должна быть чистой. Содержание кожи в чистоте достигается регулярным мыть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7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дополнительном уходе нуждаются наиболее   загрязняемые участк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7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ела: руки, лицо, ше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7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ог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7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д ногтям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7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казывается  95 %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7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сех микроб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7" descr="http://iessay.ru/public/page_images/8070/470x0-pic%20(42)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22560" y="3500280"/>
            <a:ext cx="5221440" cy="2776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8318520" cy="74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ля поддержания чистоты кожи нужно правильно умывать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.Подготовка к умыванию (мыло, полотенце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.Умываться лучше всего раздетым до пояс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3.Сначала хорошо с мылом вымыть руки под струей воды, проверить чистоту ног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4.Затем уже чистыми руками мыть лицо, уши, ше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5. После умывания следует вытереться насухо чистым, сухим полотенц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7" descr="http://alternativa-mc.ru/files/images/gig.jpg"/>
          <p:cNvPicPr/>
          <p:nvPr/>
        </p:nvPicPr>
        <p:blipFill>
          <a:blip r:embed="rId1"/>
          <a:stretch/>
        </p:blipFill>
        <p:spPr>
          <a:xfrm>
            <a:off x="0" y="3500280"/>
            <a:ext cx="4427640" cy="3357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https://encrypted-tbn0.gstatic.com/images?q=tbn:ANd9GcRDfn0x1qFfN8CymSeGG-baMwmK5GvDdrpDveMF7kKP6CYHTDB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77000" y="2997360"/>
            <a:ext cx="2367000" cy="3860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424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ильно ли вы моете руки?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13" descr="http://mansbest.ru/wp-content/uploads/2013/06/kak-pravilno-myt-ruki-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4680" y="941400"/>
            <a:ext cx="9148680" cy="5581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http://cs320218.vk.me/v320218783/31d9/u3N-3BHf8x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84720" y="3940200"/>
            <a:ext cx="3059280" cy="2917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50920" y="1000080"/>
            <a:ext cx="640872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Здоровые зубы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– это красивая улыбка, свежее дыхание и основа правильного пищеварения: хорошо пережеванная пища.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Что делать, чтобы были здоровые зубы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* Соблюдать режим, больше бывать на свежем воздухе, заниматься физкультурой, закаливани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авильно питаться : ежедневно организм  должен получать молоко или молочнокислые продукты, мясо, рыбу, черный хлеб, разнообразные овощи и фрукты во все сезоны  года. Приучать себя к твердой пище: это                                      укрепляет десна и зуб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* Полоскать рот после еды и чистить  зубы  утром и вечер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* Не реже 2 раз в год надо посещать стоматоло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Прямоугольник 3" descr=""/>
          <p:cNvPicPr/>
          <p:nvPr/>
        </p:nvPicPr>
        <p:blipFill>
          <a:blip r:embed="rId1"/>
          <a:stretch/>
        </p:blipFill>
        <p:spPr>
          <a:xfrm>
            <a:off x="963720" y="182520"/>
            <a:ext cx="7424640" cy="719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зубы чистим"/>
          <p:cNvPicPr/>
          <p:nvPr/>
        </p:nvPicPr>
        <p:blipFill>
          <a:blip r:embed="rId2"/>
          <a:stretch/>
        </p:blipFill>
        <p:spPr>
          <a:xfrm>
            <a:off x="6942240" y="907920"/>
            <a:ext cx="2201760" cy="2016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https://encrypted-tbn0.gstatic.com/images?q=tbn:ANd9GcRDfn0x1qFfN8CymSeGG-baMwmK5GvDdrpDveMF7kKP6CYHTDB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04000" y="3043080"/>
            <a:ext cx="2340000" cy="381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13840" y="356760"/>
            <a:ext cx="50007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Основные правила использования зубной щетк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. Перед чисткой и после чистки необходимо тщательно вымыть щетку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2. Щетка должна храниться щетиной вверх. Футляр щетки используется только для транспортировки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3. Не рекомендуется давать свою зубную щетку другим людя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4.Щетку необходимо менять, когда она изнашивается (1,5 – 2 месяца) или после инфекционных заболевани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5. Выбирайте с родителями зубную пасту со фтором. Фтор делает зубы более крепки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6. Чтобы правильно и тщательно почистить зубы, нужно не менее 3-х минут.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10" descr="http://2.bp.blogspot.com/-hP4RJkxflEU/Tq6xrmslwFI/AAAAAAAAABQ/xyoxdHU5FrA/s1600/1227441166_zub_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8640" y="0"/>
            <a:ext cx="2835360" cy="21337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2520" y="-183600"/>
            <a:ext cx="22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https://encrypted-tbn0.gstatic.com/images?q=tbn:ANd9GcRDfn0x1qFfN8CymSeGG-baMwmK5GvDdrpDveMF7kKP6CYHTDB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72360" y="2338560"/>
            <a:ext cx="2771640" cy="4519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0" y="980640"/>
            <a:ext cx="91440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дежда и обувь служат для защиты организма человека от     холода, жары, механических  воздействий, внешних загрязнений, а также выполняют эстетическую функц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дежда и обувь прежде все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олжны соответствовать твое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меру, быть удобными, 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ешать движен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Чтобы одежда и обувь дол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лужили – береги их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Прямоугольник 3" descr=""/>
          <p:cNvPicPr/>
          <p:nvPr/>
        </p:nvPicPr>
        <p:blipFill>
          <a:blip r:embed="rId1"/>
          <a:stretch/>
        </p:blipFill>
        <p:spPr>
          <a:xfrm>
            <a:off x="1133640" y="182520"/>
            <a:ext cx="7377120" cy="719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http://iessay.ru/public/page_images/8070/470x0-pic%20(45)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98960" y="2565360"/>
            <a:ext cx="4145040" cy="4292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1773360"/>
            <a:ext cx="8064720" cy="28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иблиотечный час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Как хорошо уметь читать»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из  серии классных часов «Твоё здоровье и …»)</a:t>
            </a: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ассный час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 «А» класс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63640" y="5516640"/>
            <a:ext cx="712944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атель: Амплеева Лариса Виктор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1285920" y="357120"/>
            <a:ext cx="75596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БОУ  школа-интернат  им. И. Е. Его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Новокуйбышев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https://encrypted-tbn0.gstatic.com/images?q=tbn:ANd9GcRDfn0x1qFfN8CymSeGG-baMwmK5GvDdrpDveMF7kKP6CYHTDB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8640" y="3114720"/>
            <a:ext cx="22953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79280" y="189000"/>
            <a:ext cx="8964720" cy="61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равила ухода за обувь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еди  за своей обувью. Содержи ее в чистоте. Ее надо чистить, если она влажная — следует просушить. Не надевайте мокрую одежду и обувь, это вредит здоровью. Не ходи целый день в спортивной обуви — кедах, кроссовках. Не забывай, что она предназначено для занятий спорт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7" descr="http://iessay.ru/public/page_images/8070/pic%20(46)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394080"/>
            <a:ext cx="9144000" cy="3463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Скругленный прямоугольник 3"/>
          <p:cNvSpPr/>
          <p:nvPr/>
        </p:nvSpPr>
        <p:spPr>
          <a:xfrm>
            <a:off x="642960" y="285840"/>
            <a:ext cx="75722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одвижный образ жизни – главная составляющая здоро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Выноска со стрелкой вверх 9"/>
          <p:cNvSpPr/>
          <p:nvPr/>
        </p:nvSpPr>
        <p:spPr>
          <a:xfrm>
            <a:off x="324000" y="1413000"/>
            <a:ext cx="2879640" cy="1511280"/>
          </a:xfrm>
          <a:prstGeom prst="upArrowCallout">
            <a:avLst>
              <a:gd name="adj1" fmla="val 25002"/>
              <a:gd name="adj2" fmla="val 25000"/>
              <a:gd name="adj3" fmla="val 25000"/>
              <a:gd name="adj4" fmla="val 70041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Утренняя заряд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Выноска со стрелкой вверх 11"/>
          <p:cNvSpPr/>
          <p:nvPr/>
        </p:nvSpPr>
        <p:spPr>
          <a:xfrm>
            <a:off x="395280" y="5013360"/>
            <a:ext cx="2952720" cy="1643040"/>
          </a:xfrm>
          <a:prstGeom prst="upArrowCallout">
            <a:avLst>
              <a:gd name="adj1" fmla="val 24995"/>
              <a:gd name="adj2" fmla="val 25001"/>
              <a:gd name="adj3" fmla="val 25000"/>
              <a:gd name="adj4" fmla="val 70041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одвижные иг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( в т. ч. и танц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Выноска со стрелкой вверх 12"/>
          <p:cNvSpPr/>
          <p:nvPr/>
        </p:nvSpPr>
        <p:spPr>
          <a:xfrm>
            <a:off x="3708360" y="1413000"/>
            <a:ext cx="1943280" cy="1295280"/>
          </a:xfrm>
          <a:prstGeom prst="upArrowCallout">
            <a:avLst>
              <a:gd name="adj1" fmla="val 25007"/>
              <a:gd name="adj2" fmla="val 25004"/>
              <a:gd name="adj3" fmla="val 25000"/>
              <a:gd name="adj4" fmla="val 70041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Активный отд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Выноска со стрелкой вверх 13"/>
          <p:cNvSpPr/>
          <p:nvPr/>
        </p:nvSpPr>
        <p:spPr>
          <a:xfrm>
            <a:off x="5940360" y="1413000"/>
            <a:ext cx="2808360" cy="1439640"/>
          </a:xfrm>
          <a:prstGeom prst="upArrowCallout">
            <a:avLst>
              <a:gd name="adj1" fmla="val 25001"/>
              <a:gd name="adj2" fmla="val 25007"/>
              <a:gd name="adj3" fmla="val 25000"/>
              <a:gd name="adj4" fmla="val 70041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Занятия спор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9" descr="http://nashezdorovie.info/wp-content/uploads/2014/06/byt_zdorovym-300x300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8360" y="2781360"/>
            <a:ext cx="2808360" cy="2784240"/>
          </a:xfrm>
          <a:prstGeom prst="rect">
            <a:avLst/>
          </a:prstGeom>
          <a:ln w="0">
            <a:noFill/>
          </a:ln>
        </p:spPr>
      </p:pic>
      <p:sp>
        <p:nvSpPr>
          <p:cNvPr id="171" name="Выноска со стрелкой вверх 7"/>
          <p:cNvSpPr/>
          <p:nvPr/>
        </p:nvSpPr>
        <p:spPr>
          <a:xfrm>
            <a:off x="3851280" y="5013360"/>
            <a:ext cx="2881440" cy="1584360"/>
          </a:xfrm>
          <a:prstGeom prst="upArrowCallout">
            <a:avLst>
              <a:gd name="adj1" fmla="val 25009"/>
              <a:gd name="adj2" fmla="val 24998"/>
              <a:gd name="adj3" fmla="val 25000"/>
              <a:gd name="adj4" fmla="val 70041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Уроки физ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https://encrypted-tbn0.gstatic.com/images?q=tbn:ANd9GcRDfn0x1qFfN8CymSeGG-baMwmK5GvDdrpDveMF7kKP6CYHTDB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48360" y="3278160"/>
            <a:ext cx="2195640" cy="3579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78920" y="428760"/>
            <a:ext cx="842508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ля сохранения и укрепления здоровья необходим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ести подвижный образ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Больше гулять на свежем воздух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блюдать правила личной гигие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ледить за состоянием своего здоровь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спользовать различные виды закаливающих     процедур в режиме д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13" descr="http://ria56.ru/uploads/images/zaryadk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689280"/>
            <a:ext cx="6324480" cy="3168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https://encrypted-tbn0.gstatic.com/images?q=tbn:ANd9GcRDfn0x1qFfN8CymSeGG-baMwmK5GvDdrpDveMF7kKP6CYHTDBy"/>
          <p:cNvPicPr/>
          <p:nvPr/>
        </p:nvPicPr>
        <p:blipFill>
          <a:blip r:embed="rId3"/>
          <a:stretch/>
        </p:blipFill>
        <p:spPr>
          <a:xfrm>
            <a:off x="6804000" y="3043080"/>
            <a:ext cx="2340000" cy="381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3225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945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23640" y="404280"/>
            <a:ext cx="8280360" cy="62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блюдение всех вышеперечисленных правил личной гигиены обеспечит крепкое здоровье и будет способствовать сохранению этой главной ценности челове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омни: Твое здоровье – в твоих руках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8" descr="http://iessay.ru/public/page_images/8065/pic%20(12).jpg"/>
          <p:cNvPicPr/>
          <p:nvPr/>
        </p:nvPicPr>
        <p:blipFill>
          <a:blip r:embed="rId1"/>
          <a:stretch/>
        </p:blipFill>
        <p:spPr>
          <a:xfrm>
            <a:off x="0" y="2997360"/>
            <a:ext cx="915984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331640" y="404280"/>
            <a:ext cx="6218280" cy="621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i="1" lang="ru-RU" sz="9600" spc="-1" strike="noStrike">
                <a:solidFill>
                  <a:srgbClr val="ff0000"/>
                </a:solidFill>
                <a:latin typeface="Georgia"/>
              </a:rPr>
              <a:t>Будьте здоровы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9" descr="http://oakotomina.ucoz.ru/depositphotos_2344469-Group-of-school-kids.jpg"/>
          <p:cNvPicPr/>
          <p:nvPr/>
        </p:nvPicPr>
        <p:blipFill>
          <a:blip r:embed="rId1"/>
          <a:stretch/>
        </p:blipFill>
        <p:spPr>
          <a:xfrm>
            <a:off x="826920" y="2997360"/>
            <a:ext cx="4608720" cy="3671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http://aleksandrova-el.ucoz.ru/69614617_03.png"/>
          <p:cNvPicPr/>
          <p:nvPr/>
        </p:nvPicPr>
        <p:blipFill>
          <a:blip r:embed="rId2"/>
          <a:stretch/>
        </p:blipFill>
        <p:spPr>
          <a:xfrm>
            <a:off x="6659640" y="1974960"/>
            <a:ext cx="2484360" cy="4378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1773360"/>
            <a:ext cx="8064720" cy="28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воё здоровье и личная гигиена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из  серии классных часов «Твоё здоровье и …»)</a:t>
            </a: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ассный час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 «А» класс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63640" y="5516640"/>
            <a:ext cx="712944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атель: Амплеева Лариса Виктор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родкова Людмила Александровн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1285920" y="357120"/>
            <a:ext cx="75596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БОУ  школа-интернат  им. И. Е. Его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Новокуйбышев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https://encrypted-tbn0.gstatic.com/images?q=tbn:ANd9GcRDfn0x1qFfN8CymSeGG-baMwmK5GvDdrpDveMF7kKP6CYHTDB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8640" y="3114720"/>
            <a:ext cx="22953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1773360"/>
            <a:ext cx="8064720" cy="28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иблиотечный классный час</a:t>
            </a:r>
            <a:br>
              <a:rPr sz="28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763640" y="5516640"/>
            <a:ext cx="712944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атель: Амплеева Лариса Виктор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285920" y="357120"/>
            <a:ext cx="75596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БОУ  школа-интернат  им. И. Е. Его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Новокуйбышев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5" descr=""/>
          <p:cNvPicPr/>
          <p:nvPr/>
        </p:nvPicPr>
        <p:blipFill>
          <a:blip r:embed="rId1"/>
          <a:stretch/>
        </p:blipFill>
        <p:spPr>
          <a:xfrm>
            <a:off x="6012000" y="1268280"/>
            <a:ext cx="31320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ямоугольник 3" descr=""/>
          <p:cNvPicPr/>
          <p:nvPr/>
        </p:nvPicPr>
        <p:blipFill>
          <a:blip r:embed="rId1"/>
          <a:stretch/>
        </p:blipFill>
        <p:spPr>
          <a:xfrm>
            <a:off x="611280" y="0"/>
            <a:ext cx="7561080" cy="2565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http://mpmo.ru/content/2015/03/%D0%91%D1%83%D0%B4%D1%8C-%D0%B7%D0%B4%D0%BE%D1%80%D0%BE%D0%B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852640"/>
            <a:ext cx="5110200" cy="3797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https://encrypted-tbn0.gstatic.com/images?q=tbn:ANd9GcRDfn0x1qFfN8CymSeGG-baMwmK5GvDdrpDveMF7kKP6CYHTDBy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48640" y="2708280"/>
            <a:ext cx="2295360" cy="3743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285480"/>
            <a:ext cx="822960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Georgia"/>
              </a:rPr>
              <a:t>Цел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.сформировать ценное отношение к своему здоровью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.сформировать представление о том, как можно сохранить и укрепить свое здоровье, соблюдая личную гигиену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3.ознакомить с различными формами гигиенических процеду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https://encrypted-tbn0.gstatic.com/images?q=tbn:ANd9GcRDfn0x1qFfN8CymSeGG-baMwmK5GvDdrpDveMF7kKP6CYHTDB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08760" y="3213000"/>
            <a:ext cx="2235240" cy="3645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4000" y="4365360"/>
            <a:ext cx="418608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Соблюдение правил личной гигиены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– эффективный и доступный метод укрепления и сохранения здоровь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3"/>
          <p:cNvSpPr/>
          <p:nvPr/>
        </p:nvSpPr>
        <p:spPr>
          <a:xfrm>
            <a:off x="324000" y="333360"/>
            <a:ext cx="410364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Главным сокровищем жизни является не земли, которые ты завоевал. не богатства, которые у тебя в сундуках…главным сокровищем жизни является здоровье и чтобы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его сохранить, надо многое знать»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ицен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http://hexrb.mybb.ru/uploads/000e/c9/67/5377-1.gif"/>
          <p:cNvPicPr/>
          <p:nvPr/>
        </p:nvPicPr>
        <p:blipFill>
          <a:blip r:embed="rId1"/>
          <a:stretch/>
        </p:blipFill>
        <p:spPr>
          <a:xfrm>
            <a:off x="5108400" y="260280"/>
            <a:ext cx="3881520" cy="6337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Скругленный прямоугольник 6"/>
          <p:cNvSpPr/>
          <p:nvPr/>
        </p:nvSpPr>
        <p:spPr>
          <a:xfrm>
            <a:off x="324000" y="189000"/>
            <a:ext cx="33112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доров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9"/>
          <p:cNvSpPr/>
          <p:nvPr/>
        </p:nvSpPr>
        <p:spPr>
          <a:xfrm>
            <a:off x="3924360" y="5732640"/>
            <a:ext cx="295128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ить лекар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10"/>
          <p:cNvSpPr/>
          <p:nvPr/>
        </p:nvSpPr>
        <p:spPr>
          <a:xfrm>
            <a:off x="3924360" y="4653000"/>
            <a:ext cx="2952720" cy="933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доровый ду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12"/>
          <p:cNvSpPr/>
          <p:nvPr/>
        </p:nvSpPr>
        <p:spPr>
          <a:xfrm>
            <a:off x="324000" y="1197000"/>
            <a:ext cx="3384360" cy="105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здоровом теле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13"/>
          <p:cNvSpPr/>
          <p:nvPr/>
        </p:nvSpPr>
        <p:spPr>
          <a:xfrm>
            <a:off x="324000" y="3500280"/>
            <a:ext cx="3384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Лучше дышать свежим воздухом,ч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14"/>
          <p:cNvSpPr/>
          <p:nvPr/>
        </p:nvSpPr>
        <p:spPr>
          <a:xfrm>
            <a:off x="395280" y="2421000"/>
            <a:ext cx="3313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уществует тысячи болезней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15"/>
          <p:cNvSpPr/>
          <p:nvPr/>
        </p:nvSpPr>
        <p:spPr>
          <a:xfrm flipH="1">
            <a:off x="3923640" y="189000"/>
            <a:ext cx="216036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доровье только о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16"/>
          <p:cNvSpPr/>
          <p:nvPr/>
        </p:nvSpPr>
        <p:spPr>
          <a:xfrm>
            <a:off x="324000" y="4653000"/>
            <a:ext cx="338436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доров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ый прямоугольник 17"/>
          <p:cNvSpPr/>
          <p:nvPr/>
        </p:nvSpPr>
        <p:spPr>
          <a:xfrm>
            <a:off x="3924360" y="3429000"/>
            <a:ext cx="28796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ждый день празд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ый прямоугольник 19"/>
          <p:cNvSpPr/>
          <p:nvPr/>
        </p:nvSpPr>
        <p:spPr>
          <a:xfrm>
            <a:off x="324000" y="5732640"/>
            <a:ext cx="3456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доров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ый прямоугольник 20"/>
          <p:cNvSpPr/>
          <p:nvPr/>
        </p:nvSpPr>
        <p:spPr>
          <a:xfrm>
            <a:off x="3924360" y="2421000"/>
            <a:ext cx="285732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ороже зол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21"/>
          <p:cNvSpPr/>
          <p:nvPr/>
        </p:nvSpPr>
        <p:spPr>
          <a:xfrm>
            <a:off x="3924360" y="1268280"/>
            <a:ext cx="2879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4f81b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 деньги не купи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https://encrypted-tbn0.gstatic.com/images?q=tbn:ANd9GcRDfn0x1qFfN8CymSeGG-baMwmK5GvDdrpDveMF7kKP6CYHTDB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08760" y="3213000"/>
            <a:ext cx="2235240" cy="3645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050920" y="333000"/>
            <a:ext cx="55008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Личная гигиена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это в том числе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каливани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гигиена кож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гигиена зубов и полости рт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гигиена одежды и обув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движный образ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http://vospitaika.sosenka96.caduk.ru/images/losh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114720"/>
            <a:ext cx="2340000" cy="3743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https://encrypted-tbn0.gstatic.com/images?q=tbn:ANd9GcRDfn0x1qFfN8CymSeGG-baMwmK5GvDdrpDveMF7kKP6CYHTDB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08760" y="3213000"/>
            <a:ext cx="2235240" cy="3645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3:16:24Z</dcterms:created>
  <dc:creator>жежик</dc:creator>
  <dc:description/>
  <dc:language>en-US</dc:language>
  <cp:lastModifiedBy>Marie</cp:lastModifiedBy>
  <dcterms:modified xsi:type="dcterms:W3CDTF">2020-05-22T16:14:49Z</dcterms:modified>
  <cp:revision>241</cp:revision>
  <dc:subject/>
  <dc:title>Слайд 1</dc:title>
</cp:coreProperties>
</file>