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616-3C48-4324-8781-D5D683BC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12F-31B2-4595-9DEE-1D3BE82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A22-A06F-402E-9317-55CA4FE6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E72-6BB7-48CE-812D-ACF5C1C9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90F-3777-4D26-A1AF-CDACAF12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4205-8593-4C1C-9148-2F87A33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5C3-EDF7-42C2-BB06-81128D3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BC8-E216-4DFD-9460-05765DF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BBB-E4D9-42BC-A159-94552A23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008A-959E-4556-95D1-53784BF2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61C3-1137-4165-AFBA-3AE4165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968-1B05-49F7-8905-5C39BA70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951-265C-4749-80D1-6E7E414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0135-0500-48D8-AAE1-A49FBD5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5333-208E-48CD-B1E5-A97C5A4E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76E-5554-4881-97B7-DE2584B8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B1D2-0CFF-418A-8A78-B082BE93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D3B-C612-4630-96E4-7B7173E1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CC90-843D-483A-BC5B-EEED562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5757-F82D-4633-9BDD-24D44C5F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C315-A213-4F48-A08A-D9AAF04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1507-BB3B-4D76-93B3-0EF18F6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DDF-CFBE-4253-91FA-A41720EC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73E7-719F-4700-A959-366F634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AF4A-D4DB-47F1-9789-A5E9659C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2BD9-C8B4-4084-8D65-23820EE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4486-2D45-4ADC-B55D-6DFFCAD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6CA3-8472-418E-BC4E-8DA2690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5EED-30C3-4C26-8375-169756B3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5123-54AC-4046-BD85-334BA457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5ADF8-FCDF-408A-8CF4-2121878A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958F-5442-4250-9809-D8604E0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05DB-2C00-4462-AE27-3ED1345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C55-5776-4FBF-BD19-CD78558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1E7E-4AE3-4048-A9D5-2858325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7887-1D3F-4886-AF01-11FE4E7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477F-7481-4086-A575-E0D86AE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BC6D-939B-42EE-BDA4-BC70098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6EE5-030B-4606-A3B2-CDE194C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30D9-AA78-42E8-9818-6C5B5A1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0C5F-86CB-4ADA-99CB-8DFE948F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E407-A3F2-46AB-9559-B172172E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7CB4-3C82-489C-9F89-56660037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FE0-CA8A-44C2-979E-F2C1A15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D6F-BA22-48D3-857A-3EB1CAD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79E-9098-49B3-8266-9314E37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060-2098-44E3-9BCA-2846115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2DA-9B3C-41AB-8645-61ABBD6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17B1-75D1-4844-8075-F048929F3EA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C372-AD08-436C-A1BD-AF3CB4FB5A7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C90-09A7-4BEC-A461-7A3B951EAB5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88B-CB29-467B-8441-05E592B1B82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города Абакана «Детский сад «Иванушка»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303e"/>
                </a:solidFill>
                <a:latin typeface="Constantia"/>
              </a:rPr>
              <a:t>Познавательное развитие: ФЭМ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303e"/>
                </a:solidFill>
                <a:latin typeface="Constantia"/>
              </a:rPr>
              <a:t>Тема: «Ориентировка в пространстве (различать  пространственное направление от себя: вверху – внизу)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Никипелова Т.А.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воспитатель младшей групп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95816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нятие «Вверху-внизу»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и скажите ребенку, что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ерх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ка находятся – елочка и морков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и скажите ребенку, что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з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ка находится  - зайч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4" descr="422 (2).png"/>
          <p:cNvPicPr/>
          <p:nvPr/>
        </p:nvPicPr>
        <p:blipFill>
          <a:blip r:embed="rId1"/>
          <a:stretch/>
        </p:blipFill>
        <p:spPr>
          <a:xfrm>
            <a:off x="4106880" y="1776240"/>
            <a:ext cx="4048200" cy="4372200"/>
          </a:xfrm>
          <a:prstGeom prst="rect">
            <a:avLst/>
          </a:prstGeom>
          <a:ln w="0">
            <a:noFill/>
          </a:ln>
        </p:spPr>
      </p:pic>
      <p:cxnSp>
        <p:nvCxnSpPr>
          <p:cNvPr id="200" name="Скругленная соединительная линия 8"/>
          <p:cNvCxnSpPr/>
          <p:nvPr/>
        </p:nvCxnSpPr>
        <p:spPr>
          <a:xfrm flipV="1">
            <a:off x="2214720" y="2499840"/>
            <a:ext cx="5286960" cy="929520"/>
          </a:xfrm>
          <a:prstGeom prst="curvedConnector5">
            <a:avLst>
              <a:gd name="adj1" fmla="val 49996"/>
              <a:gd name="adj2" fmla="val 49980"/>
              <a:gd name="adj3" fmla="val 49996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1" name="Скругленная соединительная линия 10"/>
          <p:cNvCxnSpPr/>
          <p:nvPr/>
        </p:nvCxnSpPr>
        <p:spPr>
          <a:xfrm flipV="1">
            <a:off x="3357720" y="2571120"/>
            <a:ext cx="1000800" cy="50076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2" name="Скругленная соединительная линия 12"/>
          <p:cNvCxnSpPr/>
          <p:nvPr/>
        </p:nvCxnSpPr>
        <p:spPr>
          <a:xfrm flipV="1">
            <a:off x="1643040" y="4857120"/>
            <a:ext cx="2929680" cy="92916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могите малыш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785760" y="1285560"/>
            <a:ext cx="490068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6000"/>
          </a:bodyPr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кажи котятам, где у шкафа верх, а где низ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моги малышам положить шапки на верхнюю полку, а обувь убрать на нижнюю пол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9" descr="093 (2).jpg"/>
          <p:cNvPicPr/>
          <p:nvPr/>
        </p:nvPicPr>
        <p:blipFill>
          <a:blip r:embed="rId1"/>
          <a:stretch/>
        </p:blipFill>
        <p:spPr>
          <a:xfrm>
            <a:off x="4429080" y="2514600"/>
            <a:ext cx="4286160" cy="3846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1499760"/>
            <a:ext cx="2471760" cy="71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Вверху - внизу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12" descr="092.jpg"/>
          <p:cNvPicPr/>
          <p:nvPr/>
        </p:nvPicPr>
        <p:blipFill>
          <a:blip r:embed="rId2"/>
          <a:stretch/>
        </p:blipFill>
        <p:spPr>
          <a:xfrm>
            <a:off x="357120" y="2357280"/>
            <a:ext cx="35575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мотри внимательно рисунок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епляем понятия: «Вверху-внизу», «Один – много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8400" y="128556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 и покажи, кто находится вверх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у плавает рыб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 и покажи, что находится внизу картин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у, на дне моря, лежат камушки с водоросл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а дне моря камуше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дне моря много камуше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сколько на дне моря камушек?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прос для тех кто умеет счита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моря пять кам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сколько рыбок в море?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то вопрос для тех кто умеет считат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ре одна рыб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Содержимое 4" descr="422 (3).png"/>
          <p:cNvPicPr/>
          <p:nvPr/>
        </p:nvPicPr>
        <p:blipFill>
          <a:blip r:embed="rId1"/>
          <a:stretch/>
        </p:blipFill>
        <p:spPr>
          <a:xfrm>
            <a:off x="4714920" y="1676520"/>
            <a:ext cx="4143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101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Внимательно посмотри на рисунок.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и назови что находится внизу, а что вверх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у находится солнышко, туч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у находятся грибы, пенек, гусеница, елоч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Содержимое 4" descr="img12 (2).jpg"/>
          <p:cNvPicPr/>
          <p:nvPr/>
        </p:nvPicPr>
        <p:blipFill>
          <a:blip r:embed="rId1"/>
          <a:stretch/>
        </p:blipFill>
        <p:spPr>
          <a:xfrm>
            <a:off x="3857760" y="1714680"/>
            <a:ext cx="50004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8152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Рассмотри внимательно картинку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1676520"/>
            <a:ext cx="3286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и скажи, кто на картинке вверху, а кто внизу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инке вверху: - летит птичка; -плывет по небу облако; -летит бабоч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инке внизу: - растут грибы и цветы; - идет ежик; -растет трав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4" descr="94904457_large_Testuy62 (2).jpg"/>
          <p:cNvPicPr/>
          <p:nvPr/>
        </p:nvPicPr>
        <p:blipFill>
          <a:blip r:embed="rId1"/>
          <a:stretch/>
        </p:blipFill>
        <p:spPr>
          <a:xfrm>
            <a:off x="4340160" y="1714680"/>
            <a:ext cx="430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8152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моги медвежонк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7146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медвежонку расставить игрушки н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жнюю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ку, а банки с медом и вареньем – н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хнюю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4" descr="04labkuv61313602663.jpg"/>
          <p:cNvPicPr/>
          <p:nvPr/>
        </p:nvPicPr>
        <p:blipFill>
          <a:blip r:embed="rId1"/>
          <a:stretch/>
        </p:blipFill>
        <p:spPr>
          <a:xfrm>
            <a:off x="4078440" y="1676520"/>
            <a:ext cx="4105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101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Calibri"/>
              </a:rPr>
              <a:t>Рассмотри внимательно картинку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428840"/>
            <a:ext cx="2886120" cy="48196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картинке нарисован выше зайч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картинке выше зайчика нарисованы бабочка и пчел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картинке нарисован ниже зайч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картине ниже зайчика нарисованы цыплят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инке покажи и назови всех насеко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Пчела и бабочка это насекомы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hello_html_m20143ac6.jpg"/>
          <p:cNvPicPr/>
          <p:nvPr/>
        </p:nvPicPr>
        <p:blipFill>
          <a:blip r:embed="rId1"/>
          <a:stretch/>
        </p:blipFill>
        <p:spPr>
          <a:xfrm>
            <a:off x="4071960" y="1571760"/>
            <a:ext cx="48578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88688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Calibri"/>
              </a:rPr>
              <a:t>Внимательно посмотри на картинку </a:t>
            </a:r>
            <a:br>
              <a:rPr sz="2600"/>
            </a:br>
            <a:r>
              <a:rPr b="1" lang="ru-RU" sz="2600" spc="-1" strike="noStrike">
                <a:solidFill>
                  <a:srgbClr val="04617b"/>
                </a:solidFill>
                <a:latin typeface="Calibri"/>
              </a:rPr>
              <a:t>и ответь на вопросы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3500280" cy="5000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то стоит на самой верхней полке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самой верхней полке стоят игрушки неваляшка и пирамидк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то стоит на самой нижней полке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самой нижней полке стоит (лежит) барабан и юл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осчитай сколько  всего игрушек стоит на полках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(это вопрос для тех, кто умеет считать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полках восемь игрушек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осчитай сколько игрушек стоит на самой верхней полке, на самой нижней полке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(это вопрос для тех, кто умеет считать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а самой верхней полке две игрушки. На самой нижней полке две игрушк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кажи и назови на рисунке предметы круглой форм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твет. 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Предметы круглой формы это неваляшка, мяч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Содержимое 4" descr="img6 (2).jpg"/>
          <p:cNvPicPr/>
          <p:nvPr/>
        </p:nvPicPr>
        <p:blipFill>
          <a:blip r:embed="rId1"/>
          <a:stretch/>
        </p:blipFill>
        <p:spPr>
          <a:xfrm>
            <a:off x="3892680" y="1676520"/>
            <a:ext cx="447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7T06:52:04Z</dcterms:created>
  <dc:creator>Таня</dc:creator>
  <dc:description/>
  <dc:language>en-US</dc:language>
  <cp:lastModifiedBy>Таня</cp:lastModifiedBy>
  <dcterms:modified xsi:type="dcterms:W3CDTF">2020-05-16T13:08:29Z</dcterms:modified>
  <cp:revision>51</cp:revision>
  <dc:subject/>
  <dc:title>Познавательное развитие: ФЭМП</dc:title>
</cp:coreProperties>
</file>