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0.jpeg" ContentType="image/jpeg"/>
  <Override PartName="/ppt/media/image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62A3-EA0B-4B41-9D10-C97AC4C46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D4EC-B69E-401F-874B-66695677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914E-986E-42EE-A539-56868223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C36A-DEA0-458B-A191-0F7B10E3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82D7-13D4-46DA-9691-9B7244A1C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2D86-6345-4852-BE18-21EDF712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BDE8-BCE4-4E12-A5D1-BAB87A59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6D3A-A3A5-4DE4-AD18-B5BD43EC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6027-46F3-4085-83B1-3E12DD8D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F49A-092E-4D62-A40D-2FE9D15E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FC2A-A459-4E3A-9D75-9ADB9DBA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C622-B591-471A-B77B-70EC5FCF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C870-95E5-431B-8681-DA1978EC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A74A-C4F0-4655-A2C8-CEF1369F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61BF-A78D-471F-8F7E-12C22E03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CF7A-D64C-4C42-B777-1E7B8ECA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4DAC-A30C-40A7-BD29-F72A859C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8EF255-4F3C-4244-8B99-BE8BEA4F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5A5B7A-E170-4A5D-91EB-026F6527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DCF1E2-417F-4D8F-AF62-92CA30F6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FE354E-A5C0-4149-8BF8-393DE7A8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FD1EC8-83AB-4563-9FB7-4E2D3FA1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C632-8180-4629-80B8-B39C639A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3190A2-ABC8-4767-A75E-F597BF67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5A076A-770B-4AC8-BA1E-6A5C3307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0F91B2-2BD4-481A-80DC-62CFC68B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879B2D-DB58-4395-8704-ACCCFFDC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D06286-2C00-4DFE-B7B1-4F2C49F4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720CC8-3D99-425E-A3B5-8677893B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39135C-3999-4722-9500-93C5273B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196B5-FEC2-493E-B21D-1C56873A5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3D8BB-66F0-4EF3-B78C-7F8D2147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F4226-57A4-4638-9FEC-18A8BB41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0786-0D1D-442E-8971-291BF0F4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58FD2-17D6-48AD-8B38-F5ECC365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F3A81-2581-47DA-BD84-B9EACA6E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ABAFF-E8CE-4DE7-B2A1-326CA6A6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49DB5-65E9-4F96-8E56-477F54EF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567E0-2208-487B-A255-32992BAA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FC999-BA8C-45A4-8481-539EBE03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B0660-8AC5-486D-8AEE-7AA23EC9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80FF6-9F7F-449F-8935-6E83766F7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E73B8-0804-48E6-BD38-76505E05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2439BE-543F-46BF-A0FC-CEDD2652D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379F-F1E7-4C4E-9B4E-D9244C9D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D3915B-A46F-4F82-AF50-11E9AFF3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52AD93-EAF5-4E34-BEF0-EA8329E2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DB7671-64F3-486C-BC5B-80FBDA3C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DA2484-4365-40E9-886E-A9968898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6AFB17-5DCF-4316-97F3-37EC6BFD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E33C3B-D27E-41C1-9558-72103D49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123030-ED72-4307-8A27-4393E5D1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457DF1-3055-4B95-8196-D2381F34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AF35DE-10D8-4A0C-A9C1-C459DED8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5265B2-F9A4-4AB9-8FD8-F374195C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33F4-45F6-4DB1-A835-279EDCD4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CCAF29-6A0F-4AC8-BE84-99CB0EA6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C6299F-6906-410A-8641-E15F83ED4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298E83-C573-4969-9697-8FAC9A67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B0F908-B9D2-4F70-80C1-9DF2F089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3224B9-BE2A-4990-A8C5-E08D6E66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459D7A-4DAA-47AB-90F7-3DA1822E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B37AAB-7F5C-42F1-ABB6-1EEDE6EA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60D413-860C-4FD4-AB92-6F443555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8A5BF7-6129-490C-8189-587FB3E6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42AF45-13AC-427B-A458-76EEED07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EF21-60F6-4266-9361-EED83742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639854-8C9A-451F-AD8E-5C3783D2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598D95-68DC-4B24-8829-54C2281D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94DF98-EDBA-484A-942C-CBEEDDEDE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286FCC-9BDE-4F4A-BDAA-7A177EBD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CE5780-D8AF-47F5-98C9-44192F43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62C120-6C60-4230-800E-74F82588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A29D9B-9E38-4A3E-9BC4-7F26ECEF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F0D97A-3136-4CB1-88FF-6494CF1A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E774D9-2CAD-4295-9130-9FAC6F1B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69AD24-ABFF-4CA3-913B-FB7ED545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09E8-7B16-4C13-A507-85E48AD6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A15595-2400-4E35-BC3D-36737903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36C91B-5C21-482E-B174-CAE9DE1D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A24789-4320-4578-9ED8-592F4EAF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8799A2-88F2-4384-93FC-A0D25E7D9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503219-19DF-4C80-B5C1-0A2DB51AB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1B10-FBC7-4EAA-9248-D1275277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2C35-7BF1-4CBF-ADBD-C89F14BFEEF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3CE4-AD56-4212-8AB3-427DE17A14F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F9F0-8FCD-4A02-9096-6F932A480E4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411B-E098-4467-884E-F39E2D410FE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B138-EEAB-44E6-8203-F49A788DAC2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E6C2-AA10-46CE-8CCC-E277044203E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67D0-EAF0-42AC-9EFC-1AAF0012C94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УРОК ЛИТЕРАТУРНОГО ЧТЕНИЯ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C:\Documents and Settings\Илья\Мои документы\Мои рисунки\Рисунок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C:\Users\Светлана\Documents\chuk_dacha.jpg"/>
          <p:cNvPicPr/>
          <p:nvPr/>
        </p:nvPicPr>
        <p:blipFill>
          <a:blip r:embed="rId2"/>
          <a:stretch/>
        </p:blipFill>
        <p:spPr>
          <a:xfrm>
            <a:off x="4267080" y="609480"/>
            <a:ext cx="4470480" cy="3353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73" name="Прямоугольник 4"/>
          <p:cNvSpPr/>
          <p:nvPr/>
        </p:nvSpPr>
        <p:spPr>
          <a:xfrm>
            <a:off x="152280" y="457200"/>
            <a:ext cx="4191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сорока минутах езды от Москвы, в одном из красивых уголков Подмосковья –            в поселке Переделкино, среди берез и сосен, в небольшом загородном доме много лет жил высокий седой человек, которого знали не только все дети поселка, но и маленькие жители Москвы и всей страны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В гостях у сказки-Приходите в гости к нам....mp3" descr=""/>
          <p:cNvPicPr/>
          <p:nvPr/>
        </p:nvPicPr>
        <p:blipFill>
          <a:blip r:embed="rId3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Picture 3" descr="C:\Users\Светлана\Documents\images100251b.jpg"/>
          <p:cNvPicPr/>
          <p:nvPr/>
        </p:nvPicPr>
        <p:blipFill>
          <a:blip r:embed="rId1"/>
          <a:stretch/>
        </p:blipFill>
        <p:spPr>
          <a:xfrm>
            <a:off x="1987560" y="233280"/>
            <a:ext cx="4097160" cy="6351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8" name="Picture 4" descr="C:\Users\Светлана\Documents\chukovskij.v.gostjah.u.detej.avi.image2.jpg"/>
          <p:cNvPicPr/>
          <p:nvPr/>
        </p:nvPicPr>
        <p:blipFill>
          <a:blip r:embed="rId1"/>
          <a:stretch/>
        </p:blipFill>
        <p:spPr>
          <a:xfrm>
            <a:off x="241200" y="372960"/>
            <a:ext cx="8075880" cy="6100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0" name="Picture 5" descr="C:\Users\Светлана\Documents\chukovskij.v.gostjah.u.detej.avi.image4.jpg"/>
          <p:cNvPicPr/>
          <p:nvPr/>
        </p:nvPicPr>
        <p:blipFill>
          <a:blip r:embed="rId1"/>
          <a:stretch/>
        </p:blipFill>
        <p:spPr>
          <a:xfrm>
            <a:off x="965160" y="1600200"/>
            <a:ext cx="6451560" cy="4873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БИБЛИОТЕКА В ПЕРЕДЕЛКИНО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712980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792000" y="907920"/>
            <a:ext cx="7101000" cy="47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6" name="Picture 3" descr=""/>
          <p:cNvPicPr/>
          <p:nvPr/>
        </p:nvPicPr>
        <p:blipFill>
          <a:blip r:embed="rId1"/>
          <a:stretch/>
        </p:blipFill>
        <p:spPr>
          <a:xfrm>
            <a:off x="692280" y="1413000"/>
            <a:ext cx="70484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йболит                                    разбойник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армалей                                  бабушк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Федора                                      доктор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ракула                                   акула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186840"/>
            <a:ext cx="746748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94920" y="1484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йболит                                    разбойник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армалей                                  бабушк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Федора                                      доктор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ракула                                   акула      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91" name="Прямая со стрелкой 4"/>
          <p:cNvCxnSpPr/>
          <p:nvPr/>
        </p:nvCxnSpPr>
        <p:spPr>
          <a:xfrm flipV="1">
            <a:off x="2195640" y="2923920"/>
            <a:ext cx="3456720" cy="1010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92" name="Прямая со стрелкой 6"/>
          <p:cNvCxnSpPr/>
          <p:nvPr/>
        </p:nvCxnSpPr>
        <p:spPr>
          <a:xfrm>
            <a:off x="2268360" y="1916280"/>
            <a:ext cx="3456720" cy="2018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93" name="Прямая со стрелкой 8"/>
          <p:cNvCxnSpPr/>
          <p:nvPr/>
        </p:nvCxnSpPr>
        <p:spPr>
          <a:xfrm flipV="1">
            <a:off x="2700360" y="1988640"/>
            <a:ext cx="2952000" cy="9360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94" name="Прямая со стрелкой 10"/>
          <p:cNvCxnSpPr/>
          <p:nvPr/>
        </p:nvCxnSpPr>
        <p:spPr>
          <a:xfrm>
            <a:off x="2627280" y="4797000"/>
            <a:ext cx="2953440" cy="10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0000"/>
                </a:solidFill>
                <a:latin typeface="Century Schoolbook"/>
              </a:rPr>
              <a:t>ЦЕЛЬ: </a:t>
            </a: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БОЛЬШЕ УЗНАТЬ…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6" name="Picture 5" descr="http://t0.gstatic.com/images?q=tbn:ANd9GcS8RmYF-2pzg28Ocn8qljs91rrD-STrACBR38Nkv4mcKFbX3FSCgg"/>
          <p:cNvPicPr/>
          <p:nvPr/>
        </p:nvPicPr>
        <p:blipFill>
          <a:blip r:embed="rId1"/>
          <a:stretch/>
        </p:blipFill>
        <p:spPr>
          <a:xfrm>
            <a:off x="4643280" y="2349360"/>
            <a:ext cx="288144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86920" y="54900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668c4"/>
                </a:solidFill>
                <a:latin typeface="Century Schoolbook"/>
              </a:rPr>
              <a:t>КОРНЕЙ ИВАНОВИЧ ЧУКОВСКИЙ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4" name="Рисунок 6" descr="11111111.jpg"/>
          <p:cNvPicPr/>
          <p:nvPr/>
        </p:nvPicPr>
        <p:blipFill>
          <a:blip r:embed="rId1"/>
          <a:stretch/>
        </p:blipFill>
        <p:spPr>
          <a:xfrm>
            <a:off x="2916360" y="1773360"/>
            <a:ext cx="316836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ЦЕЛЬ: 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6" name="Picture 5" descr="http://t0.gstatic.com/images?q=tbn:ANd9GcS8RmYF-2pzg28Ocn8qljs91rrD-STrACBR38Nkv4mcKFbX3FSCgg"/>
          <p:cNvPicPr/>
          <p:nvPr/>
        </p:nvPicPr>
        <p:blipFill>
          <a:blip r:embed="rId1"/>
          <a:stretch/>
        </p:blipFill>
        <p:spPr>
          <a:xfrm>
            <a:off x="4643280" y="2349360"/>
            <a:ext cx="288144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0000"/>
                </a:solidFill>
                <a:latin typeface="Century Schoolbook"/>
              </a:rPr>
              <a:t>ЦЕЛЬ: </a:t>
            </a: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БОЛЬШЕ УЗНАТЬ…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8" name="Picture 5" descr="http://t0.gstatic.com/images?q=tbn:ANd9GcS8RmYF-2pzg28Ocn8qljs91rrD-STrACBR38Nkv4mcKFbX3FSCgg"/>
          <p:cNvPicPr/>
          <p:nvPr/>
        </p:nvPicPr>
        <p:blipFill>
          <a:blip r:embed="rId1"/>
          <a:stretch/>
        </p:blipFill>
        <p:spPr>
          <a:xfrm>
            <a:off x="4643280" y="2349360"/>
            <a:ext cx="288144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МОЙДОДЫР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0" name="Picture 4" descr="C:\Users\Светлана\Documents\moidodir.jpg"/>
          <p:cNvPicPr/>
          <p:nvPr/>
        </p:nvPicPr>
        <p:blipFill>
          <a:blip r:embed="rId1"/>
          <a:srcRect l="0" t="0" r="0" b="9035"/>
          <a:stretch/>
        </p:blipFill>
        <p:spPr>
          <a:xfrm>
            <a:off x="4716360" y="1916280"/>
            <a:ext cx="3256200" cy="4105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61" name="Picture 2" descr="C:\Users\Светлана\Documents\0703271421020.jpg"/>
          <p:cNvPicPr/>
          <p:nvPr/>
        </p:nvPicPr>
        <p:blipFill>
          <a:blip r:embed="rId2"/>
          <a:stretch/>
        </p:blipFill>
        <p:spPr>
          <a:xfrm>
            <a:off x="539640" y="1989000"/>
            <a:ext cx="3797280" cy="3915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entury Schoolbook"/>
              </a:rPr>
              <a:t>МУХА-ЦОКОТУХА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3" name="Picture 10" descr="http://cs402420.userapi.com/v402420512/59f/99FUjSWmfDU.jpg"/>
          <p:cNvPicPr/>
          <p:nvPr/>
        </p:nvPicPr>
        <p:blipFill>
          <a:blip r:embed="rId1"/>
          <a:stretch/>
        </p:blipFill>
        <p:spPr>
          <a:xfrm>
            <a:off x="1219320" y="1600200"/>
            <a:ext cx="59436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5" name="Picture 8" descr="C:\Users\Светлана\Documents\1255004081_telefon.jpg"/>
          <p:cNvPicPr/>
          <p:nvPr/>
        </p:nvPicPr>
        <p:blipFill>
          <a:blip r:embed="rId1"/>
          <a:stretch/>
        </p:blipFill>
        <p:spPr>
          <a:xfrm>
            <a:off x="1870200" y="907920"/>
            <a:ext cx="3881160" cy="5710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69948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КАЛО́ШИ ИЛИ ГАЛО́ШИ  — НЕПРОМОКАЕМЫЕ  НАКЛАДКИ, НАДЕВАЕМЫЕ НА ОБУВЬ, НЕКОТОРЫЕ ВИДЫ ИСПОЛЬЗУЮТСЯ КАК САМОСТОЯТЕЛЬНАЯ ОБУВЬ...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7" name="Picture 2" descr="C:\Users\user\Pictures\резинки\аа\442171.jpg"/>
          <p:cNvPicPr/>
          <p:nvPr/>
        </p:nvPicPr>
        <p:blipFill>
          <a:blip r:embed="rId1"/>
          <a:stretch/>
        </p:blipFill>
        <p:spPr>
          <a:xfrm>
            <a:off x="1116000" y="2492280"/>
            <a:ext cx="513540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ДОКТОР АЙБОЛИТ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Picture 6" descr="http://medial36-6.ru/images5/image_79.jpg"/>
          <p:cNvPicPr/>
          <p:nvPr/>
        </p:nvPicPr>
        <p:blipFill>
          <a:blip r:embed="rId1"/>
          <a:stretch/>
        </p:blipFill>
        <p:spPr>
          <a:xfrm>
            <a:off x="4788000" y="2205000"/>
            <a:ext cx="3541680" cy="35542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C:\Users\Светлана\Documents\6d36bd55e9a9a841155aabca22deebf7.jpeg"/>
          <p:cNvPicPr/>
          <p:nvPr/>
        </p:nvPicPr>
        <p:blipFill>
          <a:blip r:embed="rId2"/>
          <a:stretch/>
        </p:blipFill>
        <p:spPr>
          <a:xfrm>
            <a:off x="1042920" y="1844640"/>
            <a:ext cx="3313080" cy="4097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1T23:48:33Z</dcterms:created>
  <dc:creator>user</dc:creator>
  <dc:description/>
  <dc:language>en-US</dc:language>
  <cp:lastModifiedBy>RePack by SPecialiST</cp:lastModifiedBy>
  <dcterms:modified xsi:type="dcterms:W3CDTF">2017-02-14T05:11:43Z</dcterms:modified>
  <cp:revision>16</cp:revision>
  <dc:subject/>
  <dc:title>Урок литературного чтения</dc:title>
</cp:coreProperties>
</file>