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71E0-CAD2-4769-BC78-EBCE0088F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EBB6-68CC-4EAC-8802-7F2BE63E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3352-EDEE-4271-99BD-2A7B15CE4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3165-0AA3-4F73-8150-E4C5FC464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1C49-CFB9-460D-81FE-4FE5E104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F030-941A-4112-B13D-1A621D4A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7C01-D7BD-4AB7-A90A-8AD9470B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7473-24FE-4CE9-9AC7-DA4C57CD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266C-9177-4A9D-B7D7-3DFA210F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3411-4565-4C5B-A7D1-7E9F74F2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7952-D747-446F-B88E-CDB5651F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2FDC-8A52-4F49-A78A-679B0625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D233-C19E-473E-AAD2-5E02F0AE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506D-1649-4FDF-8F66-2D118F9D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B49A-76E3-48D5-93E3-F508E094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6C69-79F8-45C1-891F-542E23C10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D21A-F27B-4FB3-A626-08769FC38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3F65-4E0C-40F1-BB1F-E672F91E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D863-280D-4639-AACA-0B510945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78B3-6863-47D9-B763-17A55A67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5636-3F09-4B1D-AA3C-2D7EF3B2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437D-40C0-4461-9C87-B759A1D1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A5C7-2400-4A4E-B90A-27525FD9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0701-380D-4CC5-B977-AAEFF9FF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gradFill rotWithShape="0">
            <a:gsLst>
              <a:gs pos="0">
                <a:srgbClr val="e6d6d0"/>
              </a:gs>
              <a:gs pos="50000">
                <a:srgbClr val="ffffff"/>
              </a:gs>
              <a:gs pos="100000">
                <a:srgbClr val="e6d6d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F6E7-5632-4347-97D0-78B425C44C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76320" y="76320"/>
            <a:ext cx="8991360" cy="6705360"/>
          </a:xfrm>
          <a:prstGeom prst="rect">
            <a:avLst/>
          </a:prstGeom>
          <a:noFill/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76320" y="76320"/>
            <a:ext cx="8991360" cy="6705360"/>
          </a:xfrm>
          <a:prstGeom prst="rect">
            <a:avLst/>
          </a:prstGeom>
          <a:noFill/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3A97-7B33-4276-9B8C-D27D06EB7D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560" y="476280"/>
            <a:ext cx="762012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0016"/>
                </a:solidFill>
                <a:latin typeface="Times New Roman"/>
              </a:rPr>
              <a:t>Работа клуба «ЭКОС»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50920" y="1125000"/>
            <a:ext cx="77940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0" descr="SL380730"/>
          <p:cNvPicPr/>
          <p:nvPr/>
        </p:nvPicPr>
        <p:blipFill>
          <a:blip r:embed="rId1"/>
          <a:stretch/>
        </p:blipFill>
        <p:spPr>
          <a:xfrm>
            <a:off x="1763640" y="3716280"/>
            <a:ext cx="3456000" cy="2735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SL380733"/>
          <p:cNvPicPr/>
          <p:nvPr/>
        </p:nvPicPr>
        <p:blipFill>
          <a:blip r:embed="rId2"/>
          <a:stretch/>
        </p:blipFill>
        <p:spPr>
          <a:xfrm>
            <a:off x="5076720" y="981000"/>
            <a:ext cx="3097440" cy="2735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SL380727"/>
          <p:cNvPicPr/>
          <p:nvPr/>
        </p:nvPicPr>
        <p:blipFill>
          <a:blip r:embed="rId3"/>
          <a:stretch/>
        </p:blipFill>
        <p:spPr>
          <a:xfrm>
            <a:off x="1258920" y="981000"/>
            <a:ext cx="3600360" cy="25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IMGA0434"/>
          <p:cNvPicPr/>
          <p:nvPr/>
        </p:nvPicPr>
        <p:blipFill>
          <a:blip r:embed="rId4"/>
          <a:stretch/>
        </p:blipFill>
        <p:spPr>
          <a:xfrm>
            <a:off x="5364000" y="3933720"/>
            <a:ext cx="309564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0" descr=""/>
          <p:cNvPicPr/>
          <p:nvPr/>
        </p:nvPicPr>
        <p:blipFill>
          <a:blip r:embed="rId1"/>
          <a:stretch/>
        </p:blipFill>
        <p:spPr>
          <a:xfrm>
            <a:off x="5435640" y="1557360"/>
            <a:ext cx="3166920" cy="2232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Всероссийский детский конкурс</a:t>
            </a: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        научно исследовательских и творческих работ «Первые шаги в науке» г. Москва 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0" name="Picture 5" descr="100_0158"/>
          <p:cNvPicPr/>
          <p:nvPr/>
        </p:nvPicPr>
        <p:blipFill>
          <a:blip r:embed="rId2"/>
          <a:stretch/>
        </p:blipFill>
        <p:spPr>
          <a:xfrm>
            <a:off x="1692360" y="2421000"/>
            <a:ext cx="2952720" cy="2592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Изображение 002"/>
          <p:cNvPicPr/>
          <p:nvPr/>
        </p:nvPicPr>
        <p:blipFill>
          <a:blip r:embed="rId3"/>
          <a:stretch/>
        </p:blipFill>
        <p:spPr>
          <a:xfrm>
            <a:off x="4859280" y="3357720"/>
            <a:ext cx="2376720" cy="25923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2"/>
          <p:cNvSpPr/>
          <p:nvPr/>
        </p:nvSpPr>
        <p:spPr>
          <a:xfrm>
            <a:off x="5724360" y="5661000"/>
            <a:ext cx="3024360" cy="824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борник тезисов докладов Всероссийской детской конфе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10:10:37Z</dcterms:created>
  <dc:creator>sLy</dc:creator>
  <dc:description/>
  <dc:language>en-US</dc:language>
  <cp:lastModifiedBy>Azat</cp:lastModifiedBy>
  <dcterms:modified xsi:type="dcterms:W3CDTF">2020-05-23T18:38:57Z</dcterms:modified>
  <cp:revision>245</cp:revision>
  <dc:subject/>
  <dc:title>Презентация PowerPoint</dc:title>
</cp:coreProperties>
</file>