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C866-AFD7-4218-BB44-318646EA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2BFD-9EE0-4BED-80C5-6F9BE237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8581-7259-451C-A532-97F787A2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C026-5898-4525-A7B4-6943E07A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26F9-E425-49B3-9975-019295C6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F880-8B98-49E6-980E-19F035BE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DE69-1C7E-4030-A481-A16D25CC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E89C-F480-444B-9E36-7FDE1083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AA8C-1C98-4820-A3BE-33B7779A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1ACE-AE65-455E-87D2-929C6770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F294-17FC-4BE3-B3E3-5053414A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9C62-31E6-482B-A747-649DCEAD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5A5E-B9EE-4A12-AE72-30901162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55B9-CA84-444E-89CA-C608990C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4E39-BAB9-49DF-85E0-51E00AD9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1552-4C06-4912-B235-7ABF2288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3A49-25DE-4894-B028-7F4AA8D4E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2F1-6B2A-4E6C-B7C6-35F572B7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7AF5-3BF9-4749-9EAA-27701C24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2980-F7E1-4FD7-91FA-AE8B80AE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5A0C-90AE-40EF-8018-27DE347D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8E7D-5DF3-413B-81A1-F9C2FD88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54D5-FC63-45AD-88BB-639A68E5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D458-D8EA-4A2D-983F-4B580FDF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gradFill rotWithShape="0">
            <a:gsLst>
              <a:gs pos="0">
                <a:srgbClr val="e6d6d0"/>
              </a:gs>
              <a:gs pos="50000">
                <a:srgbClr val="ffffff"/>
              </a:gs>
              <a:gs pos="100000">
                <a:srgbClr val="e6d6d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D184-D802-4DC4-93E4-6503F5C8C4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9418-4BBE-468D-B4E2-1097650C9F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62012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16"/>
                </a:solidFill>
                <a:latin typeface="Times New Roman"/>
              </a:rPr>
              <a:t>Работа клуба «ЭКОС»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50920" y="1125000"/>
            <a:ext cx="77940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" descr="SL380730"/>
          <p:cNvPicPr/>
          <p:nvPr/>
        </p:nvPicPr>
        <p:blipFill>
          <a:blip r:embed="rId1"/>
          <a:stretch/>
        </p:blipFill>
        <p:spPr>
          <a:xfrm>
            <a:off x="1763640" y="3716280"/>
            <a:ext cx="3456000" cy="2735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SL380733"/>
          <p:cNvPicPr/>
          <p:nvPr/>
        </p:nvPicPr>
        <p:blipFill>
          <a:blip r:embed="rId2"/>
          <a:stretch/>
        </p:blipFill>
        <p:spPr>
          <a:xfrm>
            <a:off x="5076720" y="981000"/>
            <a:ext cx="3097440" cy="2735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SL380727"/>
          <p:cNvPicPr/>
          <p:nvPr/>
        </p:nvPicPr>
        <p:blipFill>
          <a:blip r:embed="rId3"/>
          <a:stretch/>
        </p:blipFill>
        <p:spPr>
          <a:xfrm>
            <a:off x="1258920" y="981000"/>
            <a:ext cx="3600360" cy="25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IMGA0434"/>
          <p:cNvPicPr/>
          <p:nvPr/>
        </p:nvPicPr>
        <p:blipFill>
          <a:blip r:embed="rId4"/>
          <a:stretch/>
        </p:blipFill>
        <p:spPr>
          <a:xfrm>
            <a:off x="5364000" y="3933720"/>
            <a:ext cx="309564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0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3166920" cy="2232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Всероссийский детский конкурс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        научно исследовательских и творческих работ «Первые шаги в науке» г. Москва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0" name="Picture 5" descr="100_0158"/>
          <p:cNvPicPr/>
          <p:nvPr/>
        </p:nvPicPr>
        <p:blipFill>
          <a:blip r:embed="rId2"/>
          <a:stretch/>
        </p:blipFill>
        <p:spPr>
          <a:xfrm>
            <a:off x="1692360" y="2421000"/>
            <a:ext cx="2952720" cy="2592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Изображение 002"/>
          <p:cNvPicPr/>
          <p:nvPr/>
        </p:nvPicPr>
        <p:blipFill>
          <a:blip r:embed="rId3"/>
          <a:stretch/>
        </p:blipFill>
        <p:spPr>
          <a:xfrm>
            <a:off x="4859280" y="3357720"/>
            <a:ext cx="2376720" cy="2592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2"/>
          <p:cNvSpPr/>
          <p:nvPr/>
        </p:nvSpPr>
        <p:spPr>
          <a:xfrm>
            <a:off x="5724360" y="5661000"/>
            <a:ext cx="3024360" cy="824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борник тезисов докладов Всероссийской детской 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0:10:37Z</dcterms:created>
  <dc:creator>sLy</dc:creator>
  <dc:description/>
  <dc:language>en-US</dc:language>
  <cp:lastModifiedBy>Azat</cp:lastModifiedBy>
  <dcterms:modified xsi:type="dcterms:W3CDTF">2020-05-23T18:38:57Z</dcterms:modified>
  <cp:revision>245</cp:revision>
  <dc:subject/>
  <dc:title>Презентация PowerPoint</dc:title>
</cp:coreProperties>
</file>