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B6F-E3E0-442A-A92A-3141CF71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9BE-0EAD-4A4C-AF95-75F799B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39D-5ACF-4111-BBB3-12DABA90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07B-6AF3-4D52-BD34-719C1B9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C71A-E4A7-47D6-9C27-067549A6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C69-F4E0-45F1-9385-52578E9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66BE-23D0-4B69-8A06-FF0E0C9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C63B-1B04-4FD0-BE03-2F394BA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0A7-61BB-450C-A9B6-49D1588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E6E4-C749-4A0F-9767-C11655C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851C-92F5-44CB-9635-4DD75F1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580-7AF6-4A62-9123-E0F6ED2C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7615-6EE1-4B27-87C7-52F8774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372-DB11-4CEF-9783-83D824E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1FB-FB0C-47D3-9688-CB07136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244-E15D-425B-B7AB-04E3EB6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E3E5-F4E2-4A46-85AC-F4D2AF9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3F8-679A-4F1A-94A8-6ED54515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F26-F7A4-4FA8-A70C-8DE5F43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AAB-6081-4680-9D0E-24325D7B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8F7-CF25-4D9D-BAC3-2C47C496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D06-6EC2-4F03-B44F-185AA0FE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AEB-3B3D-40ED-A2EF-4642B5A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13B-82C2-456D-9D0B-917614E5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gradFill rotWithShape="0">
            <a:gsLst>
              <a:gs pos="0">
                <a:srgbClr val="e6d6d0"/>
              </a:gs>
              <a:gs pos="50000">
                <a:srgbClr val="ffffff"/>
              </a:gs>
              <a:gs pos="100000">
                <a:srgbClr val="e6d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308-B04C-4053-BC3F-ADECE8015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CB3B-B3BC-49B8-93D5-C9C1EE800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62012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16"/>
                </a:solidFill>
                <a:latin typeface="Times New Roman"/>
              </a:rPr>
              <a:t>Работа клуба «ЭКОС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0920" y="1125000"/>
            <a:ext cx="7794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SL380730"/>
          <p:cNvPicPr/>
          <p:nvPr/>
        </p:nvPicPr>
        <p:blipFill>
          <a:blip r:embed="rId1"/>
          <a:stretch/>
        </p:blipFill>
        <p:spPr>
          <a:xfrm>
            <a:off x="1763640" y="3716280"/>
            <a:ext cx="345600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SL380733"/>
          <p:cNvPicPr/>
          <p:nvPr/>
        </p:nvPicPr>
        <p:blipFill>
          <a:blip r:embed="rId2"/>
          <a:stretch/>
        </p:blipFill>
        <p:spPr>
          <a:xfrm>
            <a:off x="5076720" y="981000"/>
            <a:ext cx="309744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L380727"/>
          <p:cNvPicPr/>
          <p:nvPr/>
        </p:nvPicPr>
        <p:blipFill>
          <a:blip r:embed="rId3"/>
          <a:stretch/>
        </p:blipFill>
        <p:spPr>
          <a:xfrm>
            <a:off x="1258920" y="98100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IMGA0434"/>
          <p:cNvPicPr/>
          <p:nvPr/>
        </p:nvPicPr>
        <p:blipFill>
          <a:blip r:embed="rId4"/>
          <a:stretch/>
        </p:blipFill>
        <p:spPr>
          <a:xfrm>
            <a:off x="5364000" y="393372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166920" cy="223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сероссийский детский конкурс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       научно исследовательских и творческих работ «Первые шаги в науке» г. Москва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5" descr="100_0158"/>
          <p:cNvPicPr/>
          <p:nvPr/>
        </p:nvPicPr>
        <p:blipFill>
          <a:blip r:embed="rId2"/>
          <a:stretch/>
        </p:blipFill>
        <p:spPr>
          <a:xfrm>
            <a:off x="1692360" y="2421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Изображение 002"/>
          <p:cNvPicPr/>
          <p:nvPr/>
        </p:nvPicPr>
        <p:blipFill>
          <a:blip r:embed="rId3"/>
          <a:stretch/>
        </p:blipFill>
        <p:spPr>
          <a:xfrm>
            <a:off x="4859280" y="3357720"/>
            <a:ext cx="2376720" cy="259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5724360" y="5661000"/>
            <a:ext cx="3024360" cy="824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орник тезисов докладов Всероссийской детской 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0:10:37Z</dcterms:created>
  <dc:creator>sLy</dc:creator>
  <dc:description/>
  <dc:language>en-US</dc:language>
  <cp:lastModifiedBy>Azat</cp:lastModifiedBy>
  <dcterms:modified xsi:type="dcterms:W3CDTF">2020-05-23T18:38:57Z</dcterms:modified>
  <cp:revision>245</cp:revision>
  <dc:subject/>
  <dc:title>Презентация PowerPoint</dc:title>
</cp:coreProperties>
</file>