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5E1F-F8F3-4527-B7E6-C3DE84AF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8634-19CC-47B9-BE97-C916717D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929E-9977-42AC-A381-FEAC3A50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3D3F-CF6C-4E9B-9992-6C4A55BF9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BD4F-B5B0-4B14-AA24-C772B2CC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B371-4B97-4124-B982-4AE235B1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5A95-52EA-4A1C-8158-00B5CBAB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E93C-6DD4-4BDF-B124-15DEBA99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1F6C-8A0B-4389-9F1C-57D396C2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5C97-BFEB-4043-8F36-40CCD054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9109-390E-4C54-8A20-17306ECF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2083-8ED9-4505-9D2A-8E8AFAD5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9E99-2C28-4620-A2CB-45715DDA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87A2-9B43-4BA2-AB15-D9DDA29C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E4CC-AA49-4724-9881-164530C2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5822-9A18-4E26-91C6-DAD97B399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F777-8058-4230-B913-C3F0F5DBF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ABA3-209E-4E22-9339-39DC9843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1C81-EF25-49C0-AF2A-0A5BE024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C681-EDF8-495A-8471-58B595FC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42A1-7465-4EC3-8919-300DC840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A287-03C7-4816-B93F-186AA327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2DFA-F20E-40E9-85D2-0299EAEA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C6FC-8A80-43C2-B19E-9B5A72B7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8FA6-BB04-4C88-B548-62E2FDD40EC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93E5-30DC-494D-8FE0-634BFF1842E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619280" y="1700280"/>
            <a:ext cx="5905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ТЕС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692360" y="3789360"/>
            <a:ext cx="6119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ЖЕНСКАЯ ЛОГИКА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459640" cy="18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Вставьте пропущенное слово в афоризм Аристотеля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«Ничто так прочно не запоминают ученики, как … своих учителей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а)Наряды;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Б) Уроки ;                                     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 </a:t>
            </a: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в) Ошибки;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г) Улыбки     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                             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000"/>
                            </p:stCondLst>
                            <p:childTnLst>
                              <p:par>
                                <p:cTn id="2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8000"/>
                            </p:stCondLst>
                            <p:childTnLst>
                              <p:par>
                                <p:cTn id="2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53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Грибоедов написал поэму “Горе..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а). Луков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б). От ум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в). От изжог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г). От нечего дела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Образ Базарова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а). Положитель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б). Отрицатель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в). Равен нулю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г). С уса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Закончите цитату: «Выхожу один я…..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Meiryo"/>
              </a:rPr>
              <a:t>а). На дорог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б). На работу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в). На медвед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Г) На улиц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Глупый пингвин робко прячет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а). Тело жирн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б). Постную грудинк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в). Заначк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г). Акваланг, оружие и документ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Быть или не быть” - вот в чем .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а). Мать роди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б). Вопро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в). Отв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г). Проблем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На собаках к Северному полюсу ходил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а). Нансе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б). Мудсе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в). Ким Ир Се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г). Седуксе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0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Есть формула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а). Ньютона-Лейбниц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б). Исаева-Штирлиц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в). Какая вам разниц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Г) Не знаю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Как японцы обращаются к своему учителю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9900"/>
                </a:solidFill>
                <a:latin typeface="Comic Sans MS"/>
              </a:rPr>
              <a:t>а)  Сенсэй  </a:t>
            </a:r>
            <a:r>
              <a:rPr b="1" lang="ru-RU" sz="3200" spc="-1" strike="noStrike">
                <a:solidFill>
                  <a:srgbClr val="669900"/>
                </a:solidFill>
                <a:latin typeface="Comic Sans MS"/>
              </a:rPr>
              <a:t>                          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9900"/>
                </a:solidFill>
                <a:latin typeface="Comic Sans MS"/>
              </a:rPr>
              <a:t>б) Самура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9900"/>
                </a:solidFill>
                <a:latin typeface="Comic Sans MS"/>
              </a:rPr>
              <a:t>в)Камикадз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9900"/>
                </a:solidFill>
                <a:latin typeface="Comic Sans MS"/>
              </a:rPr>
              <a:t>г) Икебана   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                    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21T12:53:46Z</dcterms:created>
  <dc:creator>admin</dc:creator>
  <dc:description/>
  <dc:language>en-US</dc:language>
  <cp:lastModifiedBy>admin</cp:lastModifiedBy>
  <dcterms:modified xsi:type="dcterms:W3CDTF">2020-03-04T11:35:40Z</dcterms:modified>
  <cp:revision>4</cp:revision>
  <dc:subject/>
  <dc:title>Слайд 1</dc:title>
</cp:coreProperties>
</file>