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E33-F2B7-4C10-9465-1B48BF5B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379-286B-4B1A-9ECE-62D456B1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5CE-BDDB-4B6C-844C-A0ECBD6E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493-96EE-4036-B8DF-93A1505B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B8C-EC8F-425D-9ADA-6C6C5664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025-EFB9-4313-BE97-1CF39D5B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1F8-F855-4D71-97EF-CADC0968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C44-664D-4BC8-96A3-5504E48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B4D-69E7-47E4-B396-8A8D0B7D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2A5-6AAB-4E70-9A22-0E2D3DE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566-6DA1-49E1-B7FF-05132718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9B7-459D-4EDA-8213-B274DAA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CEA0-1EE6-4F41-8DB3-E1EC7CABC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s012.radikal.ru/i319/1011/d9/2c7e90cccc7a.jpg&amp;noreask=1&amp;lr=213&amp;p=1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.allday.ru/uploads/posts/1191269179_c4125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keldysh.ru/sch148/images/C41-3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900igr.net/datai/fizkultura/Zdorove-uchenika/0002-002-Konsultanty-proekta-Silchenko-T.N.feldsher-shkoly-Uchebnyj-predmet.jpg&amp;noreask=1&amp;lr=213&amp;p=2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mou19-mp.edusite.ru/images/school0413.gif&amp;noreask=1&amp;lr=213&amp;p=4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reask=1&amp;lr=213&amp;ed=1&amp;text=&#1076;&#1077;&#1090;&#1080;%20&#1074;%20&#1096;&#1082;&#1086;&#1083;&#1077;&amp;p=121&amp;img_url=parkour.tyt.kz/media/files/file_1319832827.jpg&amp;rpt=simage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noreask=1&amp;lr=213&amp;ed=1&amp;text=&#1076;&#1077;&#1090;&#1080;%20&#1074;%20&#1096;&#1082;&#1086;&#1083;&#1077;&amp;p=134&amp;img_url=gdb.rferl.org/6F8B0768-221C-45F7-9A0E-C373B597FC9B_mw800_s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noreask=1&amp;lr=213&amp;ed=1&amp;text=&#1076;&#1077;&#1090;&#1080;%20&#1074;%20&#1096;&#1082;&#1086;&#1083;&#1077;&amp;p=103&amp;img_url=mojasemja.ru/wp-content/uploads/2010/12/shkola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noreask=1&amp;lr=213&amp;ed=1&amp;text=&#1076;&#1077;&#1090;&#1080;%20&#1074;%20&#1096;&#1082;&#1086;&#1083;&#1077;&amp;p=107&amp;img_url=www.gazetairkutsk.ru/wp-content/uploads/2011/03/80269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noreask=1&amp;lr=213&amp;ed=1&amp;text=&#1076;&#1077;&#1090;&#1080;%20&#1074;%20&#1096;&#1082;&#1086;&#1083;&#1077;&amp;p=86&amp;img_url=eu.123rf.com/400wm/400/400/pressmaster/pressmaster1012/pressmaster101202445/8448361-smart.jpg&amp;rpt=simage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yandex.ru/yandsearch?noreask=1&amp;lr=213&amp;ed=1&amp;text=&#1076;&#1077;&#1090;&#1080;%20&#1074;%20&#1096;&#1082;&#1086;&#1083;&#1077;&amp;p=90&amp;img_url=img-fotki.yandex.ru/get/0/epidemi.1/0_9a_7562b65c_XL&amp;rpt=simage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natalija.tmweb.ru/wp-content/uploads/2011/06/63012400_1282412776_bc89940011.jpg" TargetMode="External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?id=304991333-4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4214880"/>
            <a:ext cx="2232000" cy="2016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684360" y="571680"/>
            <a:ext cx="810252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ИФФЕРЕНЦИРОВАННА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абота с одарёнными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еть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льзя кого-либо изменить, передавая ему готовый опы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ожно лишь создать атмосферу, способствующую развитию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.Роджер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68836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волшебства, нет чуда никаког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ство начинается с простог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уше ребёнка ключик подобр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 смог он целый мир нарисовать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идеть синеву в глазах небес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ком акриловым укутать зимний лес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треть на радугу наследницу дожд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 этой радуге увидеть вдруг… себ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3314880" y="3249720"/>
            <a:ext cx="28224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b0105c"/>
                </a:solidFill>
                <a:latin typeface="Calibri"/>
              </a:rPr>
              <a:t>Уважаемые коллеги!</a:t>
            </a:r>
            <a:br>
              <a:rPr sz="4800"/>
            </a:br>
            <a:r>
              <a:rPr b="1" lang="ru-RU" sz="4800" spc="-1" strike="noStrike">
                <a:solidFill>
                  <a:srgbClr val="b0105c"/>
                </a:solidFill>
                <a:latin typeface="Calibri"/>
              </a:rPr>
              <a:t>Благодарю за внимание!</a:t>
            </a:r>
            <a:br>
              <a:rPr sz="4800"/>
            </a:br>
            <a:r>
              <a:rPr b="1" lang="ru-RU" sz="4800" spc="-1" strike="noStrike">
                <a:solidFill>
                  <a:srgbClr val="b0105c"/>
                </a:solidFill>
                <a:latin typeface="Calibri"/>
              </a:rPr>
              <a:t>Желаю творческих успехов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1890720" y="2843280"/>
            <a:ext cx="5362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х детей принято считать одарённы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7704000" cy="446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 с интеллектом выше средн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 с высоким уровнем творческих способ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, достигших успехов в некоторых областях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, хорошо обучающихся в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14360" y="333000"/>
            <a:ext cx="671508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дарён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3640" y="2997000"/>
            <a:ext cx="5616360" cy="31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с интеллектом выше средне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позна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художественно-эсте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коммуникатив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в духовно-ценнос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-main-pic" descr="Картинка 89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21000"/>
            <a:ext cx="2552760" cy="381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i?id=420500495-32-72"/>
          <p:cNvPicPr/>
          <p:nvPr/>
        </p:nvPicPr>
        <p:blipFill>
          <a:blip r:embed="rId3"/>
          <a:stretch/>
        </p:blipFill>
        <p:spPr>
          <a:xfrm>
            <a:off x="279360" y="260280"/>
            <a:ext cx="1628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при работе с одарёнными деть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5256360" cy="43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е выявление одарённых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на уроке на основе индивидуальных особенностей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средств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знообразной внеурочной и внешко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высокого уровня представлений о картине мире, основанных на общечеловеческих ценно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-main-pic" descr="Картинка 6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773360"/>
            <a:ext cx="2521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30040" y="790560"/>
            <a:ext cx="7353360" cy="570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для развития познавательной деятельности учащих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евременное выявление интеллектуальных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содержания программного материа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офессиональной компетент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ая работа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и адресность творческих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i?id=504504022-1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83400" y="417996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i?id=504504022-1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101520"/>
            <a:ext cx="1425240" cy="137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i?id=504504022-1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83400" y="1403280"/>
            <a:ext cx="1425600" cy="137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i?id=504504022-18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80160" y="542304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i?id=504504022-18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01040" y="2801880"/>
            <a:ext cx="14256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921800" cy="122400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Ы  РАБО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6697800" cy="374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 – поисковы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в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i?id=54751574-35-72"/>
          <p:cNvPicPr/>
          <p:nvPr/>
        </p:nvPicPr>
        <p:blipFill>
          <a:blip r:embed="rId1"/>
          <a:stretch/>
        </p:blipFill>
        <p:spPr>
          <a:xfrm>
            <a:off x="6948360" y="4149720"/>
            <a:ext cx="1979640" cy="243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i?id=92381907-60-72"/>
          <p:cNvPicPr/>
          <p:nvPr/>
        </p:nvPicPr>
        <p:blipFill>
          <a:blip r:embed="rId2"/>
          <a:stretch/>
        </p:blipFill>
        <p:spPr>
          <a:xfrm>
            <a:off x="7667640" y="1844640"/>
            <a:ext cx="126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ы   рабо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000" y="1699920"/>
            <a:ext cx="727236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лассно-урочная, разноуровневые задания, творческие зад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нсультирование по возникшей пробле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дискусс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г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едметные олимпиа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теллектуальные марафо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нкурсы, виктори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ловесные иг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екты по различной темати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олевые иг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дивидуальные творческие зад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?id=87032760-20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300640"/>
            <a:ext cx="12477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ель  должен  бы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662472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еменно талантливым, способным к экстремальн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фессионально грамот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теллигентным, нравственным и эрудирован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ладеть современными педагогическими технолог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сихологом, воспитателем и умелым организатором учебно-воспитательного процес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меть позитивную Я - концепцию, быть целеустремлённым, настойчивым, эмоционально стаби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i?id=160102832-2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4865760"/>
            <a:ext cx="1800000" cy="158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m0-tub-ru.yandex.net/i?id=630344477-25-72"/>
          <p:cNvPicPr/>
          <p:nvPr/>
        </p:nvPicPr>
        <p:blipFill>
          <a:blip r:embed="rId3"/>
          <a:stretch/>
        </p:blipFill>
        <p:spPr>
          <a:xfrm>
            <a:off x="179280" y="0"/>
            <a:ext cx="18129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268360" y="1557360"/>
            <a:ext cx="4572000" cy="43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работе с одарёнными детьми необходимо уме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гащать учебные программы, обновлять, расширя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тимулировать познавательные способности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ботать дифференцирован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инимать взвешенные психолого-педагогические реш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анализировать свою деятельность и всего клас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тбирать и готовить материал для творческих раб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i?id=328166813-27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33360"/>
            <a:ext cx="142560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i?id=249728356-25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766880"/>
            <a:ext cx="1425600" cy="140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i?id=254452215-2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8880" y="3427560"/>
            <a:ext cx="1425600" cy="12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i?id=385510032-66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58120" y="1643040"/>
            <a:ext cx="949320" cy="142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?id=227658110-10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186680" y="3397320"/>
            <a:ext cx="1425600" cy="1270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?id=16660304-71-7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19800" y="314280"/>
            <a:ext cx="1425600" cy="949320"/>
          </a:xfrm>
          <a:prstGeom prst="rect">
            <a:avLst/>
          </a:prstGeom>
          <a:ln w="0">
            <a:noFill/>
          </a:ln>
        </p:spPr>
      </p:pic>
      <p:pic>
        <p:nvPicPr>
          <p:cNvPr id="76" name="i-main-pic" descr="Картинка 185 из 15966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299280" y="5092560"/>
            <a:ext cx="2409840" cy="169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i?id=364128208-14-72"/>
          <p:cNvPicPr/>
          <p:nvPr/>
        </p:nvPicPr>
        <p:blipFill>
          <a:blip r:embed="rId15"/>
          <a:stretch/>
        </p:blipFill>
        <p:spPr>
          <a:xfrm>
            <a:off x="557280" y="4959360"/>
            <a:ext cx="1711080" cy="169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i?id=270249383-43-72"/>
          <p:cNvPicPr/>
          <p:nvPr/>
        </p:nvPicPr>
        <p:blipFill>
          <a:blip r:embed="rId16"/>
          <a:stretch/>
        </p:blipFill>
        <p:spPr>
          <a:xfrm>
            <a:off x="1041480" y="21744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i?id=109865420-40-72"/>
          <p:cNvPicPr/>
          <p:nvPr/>
        </p:nvPicPr>
        <p:blipFill>
          <a:blip r:embed="rId17"/>
          <a:stretch/>
        </p:blipFill>
        <p:spPr>
          <a:xfrm>
            <a:off x="5364000" y="333360"/>
            <a:ext cx="14256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4:14:49Z</dcterms:created>
  <dc:creator>Galina</dc:creator>
  <dc:description/>
  <dc:language>en-US</dc:language>
  <cp:lastModifiedBy>Пользователь Windows</cp:lastModifiedBy>
  <dcterms:modified xsi:type="dcterms:W3CDTF">2019-07-27T13:45:40Z</dcterms:modified>
  <cp:revision>29</cp:revision>
  <dc:subject/>
  <dc:title>Система оценки достижения планируемых результатов освоения основной образовательной программы начального общего образования</dc:title>
</cp:coreProperties>
</file>