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43CB-56A3-4F1F-95E8-53B73312E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96AB-4504-465F-9F36-02C81ADD0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8C59-54EB-42AB-9227-8C569D56F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E2EF-71C1-4453-89AD-504F2FA72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E996-516D-4FF6-BAC5-105FC8824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5E20-1F54-4E2D-80E5-4D1032542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AB2B-54F7-4734-A8BF-DA2AD0149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2BC9-9A94-46F0-B738-16F30D3C3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6E34-CECD-489D-A82F-F5D57E443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8761-57DA-4DDB-936B-09DE0B2C7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6908-8BA1-4E4E-82F1-3CA59EAC8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B70D-52C7-4E00-91EE-D8F5CAAD6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0BB20-E729-4ADC-8A3E-641BB444287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96;&#1082;&#1086;&#1083;&#1100;&#1085;&#1072;&#1103;%20&#1090;&#1077;&#1084;&#1072;&amp;rpt=simage&amp;img_url=s012.radikal.ru/i319/1011/d9/2c7e90cccc7a.jpg&amp;noreask=1&amp;lr=213&amp;p=11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.allday.ru/uploads/posts/1191269179_c4125.jpg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schools.keldysh.ru/sch148/images/C41-32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96;&#1082;&#1086;&#1083;&#1100;&#1085;&#1072;&#1103;%20&#1090;&#1077;&#1084;&#1072;&amp;noreask=1&amp;lr=213&amp;p=193&amp;img_url=images02.olx.ru/ui/11/99/58/1304168766_189969158_1----500-.jpg&amp;rpt=simage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images.yandex.ru/yandsearch?text=&#1096;&#1082;&#1086;&#1083;&#1100;&#1085;&#1072;&#1103;%20&#1090;&#1077;&#1084;&#1072;&amp;noreask=1&amp;lr=213&amp;p=193&amp;img_url=images02.olx.ru/ui/11/99/58/1304168766_189969158_1----500-.jpg&amp;rpt=simage" TargetMode="External"/><Relationship Id="rId4" Type="http://schemas.openxmlformats.org/officeDocument/2006/relationships/image" Target="../media/image5.jpeg"/><Relationship Id="rId5" Type="http://schemas.openxmlformats.org/officeDocument/2006/relationships/hyperlink" Target="http://images.yandex.ru/yandsearch?text=&#1096;&#1082;&#1086;&#1083;&#1100;&#1085;&#1072;&#1103;%20&#1090;&#1077;&#1084;&#1072;&amp;noreask=1&amp;lr=213&amp;p=193&amp;img_url=images02.olx.ru/ui/11/99/58/1304168766_189969158_1----500-.jpg&amp;rpt=simage" TargetMode="External"/><Relationship Id="rId6" Type="http://schemas.openxmlformats.org/officeDocument/2006/relationships/image" Target="../media/image5.jpeg"/><Relationship Id="rId7" Type="http://schemas.openxmlformats.org/officeDocument/2006/relationships/hyperlink" Target="http://images.yandex.ru/yandsearch?text=&#1096;&#1082;&#1086;&#1083;&#1100;&#1085;&#1072;&#1103;%20&#1090;&#1077;&#1084;&#1072;&amp;noreask=1&amp;lr=213&amp;p=193&amp;img_url=images02.olx.ru/ui/11/99/58/1304168766_189969158_1----500-.jpg&amp;rpt=simage" TargetMode="External"/><Relationship Id="rId8" Type="http://schemas.openxmlformats.org/officeDocument/2006/relationships/image" Target="../media/image5.jpeg"/><Relationship Id="rId9" Type="http://schemas.openxmlformats.org/officeDocument/2006/relationships/hyperlink" Target="http://images.yandex.ru/yandsearch?text=&#1096;&#1082;&#1086;&#1083;&#1100;&#1085;&#1072;&#1103;%20&#1090;&#1077;&#1084;&#1072;&amp;noreask=1&amp;lr=213&amp;p=193&amp;img_url=images02.olx.ru/ui/11/99/58/1304168766_189969158_1----500-.jpg&amp;rpt=simage" TargetMode="External"/><Relationship Id="rId10" Type="http://schemas.openxmlformats.org/officeDocument/2006/relationships/image" Target="../media/image5.jpe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96;&#1082;&#1086;&#1083;&#1100;&#1085;&#1072;&#1103;%20&#1090;&#1077;&#1084;&#1072;&amp;rpt=simage&amp;img_url=900igr.net/datai/fizkultura/Zdorove-uchenika/0002-002-Konsultanty-proekta-Silchenko-T.N.feldsher-shkoly-Uchebnyj-predmet.jpg&amp;noreask=1&amp;lr=213&amp;p=26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96;&#1082;&#1086;&#1083;&#1100;&#1085;&#1072;&#1103;%20&#1090;&#1077;&#1084;&#1072;&amp;rpt=simage&amp;img_url=mou19-mp.edusite.ru/images/school0413.gif&amp;noreask=1&amp;lr=213&amp;p=41" TargetMode="External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noreask=1&amp;lr=213&amp;ed=1&amp;text=&#1076;&#1077;&#1090;&#1080;%20&#1074;%20&#1096;&#1082;&#1086;&#1083;&#1077;&amp;p=121&amp;img_url=parkour.tyt.kz/media/files/file_1319832827.jpg&amp;rpt=simage" TargetMode="External"/><Relationship Id="rId2" Type="http://schemas.openxmlformats.org/officeDocument/2006/relationships/image" Target="../media/image11.jpeg"/><Relationship Id="rId3" Type="http://schemas.openxmlformats.org/officeDocument/2006/relationships/hyperlink" Target="http://images.yandex.ru/yandsearch?noreask=1&amp;lr=213&amp;ed=1&amp;text=&#1076;&#1077;&#1090;&#1080;%20&#1074;%20&#1096;&#1082;&#1086;&#1083;&#1077;&amp;p=134&amp;img_url=gdb.rferl.org/6F8B0768-221C-45F7-9A0E-C373B597FC9B_mw800_s.jpg&amp;rpt=simage" TargetMode="External"/><Relationship Id="rId4" Type="http://schemas.openxmlformats.org/officeDocument/2006/relationships/image" Target="../media/image12.jpeg"/><Relationship Id="rId5" Type="http://schemas.openxmlformats.org/officeDocument/2006/relationships/hyperlink" Target="http://images.yandex.ru/yandsearch?noreask=1&amp;lr=213&amp;ed=1&amp;text=&#1076;&#1077;&#1090;&#1080;%20&#1074;%20&#1096;&#1082;&#1086;&#1083;&#1077;&amp;p=103&amp;img_url=mojasemja.ru/wp-content/uploads/2010/12/shkola.jpg&amp;rpt=simage" TargetMode="External"/><Relationship Id="rId6" Type="http://schemas.openxmlformats.org/officeDocument/2006/relationships/image" Target="../media/image13.jpeg"/><Relationship Id="rId7" Type="http://schemas.openxmlformats.org/officeDocument/2006/relationships/hyperlink" Target="http://images.yandex.ru/yandsearch?noreask=1&amp;lr=213&amp;ed=1&amp;text=&#1076;&#1077;&#1090;&#1080;%20&#1074;%20&#1096;&#1082;&#1086;&#1083;&#1077;&amp;p=107&amp;img_url=www.gazetairkutsk.ru/wp-content/uploads/2011/03/80269.jpg&amp;rpt=simage" TargetMode="External"/><Relationship Id="rId8" Type="http://schemas.openxmlformats.org/officeDocument/2006/relationships/image" Target="../media/image14.jpeg"/><Relationship Id="rId9" Type="http://schemas.openxmlformats.org/officeDocument/2006/relationships/hyperlink" Target="http://images.yandex.ru/yandsearch?noreask=1&amp;lr=213&amp;ed=1&amp;text=&#1076;&#1077;&#1090;&#1080;%20&#1074;%20&#1096;&#1082;&#1086;&#1083;&#1077;&amp;p=86&amp;img_url=eu.123rf.com/400wm/400/400/pressmaster/pressmaster1012/pressmaster101202445/8448361-smart.jpg&amp;rpt=simage" TargetMode="External"/><Relationship Id="rId10" Type="http://schemas.openxmlformats.org/officeDocument/2006/relationships/image" Target="../media/image15.jpeg"/><Relationship Id="rId11" Type="http://schemas.openxmlformats.org/officeDocument/2006/relationships/hyperlink" Target="http://images.yandex.ru/yandsearch?noreask=1&amp;lr=213&amp;ed=1&amp;text=&#1076;&#1077;&#1090;&#1080;%20&#1074;%20&#1096;&#1082;&#1086;&#1083;&#1077;&amp;p=90&amp;img_url=img-fotki.yandex.ru/get/0/epidemi.1/0_9a_7562b65c_XL&amp;rpt=simage" TargetMode="External"/><Relationship Id="rId12" Type="http://schemas.openxmlformats.org/officeDocument/2006/relationships/image" Target="../media/image16.jpeg"/><Relationship Id="rId13" Type="http://schemas.openxmlformats.org/officeDocument/2006/relationships/hyperlink" Target="http://natalija.tmweb.ru/wp-content/uploads/2011/06/63012400_1282412776_bc89940011.jpg" TargetMode="External"/><Relationship Id="rId14" Type="http://schemas.openxmlformats.org/officeDocument/2006/relationships/image" Target="../media/image17.jpeg"/><Relationship Id="rId15" Type="http://schemas.openxmlformats.org/officeDocument/2006/relationships/image" Target="../media/image18.jpeg"/><Relationship Id="rId16" Type="http://schemas.openxmlformats.org/officeDocument/2006/relationships/image" Target="../media/image19.jpeg"/><Relationship Id="rId17" Type="http://schemas.openxmlformats.org/officeDocument/2006/relationships/image" Target="../media/image20.jpeg"/><Relationship Id="rId1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d6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i?id=304991333-42-7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85880" y="4214880"/>
            <a:ext cx="2232000" cy="20160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5"/>
          <p:cNvSpPr/>
          <p:nvPr/>
        </p:nvSpPr>
        <p:spPr>
          <a:xfrm>
            <a:off x="684360" y="571680"/>
            <a:ext cx="8102520" cy="55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ДИФФЕРЕНЦИРОВАННАЯ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работа с одарёнными   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детьми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Нельзя кого-либо изменить, передавая ему готовый опы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Можно лишь создать атмосферу, способствующую развитию челове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К.Роджер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8229600" cy="5688360"/>
          </a:xfrm>
          <a:prstGeom prst="rect">
            <a:avLst/>
          </a:prstGeom>
          <a:gradFill rotWithShape="0">
            <a:gsLst>
              <a:gs pos="0">
                <a:srgbClr val="9bfee9"/>
              </a:gs>
              <a:gs pos="100000">
                <a:srgbClr val="e4fff9"/>
              </a:gs>
            </a:gsLst>
            <a:lin ang="16200000"/>
          </a:gradFill>
          <a:ln w="9360">
            <a:solidFill>
              <a:srgbClr val="15b39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т волшебства, нет чуда никакого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кусство начинается с простого-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 душе ребёнка ключик подобрать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об смог он целый мир нарисовать…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видеть синеву в глазах небес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латком акриловым укутать зимний лес,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мотреть на радугу наследницу дождя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в этой радуге увидеть вдруг… себ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!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Рисунок 3" descr=""/>
          <p:cNvPicPr/>
          <p:nvPr/>
        </p:nvPicPr>
        <p:blipFill>
          <a:blip r:embed="rId1"/>
          <a:stretch/>
        </p:blipFill>
        <p:spPr>
          <a:xfrm>
            <a:off x="3314880" y="3249720"/>
            <a:ext cx="2822400" cy="28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ru-RU" sz="4800" spc="-1" strike="noStrike">
                <a:solidFill>
                  <a:srgbClr val="b0105c"/>
                </a:solidFill>
                <a:latin typeface="Calibri"/>
              </a:rPr>
              <a:t>Уважаемые коллеги!</a:t>
            </a:r>
            <a:br>
              <a:rPr sz="4800"/>
            </a:br>
            <a:r>
              <a:rPr b="1" lang="ru-RU" sz="4800" spc="-1" strike="noStrike">
                <a:solidFill>
                  <a:srgbClr val="b0105c"/>
                </a:solidFill>
                <a:latin typeface="Calibri"/>
              </a:rPr>
              <a:t>Благодарю за внимание!</a:t>
            </a:r>
            <a:br>
              <a:rPr sz="4800"/>
            </a:br>
            <a:r>
              <a:rPr b="1" lang="ru-RU" sz="4800" spc="-1" strike="noStrike">
                <a:solidFill>
                  <a:srgbClr val="b0105c"/>
                </a:solidFill>
                <a:latin typeface="Calibri"/>
              </a:rPr>
              <a:t>Желаю творческих успехов!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Рисунок 3" descr=""/>
          <p:cNvPicPr/>
          <p:nvPr/>
        </p:nvPicPr>
        <p:blipFill>
          <a:blip r:embed="rId1"/>
          <a:stretch/>
        </p:blipFill>
        <p:spPr>
          <a:xfrm>
            <a:off x="1890720" y="2843280"/>
            <a:ext cx="5362560" cy="40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470240"/>
          </a:xfrm>
          <a:prstGeom prst="rect">
            <a:avLst/>
          </a:prstGeom>
          <a:gradFill rotWithShape="0">
            <a:gsLst>
              <a:gs pos="0">
                <a:srgbClr val="89e7ff"/>
              </a:gs>
              <a:gs pos="100000">
                <a:srgbClr val="ddf8ff"/>
              </a:gs>
            </a:gsLst>
            <a:lin ang="16200000"/>
          </a:gradFill>
          <a:ln w="9360">
            <a:solidFill>
              <a:srgbClr val="00acd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аких детей принято считать одарённым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755640" y="1988640"/>
            <a:ext cx="7704000" cy="4464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addc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тей с интеллектом выше среднего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тей с высоким уровнем творческих способносте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тей, достигших успехов в некоторых областях деятельност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тей, хорошо обучающихся в школ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14360" y="333000"/>
            <a:ext cx="6715080" cy="1469880"/>
          </a:xfrm>
          <a:prstGeom prst="rect">
            <a:avLst/>
          </a:prstGeom>
          <a:gradFill rotWithShape="0">
            <a:gsLst>
              <a:gs pos="0">
                <a:srgbClr val="89e7ff"/>
              </a:gs>
              <a:gs pos="100000">
                <a:srgbClr val="ddf8ff"/>
              </a:gs>
            </a:gsLst>
            <a:lin ang="16200000"/>
          </a:gradFill>
          <a:ln w="9360">
            <a:solidFill>
              <a:srgbClr val="00acd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ы одарённост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23640" y="2997000"/>
            <a:ext cx="5616360" cy="3168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addc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арённость с интеллектом выше среднего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арённость в познавательной деятельност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арённость в художественно-эстетической деятельност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арённость в коммуникативной деятельност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арённость в духовно-ценностной деятельнос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i-main-pic" descr="Картинка 89 из 15804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56360" y="2421000"/>
            <a:ext cx="2552760" cy="38116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i?id=420500495-32-72"/>
          <p:cNvPicPr/>
          <p:nvPr/>
        </p:nvPicPr>
        <p:blipFill>
          <a:blip r:embed="rId3"/>
          <a:stretch/>
        </p:blipFill>
        <p:spPr>
          <a:xfrm>
            <a:off x="279360" y="260280"/>
            <a:ext cx="162864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152720"/>
          </a:xfrm>
          <a:prstGeom prst="rect">
            <a:avLst/>
          </a:prstGeom>
          <a:gradFill rotWithShape="0">
            <a:gsLst>
              <a:gs pos="0">
                <a:srgbClr val="89e7ff"/>
              </a:gs>
              <a:gs pos="100000">
                <a:srgbClr val="ddf8ff"/>
              </a:gs>
            </a:gsLst>
            <a:lin ang="16200000"/>
          </a:gradFill>
          <a:ln w="9360">
            <a:solidFill>
              <a:srgbClr val="00acd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дачи при работе с одарёнными детьм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755280" y="1773000"/>
            <a:ext cx="5256360" cy="4392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addc"/>
            </a:solidFill>
            <a:miter/>
          </a:ln>
        </p:spPr>
        <p:txBody>
          <a:bodyPr anchor="t">
            <a:noAutofit/>
          </a:bodyPr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евременное выявление одарённых детей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фференциация на уроке на основе индивидуальных особенностей детей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бор средств обучения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разнообразной внеурочной и внешкольной деятельност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у детей высокого уровня представлений о картине мире, основанных на общечеловеческих ценностях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i-main-pic" descr="Картинка 6 из 15804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27640" y="1773360"/>
            <a:ext cx="252108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рямоугольник 1"/>
          <p:cNvSpPr/>
          <p:nvPr/>
        </p:nvSpPr>
        <p:spPr>
          <a:xfrm>
            <a:off x="230040" y="790560"/>
            <a:ext cx="7353360" cy="57020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овия для развития познавательной деятельности учащихся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воевременное выявление интеллектуальных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носте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чество содержания программного материал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вень профессиональной компетентност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фференцированная работа на урок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нообразие и адресность творческих задани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i?id=504504022-18-7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83400" y="4179960"/>
            <a:ext cx="1425600" cy="13777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i?id=504504022-18-7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596360" y="101520"/>
            <a:ext cx="1425240" cy="13780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i?id=504504022-18-72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583400" y="1403280"/>
            <a:ext cx="1425600" cy="13780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i?id=504504022-18-72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7580160" y="5423040"/>
            <a:ext cx="1425600" cy="13777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i?id=504504022-18-72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7601040" y="2801880"/>
            <a:ext cx="1425600" cy="13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26560" y="404640"/>
            <a:ext cx="7921800" cy="1224000"/>
          </a:xfrm>
          <a:prstGeom prst="rect">
            <a:avLst/>
          </a:prstGeom>
          <a:gradFill rotWithShape="0">
            <a:gsLst>
              <a:gs pos="0">
                <a:srgbClr val="89e7ff"/>
              </a:gs>
              <a:gs pos="100000">
                <a:srgbClr val="ddf8ff"/>
              </a:gs>
            </a:gsLst>
            <a:lin ang="16200000"/>
          </a:gradFill>
          <a:ln w="9360">
            <a:solidFill>
              <a:srgbClr val="00acd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МЕТОДЫ  РАБОТЫ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826560" y="1844280"/>
            <a:ext cx="6697800" cy="3745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addc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следовательский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ично – поисковый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лемный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ивны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i?id=54751574-35-72"/>
          <p:cNvPicPr/>
          <p:nvPr/>
        </p:nvPicPr>
        <p:blipFill>
          <a:blip r:embed="rId1"/>
          <a:stretch/>
        </p:blipFill>
        <p:spPr>
          <a:xfrm>
            <a:off x="6948360" y="4149720"/>
            <a:ext cx="1979640" cy="24336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i?id=92381907-60-72"/>
          <p:cNvPicPr/>
          <p:nvPr/>
        </p:nvPicPr>
        <p:blipFill>
          <a:blip r:embed="rId2"/>
          <a:stretch/>
        </p:blipFill>
        <p:spPr>
          <a:xfrm>
            <a:off x="7667640" y="1844640"/>
            <a:ext cx="126036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863640"/>
          </a:xfrm>
          <a:prstGeom prst="rect">
            <a:avLst/>
          </a:prstGeom>
          <a:gradFill rotWithShape="0">
            <a:gsLst>
              <a:gs pos="0">
                <a:srgbClr val="89e7ff"/>
              </a:gs>
              <a:gs pos="100000">
                <a:srgbClr val="ddf8ff"/>
              </a:gs>
            </a:gsLst>
            <a:lin ang="16200000"/>
          </a:gradFill>
          <a:ln w="9360">
            <a:solidFill>
              <a:srgbClr val="00acd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Формы   работы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4000" y="1699920"/>
            <a:ext cx="7272360" cy="4824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addc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классно-урочная, разноуровневые задания, творческие задания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консультирование по возникшей проблеме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дискуссия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игры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предметные олимпиады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интеллектуальные марафоны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конкурсы, викторины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словесные игры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проекты по различной тематике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ролевые игры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индивидуальные творческие зада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i?id=87032760-20-7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96360" y="5300640"/>
            <a:ext cx="12477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469880"/>
          </a:xfrm>
          <a:prstGeom prst="rect">
            <a:avLst/>
          </a:prstGeom>
          <a:gradFill rotWithShape="0">
            <a:gsLst>
              <a:gs pos="0">
                <a:srgbClr val="89e7ff"/>
              </a:gs>
              <a:gs pos="100000">
                <a:srgbClr val="ddf8ff"/>
              </a:gs>
            </a:gsLst>
            <a:lin ang="16200000"/>
          </a:gradFill>
          <a:ln w="9360">
            <a:solidFill>
              <a:srgbClr val="00acd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Учитель  должен  быть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755640" y="2205000"/>
            <a:ext cx="6624720" cy="42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пременно талантливым, способным к экстремальной и творческой деятельност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профессионально грамотным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интеллигентным, нравственным и эрудированным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владеть современными педагогическими технологиям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психологом, воспитателем и умелым организатором учебно-воспитательного процесс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иметь позитивную Я - концепцию, быть целеустремлённым, настойчивым, эмоционально стабильны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i?id=160102832-28-7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20000" y="4865760"/>
            <a:ext cx="1800000" cy="15876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http://im0-tub-ru.yandex.net/i?id=630344477-25-72"/>
          <p:cNvPicPr/>
          <p:nvPr/>
        </p:nvPicPr>
        <p:blipFill>
          <a:blip r:embed="rId3"/>
          <a:stretch/>
        </p:blipFill>
        <p:spPr>
          <a:xfrm>
            <a:off x="179280" y="0"/>
            <a:ext cx="1812960" cy="21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Прямоугольник 1"/>
          <p:cNvSpPr/>
          <p:nvPr/>
        </p:nvSpPr>
        <p:spPr>
          <a:xfrm>
            <a:off x="2268360" y="1557360"/>
            <a:ext cx="4572000" cy="43628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и работе с одарёнными детьми необходимо уметь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огащать учебные программы, обновлять, расширять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стимулировать познавательные способности учащихся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работать дифференцированно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принимать взвешенные психолого-педагогические решения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анализировать свою деятельность и всего класс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отбирать и готовить материал для творческих работ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i?id=328166813-27-7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16360" y="333360"/>
            <a:ext cx="1425600" cy="10573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i?id=249728356-25-7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79280" y="1766880"/>
            <a:ext cx="1425600" cy="14018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i?id=254452215-28-72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8880" y="3427560"/>
            <a:ext cx="1425600" cy="12603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" descr="i?id=385510032-66-72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7458120" y="1643040"/>
            <a:ext cx="949320" cy="14256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i?id=227658110-10-72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7186680" y="3397320"/>
            <a:ext cx="1425600" cy="12700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7" descr="i?id=16660304-71-72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7219800" y="314280"/>
            <a:ext cx="1425600" cy="949320"/>
          </a:xfrm>
          <a:prstGeom prst="rect">
            <a:avLst/>
          </a:prstGeom>
          <a:ln w="0">
            <a:noFill/>
          </a:ln>
        </p:spPr>
      </p:pic>
      <p:pic>
        <p:nvPicPr>
          <p:cNvPr id="76" name="i-main-pic" descr="Картинка 185 из 159664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6299280" y="5092560"/>
            <a:ext cx="2409840" cy="16988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" descr="i?id=364128208-14-72"/>
          <p:cNvPicPr/>
          <p:nvPr/>
        </p:nvPicPr>
        <p:blipFill>
          <a:blip r:embed="rId15"/>
          <a:stretch/>
        </p:blipFill>
        <p:spPr>
          <a:xfrm>
            <a:off x="557280" y="4959360"/>
            <a:ext cx="1711080" cy="16938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1" descr="i?id=270249383-43-72"/>
          <p:cNvPicPr/>
          <p:nvPr/>
        </p:nvPicPr>
        <p:blipFill>
          <a:blip r:embed="rId16"/>
          <a:stretch/>
        </p:blipFill>
        <p:spPr>
          <a:xfrm>
            <a:off x="1041480" y="217440"/>
            <a:ext cx="1068480" cy="14256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2" descr="i?id=109865420-40-72"/>
          <p:cNvPicPr/>
          <p:nvPr/>
        </p:nvPicPr>
        <p:blipFill>
          <a:blip r:embed="rId17"/>
          <a:stretch/>
        </p:blipFill>
        <p:spPr>
          <a:xfrm>
            <a:off x="5364000" y="333360"/>
            <a:ext cx="1425600" cy="10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5T04:14:49Z</dcterms:created>
  <dc:creator>Galina</dc:creator>
  <dc:description/>
  <dc:language>en-US</dc:language>
  <cp:lastModifiedBy>Пользователь Windows</cp:lastModifiedBy>
  <dcterms:modified xsi:type="dcterms:W3CDTF">2019-07-27T13:45:40Z</dcterms:modified>
  <cp:revision>29</cp:revision>
  <dc:subject/>
  <dc:title>Система оценки достижения планируемых результатов освоения основной образовательной программы начального общего образования</dc:title>
</cp:coreProperties>
</file>