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94C-ADA1-4CD9-9B0E-9789783B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467-DA6E-4403-A8ED-8A994E05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C20-C0F8-43AC-9408-3CD4CB97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A1B-121F-483A-9003-9732E179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457-79DD-4791-A2FC-3889CD88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64C-1C45-4037-9616-641821DE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218-753D-4D2F-A70B-00E12745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150A-C48D-4922-9D68-48D6D889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7B16-F8E3-4726-A0B0-8C96F1A9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C4F-1DBF-48C1-B56B-2933B97B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5C5-40BB-40AB-8739-F111A834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821-68F1-4EF3-85EC-C6A0F22A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E289-84E4-4A39-91FF-67CC17CCA0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формация для обратной связ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060640"/>
            <a:ext cx="6912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 удовольствием отвечу на любые интересующие вас вопросы. Также можете оставить отзывы и предложения на мою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mail.ru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gilmaeva44@gmail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РУСТАМ</cp:lastModifiedBy>
  <dcterms:modified xsi:type="dcterms:W3CDTF">2020-05-24T16:40:12Z</dcterms:modified>
  <cp:revision>10</cp:revision>
  <dc:subject/>
  <dc:title>Шаблон презентации</dc:title>
</cp:coreProperties>
</file>