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E2E-3F95-4AAB-A971-70C49F48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0B6-099E-4FDC-A812-028845A1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967-5C93-42A9-A6EB-67E478B3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EB9-FF95-449F-AB0E-669096B8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747-155C-4568-A86C-E19B7242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489-9615-4938-8A3F-0C2911F1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D2F-9413-4BB4-8512-9185EC8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D1F-CDDA-4D2B-87FF-86845D2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11A-D36B-4463-8F0B-B433390C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C84-E965-42B9-A27A-6F0AD67B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9E7-0F25-4AAD-A7CC-365AE94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8A0-6C3E-4875-AF75-D530D19A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EF31-15A0-441E-BA67-B0E85C8B34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395280" y="404640"/>
            <a:ext cx="1504800" cy="14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35344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рганизация  методического кабинета ДОУ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2600" y="3071880"/>
            <a:ext cx="82803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</a:rPr>
              <a:t>Исполнитель: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старший воспитатель И.В. Бе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2865600" y="4091040"/>
            <a:ext cx="2560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760" y="3571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нцип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оснащение кабинета должно быть простым и рациональным, оно должно обеспечивать высокий уровень учебно-воспитательного проце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оформление кабинета должно соответствовать общепринятым эстетическим требованиям. Эстетический облик зависит от выбора мебели (секционные или стенные шкафы со съемными полками, стол, стулья и пр.), от цвета стен, от рационального размещения учебно-методического материа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основным оснащением кабинета являются учебно-методическая литература, комплекты наглядных и систематизированных дидактических раздаточных материалов, аудио- и видеозаписи, диафильмы и диапозитивы, дидактические материа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оснащение кабинета и его размещение должно соответствовать требованиям противопожарной охраны и техники безопас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82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Блок аналитико-диагностического обеспечения деятельности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(анализ занятий, мероприятий, деятельности; разработка методических рекомендаций, экспериментальная работа; диагности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Блок повышения педагогического мастерства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(аттестация, повышение квалификации, мастер-классы, индивидуальное консультирован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граммно-методический блок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(обновление содержания, создание образовательных программ различного типа, экспертиза авторских методических материалов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формационный блок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(обобщение и распространение опыта, публикация методических пособий, создание дидактического и методического материалов, создание видеотек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9720" y="856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Праздники и знаменательные да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Этапы реализации учебной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Новинки методической, педагогической и другой литератур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периоди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Передовой педагогический опы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1" descr="0b54c9c1204b"/>
          <p:cNvPicPr/>
          <p:nvPr/>
        </p:nvPicPr>
        <p:blipFill>
          <a:blip r:embed="rId1"/>
          <a:stretch/>
        </p:blipFill>
        <p:spPr>
          <a:xfrm>
            <a:off x="928800" y="4929120"/>
            <a:ext cx="10713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785880"/>
            <a:ext cx="82152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В методическом кабинете оформлен стенд для размещения необходимой информации для воспитателей, на котором помещаетс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расписание заняти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график использования зал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сведения о консультациях, семинарах, заседания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едсовета и принятые там решения, проводимые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органами управления образование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мероприятия (курсы, смотры и пр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85880" y="9288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нижный фонд методического кабине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Книги для воспит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Детск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7500960" y="214200"/>
            <a:ext cx="13683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Методический кабинет-копилка традиций дошкольного учреждения. Все его содержание должно быть направлено на оказание помощи воспитателям в организации воспитательно-образовательного процесса, повышении педагогического мастерства, взаимодействии с родителями и просто в повседневной деятельности: подготовке к рабочему дню, педагогическому совету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https://bobr.by/data/education/education3.png"/>
          <p:cNvPicPr/>
          <p:nvPr/>
        </p:nvPicPr>
        <p:blipFill>
          <a:blip r:embed="rId1"/>
          <a:stretch/>
        </p:blipFill>
        <p:spPr>
          <a:xfrm>
            <a:off x="428760" y="4286160"/>
            <a:ext cx="28400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7-04-04T05:58:07Z</dcterms:modified>
  <cp:revision>134</cp:revision>
  <dc:subject/>
  <dc:title>Слайд 1</dc:title>
</cp:coreProperties>
</file>