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ADED-BEEF-45CB-83DD-CE729248A8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B967-8554-4DE5-A978-8D983FD4CB2C}" type="slidenum">
              <a:rPr b="0" lang="ru-RU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1D3-B590-491C-95CF-2AAFE8F3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792-C766-48A3-84C6-ABDE6C6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123-B829-440F-921C-4E647C9E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B47-7CB0-405B-8A80-2C31C6ED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F8E5-3ED8-4832-A768-1F5D2F40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C2FF-1B96-4ECA-B690-3C679759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083-1827-4252-85D9-4F45B2EE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B677-9B35-4045-90F4-067F2E01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BD2D-E345-4830-9509-F2112EDC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0A57-8A73-41F7-8FAC-593A1D49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358-8082-4AA6-A8A7-C4AA426C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559-0963-4CCB-96D9-E08A663F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34EE-3EF6-4BBC-9A36-E6EA821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8E2B-DBEB-4EB2-973F-0EC822A7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3DBC-B505-40EF-96EF-F2795569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1F60-BF59-4F2E-87CA-E8798020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3176-4BBB-442F-A354-256D4729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5EA0A-C527-497F-B97E-90F6E5C4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935EF-6E56-4F71-966D-B5C9CED4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4A5D0-A52B-4779-A9A1-D0C5EE06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0A1C9-D004-4C18-8AE9-105E2ED5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5AF23-A0B0-4238-B926-5410F58C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772-166A-422F-A4A6-13C3F4C8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437F6-050B-4A05-A545-26F1F2C3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8A067-AB0A-4FE9-A2CD-DCDC14A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A90D6-2E72-406C-8224-C824E5F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D36A0-F0A2-4C5F-B367-C482E49A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AEC11-9BA7-40A6-BAF8-1EA9BDCF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CC2F3-9A50-4BB8-BCDB-690D934B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EE8E7-BB75-4D57-9EAE-C091314E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F30-CF80-4732-A4AD-38D757F4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09F-6E0D-4C61-BF7F-608C5605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493-9E45-458E-8FA6-13AB174A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B7F-084A-4FE1-B656-5D316AE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FB4-3C5E-4D61-86D0-51EF75F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14A-26D2-4109-BF5D-2C94F882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A853-B14B-40F4-ABB5-8DCBC26B26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9AC3-159F-422A-ADDA-3BC4DB8BBD6B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77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86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87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6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7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8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9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0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1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2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3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4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5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6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7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8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9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0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1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2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8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5C50-206F-4C91-BF07-26FE16FFF682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dt" idx="9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4240" y="2714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УРОК РУССКОГО ЯЗЫКА</a:t>
            </a:r>
            <a:br>
              <a:rPr sz="4800"/>
            </a:b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в 4 классе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тренируемся 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Укажите вид подчинительной связи в словосочетании быстро перепрыгивает  из предложения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Белочка быстро перепрыгивает с ветки на ветку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ff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29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ff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тренируемся 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Из предложения выпишите подчинительное словосочетание со связью СОГЛАСОВАНИЕ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8f8f8"/>
                </a:solidFill>
                <a:latin typeface="Times New Roman"/>
              </a:rPr>
              <a:t>Мама подарила мне интересную книгу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ff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29"/>
                </a:solidFill>
                <a:latin typeface="Times New Roman"/>
              </a:rPr>
              <a:t>интересную книгу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тренируемся 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Из предложения выпишите подчинительное словосочетание со связью ПРИМЫКАНИЕ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Он 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медленно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 открыл дверь</a:t>
            </a:r>
            <a:r>
              <a:rPr b="0" i="1" lang="ru-RU" sz="3200" spc="-1" strike="noStrike">
                <a:solidFill>
                  <a:srgbClr val="ffe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ff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29"/>
                </a:solidFill>
                <a:latin typeface="Times New Roman"/>
              </a:rPr>
              <a:t>медленно откры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тренируемся 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Из предложения  выпишите словосочетание, в котором использована связь УПРАВЛЕНИЕ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e066"/>
                </a:solidFill>
                <a:latin typeface="Times New Roman"/>
              </a:rPr>
              <a:t>Красивый дом у дорог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ff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29"/>
                </a:solidFill>
                <a:latin typeface="Times New Roman"/>
              </a:rPr>
              <a:t>Дом у дорог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428480"/>
            <a:ext cx="676584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8f8f8"/>
                </a:solidFill>
                <a:latin typeface="Times New Roman"/>
              </a:rPr>
              <a:t>Сегодня я узнал…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8f8f8"/>
                </a:solidFill>
                <a:latin typeface="Times New Roman"/>
              </a:rPr>
              <a:t>Было трудно…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8f8f8"/>
                </a:solidFill>
                <a:latin typeface="Times New Roman"/>
              </a:rPr>
              <a:t>Было интересно…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8f8f8"/>
                </a:solidFill>
                <a:latin typeface="Times New Roman"/>
              </a:rPr>
              <a:t>Я выполнял задания…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8f8f8"/>
                </a:solidFill>
                <a:latin typeface="Times New Roman"/>
              </a:rPr>
              <a:t>Я попробую…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Содержимое 2"/>
          <p:cNvSpPr/>
          <p:nvPr/>
        </p:nvSpPr>
        <p:spPr>
          <a:xfrm>
            <a:off x="4857840" y="1571760"/>
            <a:ext cx="38862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Times New Roman"/>
              </a:rPr>
              <a:t>СПАСИБО ЗА УРОК!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евиз уро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3" name="Схема 3" descr=""/>
          <p:cNvPicPr/>
          <p:nvPr/>
        </p:nvPicPr>
        <p:blipFill>
          <a:blip r:embed="rId1"/>
          <a:stretch/>
        </p:blipFill>
        <p:spPr>
          <a:xfrm>
            <a:off x="1231920" y="2633760"/>
            <a:ext cx="6607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imes New Roman"/>
              </a:rPr>
              <a:t>Словосочетание. Типы связи слов в словосочетании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РОВЕРКА ЗНАНИЙ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Times New Roman"/>
              </a:rPr>
              <a:t>Что называется словосочетанием?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1728720"/>
          </a:xfrm>
          <a:prstGeom prst="rect">
            <a:avLst/>
          </a:prstGeom>
          <a:solidFill>
            <a:srgbClr val="ffeb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ff"/>
                </a:solidFill>
                <a:latin typeface="Times New Roman"/>
              </a:rPr>
              <a:t>Словосочетание –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это два  слова, соединенных между собой грамматически или по смыслу.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85880" y="3714480"/>
            <a:ext cx="7572240" cy="28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В словосочетании одно слово является </a:t>
            </a:r>
            <a:r>
              <a:rPr b="1" lang="ru-RU" sz="2700" spc="-1" strike="noStrike">
                <a:solidFill>
                  <a:srgbClr val="f8f8f8"/>
                </a:solidFill>
                <a:latin typeface="Times New Roman"/>
              </a:rPr>
              <a:t>главным</a:t>
            </a: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, другое – </a:t>
            </a:r>
            <a:r>
              <a:rPr b="1" lang="ru-RU" sz="2700" spc="-1" strike="noStrike">
                <a:solidFill>
                  <a:srgbClr val="f8f8f8"/>
                </a:solidFill>
                <a:latin typeface="Times New Roman"/>
              </a:rPr>
              <a:t>зависимым.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От главного слова к зависимому задается вопрос.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                 </a:t>
            </a:r>
            <a:r>
              <a:rPr b="1" i="1" lang="ru-RU" sz="2700" spc="-1" strike="noStrike">
                <a:solidFill>
                  <a:srgbClr val="f8f8f8"/>
                </a:solidFill>
                <a:latin typeface="Times New Roman"/>
              </a:rPr>
              <a:t>главное слово     зависимое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B9E29C-1BB7-4F4B-ADD9-88ADB1392B1E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3357720" y="5572080"/>
            <a:ext cx="182520" cy="1224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 flipH="1">
            <a:off x="3357360" y="5572080"/>
            <a:ext cx="182520" cy="1224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 flipH="1" rot="5400000">
            <a:off x="4371120" y="4487040"/>
            <a:ext cx="122400" cy="2006640"/>
          </a:xfrm>
          <a:custGeom>
            <a:avLst/>
            <a:gdLst>
              <a:gd name="textAreaLeft" fmla="*/ 360 w 122400"/>
              <a:gd name="textAreaRight" fmla="*/ 86400 w 12240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929040" y="5143680"/>
            <a:ext cx="91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8f8f8"/>
                </a:solidFill>
                <a:latin typeface="Calibri"/>
              </a:rPr>
              <a:t>вопрос</a:t>
            </a:r>
            <a:endParaRPr b="0" lang="en-US" sz="1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5429160" y="5500800"/>
            <a:ext cx="0" cy="1825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4"/>
          <p:cNvSpPr/>
          <p:nvPr/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6E8102-EA15-4E51-B2C2-7CAE51A2C02E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87" name="Organization Chart 17"/>
          <p:cNvGrpSpPr/>
          <p:nvPr/>
        </p:nvGrpSpPr>
        <p:grpSpPr>
          <a:xfrm>
            <a:off x="284040" y="142920"/>
            <a:ext cx="8645760" cy="6503040"/>
            <a:chOff x="284040" y="142920"/>
            <a:chExt cx="8645760" cy="6503040"/>
          </a:xfrm>
        </p:grpSpPr>
        <p:cxnSp>
          <p:nvCxnSpPr>
            <p:cNvPr id="288" name="_s1028"/>
            <p:cNvCxnSpPr/>
            <p:nvPr/>
          </p:nvCxnSpPr>
          <p:spPr>
            <a:xfrm rot="10800000">
              <a:off x="642240" y="640800"/>
              <a:ext cx="877320" cy="460008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289" name="_s1029"/>
            <p:cNvCxnSpPr/>
            <p:nvPr/>
          </p:nvCxnSpPr>
          <p:spPr>
            <a:xfrm rot="10800000">
              <a:off x="429480" y="640800"/>
              <a:ext cx="877320" cy="287532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290" name="_s1030"/>
            <p:cNvCxnSpPr/>
            <p:nvPr/>
          </p:nvCxnSpPr>
          <p:spPr>
            <a:xfrm rot="10800000">
              <a:off x="783000" y="640800"/>
              <a:ext cx="877320" cy="11505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291" name="_s1031"/>
            <p:cNvSpPr/>
            <p:nvPr/>
          </p:nvSpPr>
          <p:spPr>
            <a:xfrm>
              <a:off x="284040" y="142920"/>
              <a:ext cx="8572680" cy="498600"/>
            </a:xfrm>
            <a:prstGeom prst="roundRect">
              <a:avLst>
                <a:gd name="adj" fmla="val 16667"/>
              </a:avLst>
            </a:prstGeom>
            <a:solidFill>
              <a:srgbClr val="98ba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ff0000"/>
                  </a:solidFill>
                  <a:latin typeface="Calibri"/>
                </a:rPr>
                <a:t>Типы связей слов в словосочетании</a:t>
              </a:r>
              <a:endParaRPr b="0" lang="en-US" sz="35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2" name="_s1032"/>
            <p:cNvSpPr/>
            <p:nvPr/>
          </p:nvSpPr>
          <p:spPr>
            <a:xfrm>
              <a:off x="856800" y="713880"/>
              <a:ext cx="7999920" cy="1784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ff"/>
                  </a:solidFill>
                  <a:latin typeface="Calibri"/>
                </a:rPr>
                <a:t>Согласование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Главное слово и зависимое стоят в одинаковых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грамматических формах ( род, число, падеж)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Это словосочетание типа </a:t>
              </a:r>
              <a:r>
                <a:rPr b="1" lang="ru-RU" sz="2200" spc="-1" strike="noStrike">
                  <a:solidFill>
                    <a:srgbClr val="c00000"/>
                  </a:solidFill>
                  <a:latin typeface="Calibri"/>
                </a:rPr>
                <a:t>«деревянный дом»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00000"/>
                  </a:solidFill>
                  <a:latin typeface="Calibri"/>
                </a:rPr>
                <a:t>Предмет + его признак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3" name="_s1033"/>
            <p:cNvSpPr/>
            <p:nvPr/>
          </p:nvSpPr>
          <p:spPr>
            <a:xfrm>
              <a:off x="856800" y="2570040"/>
              <a:ext cx="8073000" cy="164484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f8f8f8"/>
                  </a:solidFill>
                  <a:latin typeface="Calibri"/>
                </a:rPr>
                <a:t>Управление</a:t>
              </a:r>
              <a:endParaRPr b="0" lang="en-US" sz="35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От главного слова к зависимому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задается вопрос косвенного падежа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Дом из дерева,  дорога к дому</a:t>
              </a: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4" name="_s1034"/>
            <p:cNvSpPr/>
            <p:nvPr/>
          </p:nvSpPr>
          <p:spPr>
            <a:xfrm>
              <a:off x="783720" y="4359240"/>
              <a:ext cx="8073000" cy="228672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Примыкание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Главное слово и зависимое связаны ТОЛЬКО по смыслу.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В роли зависимого слова чаще всего употребляются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неизменяемые части речи или формы слов: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8f8f8"/>
                  </a:solidFill>
                  <a:latin typeface="Calibri"/>
                </a:rPr>
                <a:t>наречие, начальная форма глагола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Быстро бежать,      очень красивый.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ЛГОРИТ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4296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97" name="Picture 6" descr="http://900igr.net/up/datas/178444/009.jpg"/>
          <p:cNvPicPr/>
          <p:nvPr/>
        </p:nvPicPr>
        <p:blipFill>
          <a:blip r:embed="rId1"/>
          <a:stretch/>
        </p:blipFill>
        <p:spPr>
          <a:xfrm>
            <a:off x="250920" y="260280"/>
            <a:ext cx="8640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тренируемся 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Определите тип связи в словосочетании красочная картина в предложении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e066"/>
                </a:solidFill>
                <a:latin typeface="Times New Roman"/>
              </a:rPr>
              <a:t>Как радует эта красочная картина!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ff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29"/>
                </a:solidFill>
                <a:latin typeface="Times New Roman"/>
              </a:rPr>
              <a:t>согласование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ff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тренируемся 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1424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8d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8d8d8"/>
                </a:solidFill>
                <a:latin typeface="Times New Roman"/>
              </a:rPr>
              <a:t>Определите тип связи в словосочетании </a:t>
            </a:r>
            <a:r>
              <a:rPr b="1" lang="ru-RU" sz="3200" spc="-1" strike="noStrike">
                <a:solidFill>
                  <a:srgbClr val="d8d8d8"/>
                </a:solidFill>
                <a:latin typeface="Times New Roman"/>
              </a:rPr>
              <a:t>дружить с тобой   </a:t>
            </a:r>
            <a:r>
              <a:rPr b="0" lang="ru-RU" sz="3200" spc="-1" strike="noStrike">
                <a:solidFill>
                  <a:srgbClr val="d8d8d8"/>
                </a:solidFill>
                <a:latin typeface="Times New Roman"/>
              </a:rPr>
              <a:t>из предложения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8d8d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8d8d8"/>
                </a:solidFill>
                <a:latin typeface="Times New Roman"/>
              </a:rPr>
              <a:t>Я тоже хочу дружить с тобой</a:t>
            </a:r>
            <a:r>
              <a:rPr b="0" lang="ru-RU" sz="36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29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ff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0:26:34Z</dcterms:created>
  <dc:creator>Admin</dc:creator>
  <dc:description/>
  <dc:language>en-US</dc:language>
  <cp:lastModifiedBy>user</cp:lastModifiedBy>
  <dcterms:modified xsi:type="dcterms:W3CDTF">2020-04-28T13:07:01Z</dcterms:modified>
  <cp:revision>42</cp:revision>
  <dc:subject/>
  <dc:title>Слайд 1</dc:title>
</cp:coreProperties>
</file>