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97E-2580-44C7-83BD-F6FC1C86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5D8-051E-4108-99BC-97FE2720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2A9-71BF-4173-A4CA-79A4204E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064-B275-4540-8C67-B31CDE70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27AE-8AB9-43E4-940C-84B4056E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D202-F61E-473A-B29F-7EB661AC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6657-B0AE-4472-8F19-18776BD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250B-96E8-461A-A10C-27A8FF55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121-1D20-44B8-87BE-B7602BA1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0142-69B9-4A14-982D-6DA709F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FA94-48A4-434C-B320-BD8797D9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C93-45C1-46B8-9EB2-27E1AAE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2834-7E08-4F9C-BCBF-FEC93A5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091A-3241-4597-8A30-07C10E3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1C9-56CE-4458-A82A-1D5CB71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5C9-02C7-4005-A8E7-70963683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180-73FE-4FD1-B6D8-C3DA4CA6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46E-20A1-4659-A9C4-1C2AE3F6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3BC-05B7-4528-82F1-2308C16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8B8-E1D5-4AF3-94BB-62C4AFDA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12B-80B9-4136-87EA-5E6CCF3F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AC0-61D2-4BB8-A967-49ABB88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F04-10A8-4BF9-A4B0-B8FFCED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574-0180-44D5-92E3-6EA4AF4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D463-6DAF-4D67-8825-ADDA1BDFD7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5AA4-2572-4941-B1EB-C236084C69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Garamond"/>
              </a:rPr>
              <a:t>Докажите, что 24 делится на 6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4: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4=6*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4=12+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рно ли это предположение при любом целом положительном n?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положим, что формула  верна для n=k, где k-натуральное число , то е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+3+5+7+…+(2k-1)=k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жем ее справедливость и для числа, непосредственно следующего за k, для числа n=k+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1+3+5+7+…+(2k-1)+(2k+1)=(k+1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1+3+5+7+…+(2k-1) на k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+(2k+1)= k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+(2k+1)= (k+1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Принцип математической индукции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144396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праведливо для всякого натуральн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о справедливо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 или для наименьшего из натуральных чисел при котором закономерность имее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справедливости утверждения, для какого либо произвольного натураль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едует его справедливость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Алгоритм доказательства методом математической индукции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95280" y="16002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ют справедливость гипотезы для наименьшего из натуральных чисел при котором гипотеза имеет смысл (базис инду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в предположение, что гипотеза верна для некотор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тремятся доказать справедливость ее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 (индукционный ша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акое доказательство удалось довести до конца, то, на основе принципа математической индукции можно утверждать, что высказанная  гипотеза справедлива для любого натура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5167800">
            <a:off x="8313480" y="5734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5267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ь, что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050920" y="2635200"/>
                <a:ext cx="4321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AutoShape 6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ельство делимости и кра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ельство равенств и тожд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с последователь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ждение суммы и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 rot="5167800">
            <a:off x="8314560" y="5584680"/>
            <a:ext cx="297000" cy="287640"/>
          </a:xfrm>
          <a:custGeom>
            <a:avLst/>
            <a:gdLst>
              <a:gd name="textAreaLeft" fmla="*/ 43200 w 297000"/>
              <a:gd name="textAreaRight" fmla="*/ 253800 w 2970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етод математической индукции применяется в разных типах зада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99169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19640" y="69192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онимание и умение правильно применять принцип математической индукции, является хорошим критерием логической зрелости, которая совершенно необходима математи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Н. Колмог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N9618"/>
          <p:cNvPicPr/>
          <p:nvPr/>
        </p:nvPicPr>
        <p:blipFill>
          <a:blip r:embed="rId1"/>
          <a:stretch/>
        </p:blipFill>
        <p:spPr>
          <a:xfrm>
            <a:off x="468360" y="620640"/>
            <a:ext cx="2813040" cy="37497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Задача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5267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ь, что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2050920" y="2635200"/>
                <a:ext cx="4321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AutoShape 6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82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МЕТОД МАТЕМАТИЧЕСКОЙ ИНДУКЦИИ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03360" y="1301760"/>
            <a:ext cx="27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33"/>
                </a:solidFill>
                <a:latin typeface="Arial"/>
              </a:rPr>
              <a:t>Тема урока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396252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от частных утверждений к общим называют инду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латинского слова inductio – наведе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DSCN9592"/>
          <p:cNvPicPr/>
          <p:nvPr/>
        </p:nvPicPr>
        <p:blipFill>
          <a:blip r:embed="rId1"/>
          <a:stretch/>
        </p:blipFill>
        <p:spPr>
          <a:xfrm>
            <a:off x="738360" y="1268280"/>
            <a:ext cx="2970000" cy="396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5003640" y="4875120"/>
                <a:ext cx="1944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" name="Group 26"/>
          <p:cNvGrpSpPr/>
          <p:nvPr/>
        </p:nvGrpSpPr>
        <p:grpSpPr>
          <a:xfrm>
            <a:off x="4500720" y="907920"/>
            <a:ext cx="3600000" cy="2736720"/>
            <a:chOff x="4500720" y="907920"/>
            <a:chExt cx="3600000" cy="2736720"/>
          </a:xfrm>
        </p:grpSpPr>
        <mc:AlternateContent>
          <mc:Choice xmlns:a14="http://schemas.microsoft.com/office/drawing/2010/main" Requires="a14">
            <p:sp>
              <p:nvSpPr>
                <p:cNvPr id="99" name="Object 11"/>
                <p:cNvSpPr txBox="1"/>
                <p:nvPr/>
              </p:nvSpPr>
              <p:spPr>
                <a:xfrm>
                  <a:off x="4500720" y="907920"/>
                  <a:ext cx="2259720" cy="64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10"/>
                <p:cNvSpPr txBox="1"/>
                <p:nvPr/>
              </p:nvSpPr>
              <p:spPr>
                <a:xfrm>
                  <a:off x="4500720" y="1389240"/>
                  <a:ext cx="2302200" cy="65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1" name="Object 9"/>
            <p:cNvGraphicFramePr/>
            <p:nvPr/>
          </p:nvGraphicFramePr>
          <p:xfrm>
            <a:off x="4500720" y="1872000"/>
            <a:ext cx="2764080" cy="69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00720" y="1872000"/>
                      <a:ext cx="2764080" cy="6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3" name="Object 8"/>
                <p:cNvSpPr txBox="1"/>
                <p:nvPr/>
              </p:nvSpPr>
              <p:spPr>
                <a:xfrm>
                  <a:off x="4583880" y="2423520"/>
                  <a:ext cx="276372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7"/>
                <p:cNvSpPr txBox="1"/>
                <p:nvPr/>
              </p:nvSpPr>
              <p:spPr>
                <a:xfrm>
                  <a:off x="4583880" y="2973240"/>
                  <a:ext cx="3516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553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Rectangle 14"/>
            <p:cNvSpPr/>
            <p:nvPr/>
          </p:nvSpPr>
          <p:spPr>
            <a:xfrm>
              <a:off x="5564520" y="26913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5"/>
          <p:cNvSpPr/>
          <p:nvPr/>
        </p:nvSpPr>
        <p:spPr>
          <a:xfrm>
            <a:off x="1713600" y="3312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684360" y="33336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ый математ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П.Ферма проверив, чт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3708360" y="3573360"/>
            <a:ext cx="53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, сделал по индукции предположение, что для все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,3,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а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SCN9596"/>
          <p:cNvPicPr/>
          <p:nvPr/>
        </p:nvPicPr>
        <p:blipFill>
          <a:blip r:embed="rId1"/>
          <a:stretch/>
        </p:blipFill>
        <p:spPr>
          <a:xfrm>
            <a:off x="2066760" y="2271600"/>
            <a:ext cx="2865600" cy="382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826920" y="1312920"/>
                <a:ext cx="77058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9496729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7004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9"/>
          <p:cNvSpPr/>
          <p:nvPr/>
        </p:nvSpPr>
        <p:spPr>
          <a:xfrm>
            <a:off x="539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е Л.Эйлер нашел, что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434200" y="213372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рия возникновения мето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еред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 в математике накопилось немало ошибочных выводов в силу того, что многие математики верили в непогрешимость индукции. Требовалось научное обоснование метода, который позволял бы делать общие выводы на основании рассмотрения нескольких  частных случаев. И такой метод был разработан. Основная заслуга в этом принадлежит францу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м математикам Паскалю и Декарту, а также швейцарскому математику Бернулли, хотя  отдельные случаи применения встречаются и у Евкл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21044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1529280"/>
            <a:ext cx="792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нами последовательность нечетных чисел натурального ря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3,5,7,9,11,1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равна сум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вых членов этой последователь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5167800">
            <a:off x="8315640" y="5585400"/>
            <a:ext cx="295200" cy="287640"/>
          </a:xfrm>
          <a:custGeom>
            <a:avLst/>
            <a:gdLst>
              <a:gd name="textAreaLeft" fmla="*/ 43200 w 295200"/>
              <a:gd name="textAreaRight" fmla="*/ 252000 w 2952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1,3,5,7,9,11,13…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+3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+3+5=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+3+5+7=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+3+5+7+9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4=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9=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6=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5=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0" lang="ru-RU" sz="5400" spc="-1" strike="noStrike" baseline="-25000">
                <a:solidFill>
                  <a:srgbClr val="006633"/>
                </a:solidFill>
                <a:latin typeface="Garamond"/>
              </a:rPr>
              <a:t>n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=1+3+5+7+…+(2n-1)=n</a:t>
            </a:r>
            <a:r>
              <a:rPr b="0" lang="ru-RU" sz="5400" spc="-1" strike="noStrike" baseline="30000">
                <a:solidFill>
                  <a:srgbClr val="006633"/>
                </a:solidFill>
                <a:latin typeface="Garamond"/>
              </a:rPr>
              <a:t>2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4=2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9=3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16=4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25=5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ли это предположение при любом целом положительном n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2:42:58Z</dcterms:created>
  <dc:creator>Fire</dc:creator>
  <dc:description/>
  <dc:language>en-US</dc:language>
  <cp:lastModifiedBy>Антонина</cp:lastModifiedBy>
  <dcterms:modified xsi:type="dcterms:W3CDTF">2020-05-24T14:31:51Z</dcterms:modified>
  <cp:revision>30</cp:revision>
  <dc:subject/>
  <dc:title>Тема урока: Метод математической индукции</dc:title>
</cp:coreProperties>
</file>