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4CC-A7C2-4D1F-8EA1-025E2E4C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D72B-E779-4DED-ACAC-1EAA50CA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7CE-408A-43FE-A28A-9B708954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26E-B088-44F8-8429-C9B49DE4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B0A6-E0D0-4EF5-B88A-B1B3747D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EFE4-0C27-4EB0-A848-76348823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ACF8-A121-4F1B-B2F5-A0246258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877F-E966-42CF-9CE9-B42A4C0F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B443-C8D2-472C-AC5C-FDCA37F4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8143-E841-4262-A7F1-ADC09C41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0D06-5614-4DF9-A7E1-5B2F36A8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F59-B804-4A36-B4A0-AB1A2C01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CCE3-8192-4B81-9823-B5DB35FC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60CB-3080-4102-8FD6-2DB5A2B3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131F-1EF3-4E62-A18E-1BCF1A6C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9FEC-5F2B-4495-BFA8-3836E863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2BDB-DE33-418C-B00F-022814A3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510-DFC9-433E-BA06-FD3EF51F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314-70D3-4CC4-AC32-A3F4DE67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95B-9DD9-4867-A9C0-9201CA12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3CB-DBA0-4EB6-9B84-4EE0BFA6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A62-CDAD-41D1-835B-84F112D7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405-F281-470F-875F-896E8B8A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C75-C05E-4E61-B301-2E9C661F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4183-8AAD-4E5E-81C4-B50CECBC977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6455-35D4-48BF-8FEA-CD0606284E7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17880" cy="1219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39592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ился 28 ноября 1919 г. в семье коми крестьянина. Окончил Коми педагогический институт, работал учителем. Николай Габов -  уроженец г. Сыктывкара, удостоенный высокого звания Героя Советского Сою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армию был призван еще в мирные дни в 1941 г. Воевал на Северо-Западном, Центральном, Первом и Втором Украинских фронтах, участвовал в битве на Курской дуге. В числе первых форсировал Днепр. Будучи разведчиком гвардейского артполка 4-й гвардейской  воздушно-десантной дивизии, обнаруживал и засекал огневые точки и живую силу противн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Объект 4" descr=""/>
          <p:cNvPicPr/>
          <p:nvPr/>
        </p:nvPicPr>
        <p:blipFill>
          <a:blip r:embed="rId2"/>
          <a:stretch/>
        </p:blipFill>
        <p:spPr>
          <a:xfrm>
            <a:off x="4716360" y="703440"/>
            <a:ext cx="3810240" cy="5533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6840" y="412920"/>
            <a:ext cx="4218120" cy="57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ядовой Николай Габов первым форсировал реку Днестр и отважно действовал  в боях за удержание плацдарма. С группой разведчиков вступил в бой с противником в деревне Лоточинцы, где лично уничтожил 12 фашистов. В марте 1944 года, в первом бою на Днестровском плацдарме он изумил своей дерзостью бывалых воин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7 марта 1944 года у деревни Бабино группа разведчиков неожиданно столкнуласьс батальоном противника. Фашисты открыли  сильный огонь. Николай Габов, уничтожив вражеский расчет, захватил лишь ручной пулемет, вступил в неравный бой. 36 убитых, 35 раненных и 6 пленных – таков был итог этого боя. Как гласит легенда,  после этого боя немецкие офицеры наставляли своих бойцов драться также, как русский Иван, имея ввиду Николая Габо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Объект 4" descr=""/>
          <p:cNvPicPr/>
          <p:nvPr/>
        </p:nvPicPr>
        <p:blipFill>
          <a:blip r:embed="rId1"/>
          <a:stretch/>
        </p:blipFill>
        <p:spPr>
          <a:xfrm>
            <a:off x="4643280" y="642960"/>
            <a:ext cx="4183200" cy="5450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74200"/>
            <a:ext cx="34956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3 сентября 1944 года Габову  присвоено звание Героя Советского Союза с вручением ордена  Ленина и медали «Золотая Звезда». Награжден орденом Красной Звезды, медалям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1945 году Габов  окончил артиллерийское военное училище и продолжал службу на командных и политических должностях. С 1961 года майор в отставке Габов  проживал в Новочеркасске, был помощником директора в ремесленном училище № 8. С 1964 года работал в НИМИ. Окончил заочно Шахтинский институт, работал преподавателем инженерно-мелиоративного институ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абов Николай Николаевич умер 15 марта 1982 года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мя Героя Советского Союза носит площадь в Сыктывкар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Объект 4" descr=""/>
          <p:cNvPicPr/>
          <p:nvPr/>
        </p:nvPicPr>
        <p:blipFill>
          <a:blip r:embed="rId1"/>
          <a:stretch/>
        </p:blipFill>
        <p:spPr>
          <a:xfrm>
            <a:off x="4025880" y="1660680"/>
            <a:ext cx="4865760" cy="3243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7T20:23:21Z</dcterms:created>
  <dc:creator>acer</dc:creator>
  <dc:description/>
  <dc:language>en-US</dc:language>
  <cp:lastModifiedBy>MiNotebook</cp:lastModifiedBy>
  <dcterms:modified xsi:type="dcterms:W3CDTF">2020-01-28T19:46:20Z</dcterms:modified>
  <cp:revision>5</cp:revision>
  <dc:subject/>
  <dc:title>Презентация PowerPoint</dc:title>
</cp:coreProperties>
</file>