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0E108-43D2-4467-903D-B9739027364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58E97-EEAF-42B2-AB69-FE04BEC7FA3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A2BE-2D5C-4299-9C39-2C84C0663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4347-FAAD-4D22-877F-7D3B4F422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C3E7-C4A3-4D5B-AB0B-F279E91B5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7C5C-2FB8-41A1-8303-4894B04E9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C075-79FF-4367-B8AA-287FDF78F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7367-403F-4D3E-8166-737FF63BC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042B-5D02-4BE2-BBFA-F886F9F0C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016E-8958-4EDF-988D-492DAA886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0D6F-95F8-44FF-AC37-BE1B64638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D4E8-6D4A-4E41-AF3B-3068FAC7D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30FA-A247-428C-9EEE-742F6CFA4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13E8-5A50-4A6D-ADED-0DF26C53E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9572F-5D82-495F-80A7-36337A81540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отивация к учеб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Педагог-психолог МБОУ СШ №3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Мочалова Г.А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4" descr="%D0%AF%D0%B1%D0%BB%D0%BE%D0%BA%D0%BE_2_cr"/>
          <p:cNvPicPr/>
          <p:nvPr/>
        </p:nvPicPr>
        <p:blipFill>
          <a:blip r:embed="rId1"/>
          <a:stretch/>
        </p:blipFill>
        <p:spPr>
          <a:xfrm>
            <a:off x="1692360" y="333360"/>
            <a:ext cx="550044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http://cdn.allfun.md/2015/09/08/09/55ee7d50339cc.jpg"/>
          <p:cNvPicPr/>
          <p:nvPr/>
        </p:nvPicPr>
        <p:blipFill>
          <a:blip r:embed="rId1"/>
          <a:stretch/>
        </p:blipFill>
        <p:spPr>
          <a:xfrm>
            <a:off x="500040" y="428760"/>
            <a:ext cx="8143920" cy="58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1е класс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457200" y="1600200"/>
          <a:ext cx="8229600" cy="28656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отивация к учени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 целом по параллели ( кол-во детей в % от общей численност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.ч. Сформирована мотив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8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чебно-познавате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нешне-учеб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гров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 сформирована мртив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5е класс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500040" y="1143000"/>
          <a:ext cx="8229600" cy="48466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Уровни мотив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ол-во детей в % от общей числен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еобладающие мотив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сок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знавательные мотивы (учебная активность, стремление получить хороший результат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ред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циальные, познавательные мотив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нижен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ложительное отношение к школе, больше ориентация на внешне учебную деятель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изк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гровые, внешкольные мотивы, косвенная связь со школо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10 клас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Содержимое 3" descr=""/>
          <p:cNvPicPr/>
          <p:nvPr/>
        </p:nvPicPr>
        <p:blipFill>
          <a:blip r:embed="rId1"/>
          <a:stretch/>
        </p:blipFill>
        <p:spPr>
          <a:xfrm>
            <a:off x="406440" y="1092240"/>
            <a:ext cx="833112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чины снижения мотивации уч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785880"/>
            <a:ext cx="403848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Зависящие от учителя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правильный отбор учебного материала, вызывающий перегрузку учащихс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владение современными методами обучения и их оптимальным сочетание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умение строить отношения с учащимися и организовывать взаимодействие школьников друг с друго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собенности личности учител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пора учителя на отрицательную мотивацию (обещание наказания, «двойки» и т.п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648320" y="785880"/>
            <a:ext cx="403848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Зависящие от учени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изкий уровень знан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сформированность учебной деятельности (прежде всего, приемов самостоятельного приобретения знаний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сложившиеся отношения с классо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единичных случаях – задержки развит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не интересно учиться, если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http://c-in.ru/uploads/p/2016-02-19/21_primer_vernoj_motivacii_4.jpg"/>
          <p:cNvPicPr/>
          <p:nvPr/>
        </p:nvPicPr>
        <p:blipFill>
          <a:blip r:embed="rId1"/>
          <a:stretch/>
        </p:blipFill>
        <p:spPr>
          <a:xfrm>
            <a:off x="1392120" y="1357200"/>
            <a:ext cx="6359760" cy="47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ложительные стимул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457200" y="714240"/>
          <a:ext cx="8229600" cy="53690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2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 класс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0 класс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 1 мест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 1 мест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6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Получаю хорошую отметк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ещают поставить «5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гда учитель хвали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Когда учитель мне доверя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Получаю хорошую отметк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гда решаем всем классом проблем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4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 2 мест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 2 мест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16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очу быть в числе лучши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Когда учитель мне доверя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 моих успехах говорили на род.собран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Учитель организует учебные игр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учая, используем примеры из жизн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читель обращает внимание, что эти знания пригодятся в будущей професс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 3 мест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 3 мест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Учитель не забывает пошутить на урок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гда мы соревнуемс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равнивают мои успехи с моими прежними результата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Учитель не забывает пошутить на урок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Задают разумное количество домашних зада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 4 месте – решаем задачи на смекалку, сообразительность; </a:t>
                      </a: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задают разумное количество домашних зада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 4 месте – проводятся практические работы; </a:t>
                      </a: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учитель организует учебные игр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всем не стимулирует или очень мало стимулируе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457200" y="1000080"/>
          <a:ext cx="8229600" cy="40305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 клас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0 клас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 1 мест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 1 мест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5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b05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Когда записывают замечание в дневни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b05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Учитель говорит при всем классе, что я плохо учус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b05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Обещают наказа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b05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Учитель говорит при всем классе, что я плохо учус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b05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Когда записывают замечание в дневни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b05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Обещают наказа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че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че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b05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Ребята из класса анализируют мой отв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гда решаем всем классом проблем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гда мы соревнуемс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цениваем друг друг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b05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Ребята из класса анализируют мой отв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ботаем по заданиям с усложнение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27T18:46:03Z</dcterms:created>
  <dc:creator>Галина</dc:creator>
  <dc:description/>
  <dc:language>en-US</dc:language>
  <cp:lastModifiedBy>User</cp:lastModifiedBy>
  <dcterms:modified xsi:type="dcterms:W3CDTF">2020-05-25T07:36:29Z</dcterms:modified>
  <cp:revision>20</cp:revision>
  <dc:subject/>
  <dc:title>Мотивация к учебе</dc:title>
</cp:coreProperties>
</file>