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D7F-672A-423F-8755-8F1CA86F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92E-FBDD-4628-AB11-2670C907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758-63E4-4783-BCF2-1A620F81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BB0-D919-4BFC-B2A0-19864DD3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0CC0-FD95-4319-A989-3B774D05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3DB9-11CA-4BA1-9235-9B2EE765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1E2D-BE12-45BE-8C8C-3EA7A9BE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6DF3-6AE0-4241-A40F-B4CD334D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6C30-CECF-4139-9023-C153E469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88C7-306E-45AD-B6F7-3DFC056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D706-E9F6-4F05-B30B-EDBC1945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7AD-F26E-40F6-A3EF-3F15198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E6EB-10FD-4376-ACCD-EB01C2C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3576-6322-46E7-96E0-27A79903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2D43-7883-4088-8C34-2D1978EF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DAED-54E3-4367-B6BF-80697B9A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CB74-8B8B-4B77-8795-08959A96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4622-E737-447D-90AB-64CD3A18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E54D-22FD-41E8-9D8C-61816E4E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145D-B045-40BF-996A-3119B9C9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5B30-86A4-45A6-AE26-2AE706B0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D67F-9583-4C89-A47F-35300108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ACD-D95E-4A89-8420-C467C621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D981-7631-4766-A2C2-9A1A9F9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7B17-53BB-4DAD-BD65-AAB53B4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8317-23B5-42E4-87C8-76DACCA8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0E0E-218C-4EA8-A2FD-93315071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1BF1-4A63-43D4-BA07-6117EBD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3ADB-9CD6-43C8-919F-7BC7A520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A439-5392-48F3-A6F0-7F9A9174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CACE-7AC4-4983-A11B-FDB71676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6EFF-BF69-4727-985B-3CAB718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5C85-E6D2-4A12-9D6C-CD76ED2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E79-932F-4BE0-8AD9-6B82B6C1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461E-A55D-47B1-BA6A-24B823E6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E7F9-CAD1-416E-88F0-9DAA0E45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AEE7-3DB9-413D-95BD-6C90BDA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C4D1-5FB9-43FE-80CA-8A59A86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5ED0-36C4-4EF0-98EC-4F8D7A7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0BE9-1FA8-4C0D-B330-1AC0711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7DCC-0984-4174-852E-7CB1062E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F128-00F8-45F3-880E-3F82F0D1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F9FD-FC3B-4DEE-AB97-4FA0B7FD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77A-CB3C-4317-BEC7-BE6583D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738-9D87-4FE0-A846-DB0666EA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91F-8A7B-43D6-885E-D19FF36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B3E-C9A8-4A1B-8D24-6DEBC9F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C03-8FE1-40C9-8CE4-85C0185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077-CE7D-4529-B2CD-007AE11CC0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72D4-6856-4A25-8204-4E41B317C64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1056-728A-464D-8999-590D193E523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1E0E-E9B7-44B6-916C-20DC9BB3B1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2"/>
          <a:stretch/>
        </p:blipFill>
        <p:spPr>
          <a:xfrm>
            <a:off x="444600" y="1365120"/>
            <a:ext cx="848664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13880" y="4723920"/>
            <a:ext cx="7386840" cy="2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ларн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нет - бывает нескольких размеров, в зависимости от требуемой высоты звучания. Кларнет использует только один язычок (трость), а не двойной как у флейты или фагота. Кларнет обладает широким диапазоном, тёплым, мягким тембром и предоставляет исполнителю широкие выразительные возможности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те себя: Карл у Клары украл кораллы, а Клара у Карла украла кларнет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4" descr=""/>
          <p:cNvPicPr/>
          <p:nvPr/>
        </p:nvPicPr>
        <p:blipFill>
          <a:blip r:embed="rId2"/>
          <a:stretch/>
        </p:blipFill>
        <p:spPr>
          <a:xfrm>
            <a:off x="5286240" y="2000160"/>
            <a:ext cx="2786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аго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гот - самый низкий по звучанию из деревянных духовых инструментов, используется как для басовой линии, так в качестве альтернативного инструмента мелодии. В оркестре обычно три-четыре фагота. Играть на фаготе в силу его размеров тяжелее, чем на остальных инструментах этого семейства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Содержимое 4" descr=""/>
          <p:cNvPicPr/>
          <p:nvPr/>
        </p:nvPicPr>
        <p:blipFill>
          <a:blip r:embed="rId2"/>
          <a:stretch/>
        </p:blipFill>
        <p:spPr>
          <a:xfrm>
            <a:off x="5214960" y="1785960"/>
            <a:ext cx="2214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4" descr=""/>
          <p:cNvPicPr/>
          <p:nvPr/>
        </p:nvPicPr>
        <p:blipFill>
          <a:blip r:embed="rId2"/>
          <a:stretch/>
        </p:blipFill>
        <p:spPr>
          <a:xfrm>
            <a:off x="523800" y="-92160"/>
            <a:ext cx="7785000" cy="2779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Самая громкая группа инструментов симфонического оркестра, принцип извлечения звуков такой же, как и у деревянных духовых инструментов - "нажимай да дуй". Каждый инструмент играет свою сольную линию - материала очень много. В разные эпохи своей истории симфонический оркестр менял группы инструментов в своём составе, некоторый спад интереса к духовым инструментам произошел в эпоху романтизма, в 20 веке открылись новые исполнительские возможности медных инструментов и значительно расширился их репертуар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лтор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торна (рожок) -  изначально произошла от охотничьего рожка, валторна может быть мягкой и выразительной или резкой и скрипучей. Обычно в оркестре используется от 2 до 8 валторн в зависимости от произведени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Содержимое 6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2786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руб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а - инструмент с высоким чистым звуком, очень подходит для фанфар. Как и кларнет, труба может быть разных размеров, каждая со своим тембром. Отличаясь большой технической подвижностью, труба блестяще выполняет свою роль в оркестре, на ней возможно исполнение широких, яркого тембра и большой протяжённости мелодических фраз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Содержимое 7" descr=""/>
          <p:cNvPicPr/>
          <p:nvPr/>
        </p:nvPicPr>
        <p:blipFill>
          <a:blip r:embed="rId2"/>
          <a:stretch/>
        </p:blipFill>
        <p:spPr>
          <a:xfrm>
            <a:off x="5143680" y="2143080"/>
            <a:ext cx="207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ромбо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н - исполняет больше басовую линию, чем мелодическую. От других медных духовых инструментов отличается наличием особой передвижной U-образной трубки - кулисы, двигая которую вперед и назад музыкант изменяет звучание инструмен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Содержимое 7" descr=""/>
          <p:cNvPicPr/>
          <p:nvPr/>
        </p:nvPicPr>
        <p:blipFill>
          <a:blip r:embed="rId2"/>
          <a:stretch/>
        </p:blipFill>
        <p:spPr>
          <a:xfrm>
            <a:off x="4786200" y="1785960"/>
            <a:ext cx="30164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4" descr=""/>
          <p:cNvPicPr/>
          <p:nvPr/>
        </p:nvPicPr>
        <p:blipFill>
          <a:blip r:embed="rId2"/>
          <a:stretch/>
        </p:blipFill>
        <p:spPr>
          <a:xfrm>
            <a:off x="523800" y="1085760"/>
            <a:ext cx="7785000" cy="1657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65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ревнейшие  и самые многочисленные среди групп музыкальных инструментов.  Часто ударные ласково называют "кухней" оркестра, а исполнителей называют "мастером на все руки". С ударными инструментами музыканты обходятся довольно "жестко": бьют их палками, ударяют друг о друга, трясут - и все это для того, чтобы задать ритм оркестра, а также придать колорит и своеобразие музыке. Иногда к ударным добавляют автомобильный клаксон или устройство, имитирующее шум ветра (эолифон). Рассмотрим только два ударных инструмента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итавр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авры - полусферический металлический корпус, обтянутый кожаной мембраной, литавры могут звучать очень громко или, наоборот, мягко, как далёкий раскат грома, для извлечения разных звуков используются палочки с головками из разных материалов: дерево, войлок, кожа. В оркестре обычно от двух до пяти литавр, очень интересно наблюдать за игрой на литаврах.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Содержимое 4" descr=""/>
          <p:cNvPicPr/>
          <p:nvPr/>
        </p:nvPicPr>
        <p:blipFill>
          <a:blip r:embed="rId2"/>
          <a:stretch/>
        </p:blipFill>
        <p:spPr>
          <a:xfrm>
            <a:off x="4357800" y="2214720"/>
            <a:ext cx="4071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рел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елки (парные) - выпуклые круглые металлические диски разного размера и с неопределенной высотой звучания. Как подмечено, симфония может длиться девяносто минут, а ударить в тарелки придётся только один раз, представляете какая ответственность за точный результа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Содержимое 4" descr=""/>
          <p:cNvPicPr/>
          <p:nvPr/>
        </p:nvPicPr>
        <p:blipFill>
          <a:blip r:embed="rId2"/>
          <a:stretch/>
        </p:blipFill>
        <p:spPr>
          <a:xfrm>
            <a:off x="4643280" y="2428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2"/>
          <a:stretch/>
        </p:blipFill>
        <p:spPr>
          <a:xfrm>
            <a:off x="523800" y="1311120"/>
            <a:ext cx="7785000" cy="1432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29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имфони́ческий орке́стр — большой коллектив музыкантов, исполняющих симфонические музыкальные произведения. Симфонический оркестр включает три группы инструментов: струнные, духовые и ударные. Большой симфонический оркестр может содержать четыре группы инструментов: струнные, духовые, ударные и одиночны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крипка-королева оркест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пка - 4-хструнный смычковый инструмент, самый высокий по звучанию в своём семействе и важнейший в оркестре. Скрипка обладает таким сочетанием красоты и выразительности звука, как, пожалуй, ни один другой инструмент. А вот скрипачи зачастую имеют репутацию нервных и скандальных люд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Содержимое 6" descr=""/>
          <p:cNvPicPr/>
          <p:nvPr/>
        </p:nvPicPr>
        <p:blipFill>
          <a:blip r:embed="rId2"/>
          <a:stretch/>
        </p:blipFill>
        <p:spPr>
          <a:xfrm>
            <a:off x="4643280" y="2000160"/>
            <a:ext cx="2643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ль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 - по внешнему виду копия скрипки, только чуть больших размеров, отчего звучит в более низком регистре и играть на нем немного сложнее, чем на скрипке. По сложившейся традиции альту отводится вспомогательная роль в оркестре. Альтисты зачастую являются мишенью для шуток и анекдотов в музыкальной сред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в семье три сына - два умных, а третий - альтист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S. Некоторые считают, что альт это улучшенный вариант скрипк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Содержимое 4" descr=""/>
          <p:cNvPicPr/>
          <p:nvPr/>
        </p:nvPicPr>
        <p:blipFill>
          <a:blip r:embed="rId2"/>
          <a:stretch/>
        </p:blipFill>
        <p:spPr>
          <a:xfrm>
            <a:off x="5072040" y="192888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олончел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960" y="164304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олончель - большая скрипка, на которой играют сидя, удерживая инструмент между коленями и упирая его шпилем в пол. Виолончель имеет богатый низкий звук, широкие выразительные способности и детально проработанную технику исполнения. Исполнительские качества виолончели покорили сердца огромного числа поклонников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Содержимое 4" descr=""/>
          <p:cNvPicPr/>
          <p:nvPr/>
        </p:nvPicPr>
        <p:blipFill>
          <a:blip r:embed="rId2"/>
          <a:stretch/>
        </p:blipFill>
        <p:spPr>
          <a:xfrm>
            <a:off x="4786200" y="1071720"/>
            <a:ext cx="2286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трабас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бас - самый низкий по звучанию и самый большой по размеру (до 2-х метров) среди семейства смычковых струнных инструментов. Контрабасисты должны стоять или сидеть на высоком стуле, чтобы дотянуться до верха инструмента. Контрабас обладает густым, хриплым и несколько глуховатым тембром и является басовым фундаментом всего оркестра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Содержимое 6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2214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4" descr=""/>
          <p:cNvPicPr/>
          <p:nvPr/>
        </p:nvPicPr>
        <p:blipFill>
          <a:blip r:embed="rId2"/>
          <a:stretch/>
        </p:blipFill>
        <p:spPr>
          <a:xfrm>
            <a:off x="523800" y="291960"/>
            <a:ext cx="7785000" cy="2395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65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Большая семья различных инструментов, не обязательно сделанных из дерева. Звук порождается вибрацией воздуха, проходящего по инструменту. Нажатие клавиш укорачивает/удлиняет воздушный столб и меняется высота звука. Каждый инструмент обычно имеет свою сольную линию, хотя исполнять её могут и несколько музыкант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лей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йта - современные флейты очень редко бывают из дерева, чаще из металла (в т.ч. драгоценных металлов), иногда из пластика и стекла. Флейту держат горизонтально. Флейта - один из самых высоких по звучанию инструментов в оркестре. Самый виртуозный и технически подвижный инструмент в семействе духовых, благодаря этим её достоинствам ей часто поручается оркестровое соло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Содержимое 4" descr=""/>
          <p:cNvPicPr/>
          <p:nvPr/>
        </p:nvPicPr>
        <p:blipFill>
          <a:blip r:embed="rId2"/>
          <a:stretch/>
        </p:blipFill>
        <p:spPr>
          <a:xfrm>
            <a:off x="5429160" y="1857240"/>
            <a:ext cx="2357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бой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бой -  мелодичный инструмент с диапазоном ниже, чем у флейты. По форме немного конический, гобой обладает певучим, однако несколько гнусавым тембром, а в верхнем регистре даже резким. Он в основном используется как оркестровый сольный инструмент. Поскольку во время игры гобоисты должны перекашивать своё лицо, их иногда воспринимают как ненормальных людей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4" descr=""/>
          <p:cNvPicPr/>
          <p:nvPr/>
        </p:nvPicPr>
        <p:blipFill>
          <a:blip r:embed="rId2"/>
          <a:stretch/>
        </p:blipFill>
        <p:spPr>
          <a:xfrm>
            <a:off x="4857840" y="221472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нур</cp:lastModifiedBy>
  <dcterms:modified xsi:type="dcterms:W3CDTF">2012-12-02T14:45:14Z</dcterms:modified>
  <cp:revision>6</cp:revision>
  <dc:subject/>
  <dc:title>Инструменты симфонического оркестра</dc:title>
</cp:coreProperties>
</file>