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2D7-539B-4DDA-97C4-ED4E5BB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48E-17FC-4F66-AAC6-FD19E046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D5A-F262-4C02-B266-8C67D309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ED2-4590-401F-805E-22EDD9B6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B0C-F6AF-4CFC-8F4F-292EB606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3F1E-60DB-4927-9B84-11E6EF1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5018-37AF-447E-9887-9CF16A3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3C5-237F-40AC-863A-6A2C606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52DE-B417-4869-91D9-AF41C2F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0FF-9A1F-484C-B3F8-17706E8B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AC49-7447-4BD5-9177-69CBCE3B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9E5-2A4E-4E83-BC40-CCA00088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BE3-032A-427D-917E-6FD364B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1CA5-E16D-4091-BEE4-77B48D4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8DF3-755C-41B7-88DF-D092471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670B-AD76-4B4C-9B56-BA43B524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9933-31AB-4958-918A-FB8F672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ECC-8F75-4A25-8206-8B1E5075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5E1-A28F-4265-A194-90E705C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E47-85F3-425A-B422-D8AA053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BD9-C938-457C-ADB0-ABAD9FA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21C-DD3D-4ACD-A02E-F4F4005E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43B-563B-41DB-AACF-EDD88DB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D35-2192-4BD0-94EA-8B5AFE8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913-C7E0-480D-B9B8-675A7091D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6FC-2853-4EAD-ADA5-FAC3CDFB70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одходы к организации Н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воспитатель Ядыкина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ово 20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детск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г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ознавательно – исследователь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Восприятие художественной литературы и фольк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онструирование из различ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Изобраз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Двиг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Самообслуживание и элементарный бытово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ные виды занятий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.Классическое зан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2Комплексное (комбинированное  занятие), интегрированно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3.Тематическое занят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4.Итоговое или контрольное заня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5.Экскурс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6.Коллективное творческое дел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7.Занятие труд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8.Занятие игр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9.Занятие творче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0.Занятие – посиделк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1.Занятие сказ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2.Занятие пресс-конференц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3.Занятие десант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4.Занятие комментированного обуч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5.Занятие –путешеств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6.Занятие – открыт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7.Занятие – экспери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8.Занятие – рисунки – сочи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9.Занятие – конкурс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0.Игра школ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и Н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вод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ключитель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ведение в игровую ситуацию или 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тивация: практическая, игровая, познавательная. Она должна быть такой, чем дети после нее хотят этим заним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труднение в игровой ситуации. Поиск вы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Актуализаци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ткрытие детьми новых знаний, способов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ое применение нового на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итель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Итог занятия. Систематизация знаний (подведение итогов Н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Релаксация. Фиксирование элементарных навыков самоконтроля, самооценки. В младших группах на эмоциональном уровне. У старших дошкольников разбор деятельности оценк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к готовятся звери к зи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ведение в игровую ситуацию или организационный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отив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Затруднение в игровой ситуации. Поиск вы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Актуализация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Открытие детьми новых знаний, способов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амостоятельное применение нового на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Актуализация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Открытие детьми новых знаний, способов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амостоятельное применение нового на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!</cp:lastModifiedBy>
  <dcterms:modified xsi:type="dcterms:W3CDTF">2018-09-19T10:04:01Z</dcterms:modified>
  <cp:revision>1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